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2808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90720" y="1599840"/>
            <a:ext cx="73152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990720" y="3908520"/>
            <a:ext cx="73152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4920" y="2808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720" y="1599840"/>
            <a:ext cx="35697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39400" y="1599840"/>
            <a:ext cx="35697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90720" y="3908520"/>
            <a:ext cx="35697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39400" y="3908520"/>
            <a:ext cx="35697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2808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90720" y="1599840"/>
            <a:ext cx="2355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63920" y="1599840"/>
            <a:ext cx="2355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37120" y="1599840"/>
            <a:ext cx="2355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990720" y="3908520"/>
            <a:ext cx="2355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463920" y="3908520"/>
            <a:ext cx="2355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37120" y="3908520"/>
            <a:ext cx="2355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04920" y="2808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990720" y="1599840"/>
            <a:ext cx="73152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04920" y="2808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90720" y="1599840"/>
            <a:ext cx="7315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2808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90720" y="1599840"/>
            <a:ext cx="35697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739400" y="1599840"/>
            <a:ext cx="35697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4920" y="2808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304920" y="304920"/>
            <a:ext cx="8229600" cy="331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2808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90720" y="1599840"/>
            <a:ext cx="35697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39400" y="1599840"/>
            <a:ext cx="35697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990720" y="3908520"/>
            <a:ext cx="35697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04920" y="2808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990720" y="1599840"/>
            <a:ext cx="73152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2808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90720" y="1599840"/>
            <a:ext cx="35697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39400" y="1599840"/>
            <a:ext cx="35697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739400" y="3908520"/>
            <a:ext cx="35697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2808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90720" y="1599840"/>
            <a:ext cx="35697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39400" y="1599840"/>
            <a:ext cx="35697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990720" y="3908520"/>
            <a:ext cx="73152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2808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90720" y="1599840"/>
            <a:ext cx="73152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990720" y="3908520"/>
            <a:ext cx="73152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4920" y="2808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90720" y="1599840"/>
            <a:ext cx="35697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39400" y="1599840"/>
            <a:ext cx="35697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990720" y="3908520"/>
            <a:ext cx="35697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739400" y="3908520"/>
            <a:ext cx="35697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920" y="2808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90720" y="1599840"/>
            <a:ext cx="2355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463920" y="1599840"/>
            <a:ext cx="2355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37120" y="1599840"/>
            <a:ext cx="2355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990720" y="3908520"/>
            <a:ext cx="2355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463920" y="3908520"/>
            <a:ext cx="2355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37120" y="3908520"/>
            <a:ext cx="2355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2808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990720" y="1599840"/>
            <a:ext cx="7315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2808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90720" y="1599840"/>
            <a:ext cx="35697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39400" y="1599840"/>
            <a:ext cx="35697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2808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304920" y="304920"/>
            <a:ext cx="8229600" cy="331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2808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90720" y="1599840"/>
            <a:ext cx="35697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39400" y="1599840"/>
            <a:ext cx="35697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990720" y="3908520"/>
            <a:ext cx="35697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920" y="2808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90720" y="1599840"/>
            <a:ext cx="35697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39400" y="1599840"/>
            <a:ext cx="35697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39400" y="3908520"/>
            <a:ext cx="35697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920" y="2808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90720" y="1599840"/>
            <a:ext cx="35697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39400" y="1599840"/>
            <a:ext cx="35697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990720" y="3908520"/>
            <a:ext cx="73152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2296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Microsoft Sans Serif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90720" y="1599840"/>
            <a:ext cx="7315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Click to edit the outline text format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1" marL="743040" indent="-285840">
              <a:spcBef>
                <a:spcPts val="799"/>
              </a:spcBef>
              <a:buClr>
                <a:srgbClr val="4d4d4d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Second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2" marL="11430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Third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3" marL="16002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Four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4" marL="20574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Fif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5" marL="20574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Six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6" marL="20574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Seven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71240" y="4724280"/>
            <a:ext cx="655308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d4d4d"/>
                </a:solidFill>
                <a:latin typeface="Microsoft Sans Serif"/>
              </a:rPr>
              <a:t>Click to edit the title text format</a:t>
            </a:r>
            <a:endParaRPr b="0" lang="en-US" sz="36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Microsoft Sans Serif"/>
              </a:rPr>
              <a:t>Click to edit the outline text format</a:t>
            </a:r>
            <a:endParaRPr b="0" lang="en-US" sz="2400" spc="-1" strike="noStrike">
              <a:solidFill>
                <a:srgbClr val="4d4d4d"/>
              </a:solidFill>
              <a:latin typeface="Microsoft Sans Serif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Microsoft Sans Serif"/>
              </a:rPr>
              <a:t>Second Outline Level</a:t>
            </a:r>
            <a:endParaRPr b="0" lang="en-US" sz="2800" spc="-1" strike="noStrike">
              <a:solidFill>
                <a:srgbClr val="4d4d4d"/>
              </a:solidFill>
              <a:latin typeface="Microsoft Sans Serif"/>
            </a:endParaRPr>
          </a:p>
          <a:p>
            <a:pPr lvl="2" marL="914400" algn="ctr">
              <a:spcBef>
                <a:spcPts val="601"/>
              </a:spcBef>
              <a:buClr>
                <a:srgbClr val="4d4d4d"/>
              </a:buClr>
              <a:buFont typeface="Microsoft Sans Serif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Microsoft Sans Serif"/>
              </a:rPr>
              <a:t>Third Outline Level</a:t>
            </a:r>
            <a:endParaRPr b="0" lang="en-US" sz="2400" spc="-1" strike="noStrike">
              <a:solidFill>
                <a:srgbClr val="4d4d4d"/>
              </a:solidFill>
              <a:latin typeface="Microsoft Sans Serif"/>
            </a:endParaRPr>
          </a:p>
          <a:p>
            <a:pPr lvl="3" marL="1371600" algn="ctr">
              <a:spcBef>
                <a:spcPts val="499"/>
              </a:spcBef>
              <a:buClr>
                <a:srgbClr val="4d4d4d"/>
              </a:buClr>
              <a:buFont typeface="Microsoft Sans Serif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Microsoft Sans Serif"/>
              </a:rPr>
              <a:t>Fourth Outline Level</a:t>
            </a:r>
            <a:endParaRPr b="0" lang="en-US" sz="2000" spc="-1" strike="noStrike">
              <a:solidFill>
                <a:srgbClr val="4d4d4d"/>
              </a:solidFill>
              <a:latin typeface="Microsoft Sans Serif"/>
            </a:endParaRPr>
          </a:p>
          <a:p>
            <a:pPr lvl="4" marL="1828800" algn="ctr">
              <a:spcBef>
                <a:spcPts val="499"/>
              </a:spcBef>
              <a:buClr>
                <a:srgbClr val="4d4d4d"/>
              </a:buClr>
              <a:buFont typeface="Microsoft Sans Serif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Microsoft Sans Serif"/>
              </a:rPr>
              <a:t>Fifth Outline Level</a:t>
            </a:r>
            <a:endParaRPr b="0" lang="en-US" sz="2000" spc="-1" strike="noStrike">
              <a:solidFill>
                <a:srgbClr val="4d4d4d"/>
              </a:solidFill>
              <a:latin typeface="Microsoft Sans Serif"/>
            </a:endParaRPr>
          </a:p>
          <a:p>
            <a:pPr lvl="5" marL="1828800">
              <a:spcBef>
                <a:spcPts val="499"/>
              </a:spcBef>
              <a:buClr>
                <a:srgbClr val="4d4d4d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Microsoft Sans Serif"/>
              </a:rPr>
              <a:t>Sixth Outline Level</a:t>
            </a:r>
            <a:endParaRPr b="0" lang="en-US" sz="2000" spc="-1" strike="noStrike">
              <a:solidFill>
                <a:srgbClr val="4d4d4d"/>
              </a:solidFill>
              <a:latin typeface="Microsoft Sans Serif"/>
            </a:endParaRPr>
          </a:p>
          <a:p>
            <a:pPr lvl="6" marL="1828800">
              <a:spcBef>
                <a:spcPts val="499"/>
              </a:spcBef>
              <a:buClr>
                <a:srgbClr val="4d4d4d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Microsoft Sans Serif"/>
              </a:rPr>
              <a:t>Seventh Outline Level</a:t>
            </a:r>
            <a:endParaRPr b="0" lang="en-US" sz="20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95280" y="4343400"/>
            <a:ext cx="655344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4d4d4d"/>
                </a:solidFill>
                <a:latin typeface="Microsoft Sans Serif"/>
                <a:ea typeface="宋体"/>
              </a:rPr>
              <a:t>单击此处添加标题</a:t>
            </a:r>
            <a:endParaRPr b="0" lang="en-US" sz="36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1295280" y="5105160"/>
            <a:ext cx="6553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d4d4d"/>
                </a:solidFill>
                <a:latin typeface="Microsoft Sans Serif"/>
                <a:ea typeface="宋体"/>
              </a:rPr>
              <a:t>单击此处添加副标题</a:t>
            </a:r>
            <a:endParaRPr b="0" lang="en-US" sz="2400" spc="-1" strike="noStrike">
              <a:solidFill>
                <a:srgbClr val="4d4d4d"/>
              </a:solidFill>
              <a:latin typeface="Microsoft Sans Serif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78" name=""/>
          <p:cNvSpPr/>
          <p:nvPr/>
        </p:nvSpPr>
        <p:spPr>
          <a:xfrm>
            <a:off x="7164360" y="640224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42660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4d4d4d"/>
                </a:solidFill>
                <a:latin typeface="Microsoft Sans Serif"/>
                <a:ea typeface="宋体"/>
              </a:rPr>
              <a:t>单击此处添加标题</a:t>
            </a:r>
            <a:endParaRPr b="0" lang="en-US" sz="40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90720" y="1599840"/>
            <a:ext cx="7315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d4d4d"/>
                </a:solidFill>
                <a:latin typeface="Microsoft Sans Serif"/>
                <a:ea typeface="宋体"/>
              </a:rPr>
              <a:t>单击此处添加副标题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980720" y="761760"/>
            <a:ext cx="6861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4d4d4d"/>
                </a:solidFill>
                <a:latin typeface="Microsoft Sans Serif"/>
                <a:ea typeface="宋体"/>
              </a:rPr>
              <a:t>单击此处添加标题</a:t>
            </a:r>
            <a:r>
              <a:rPr b="0" lang="zh-CN" sz="4000" spc="-1" strike="noStrike">
                <a:solidFill>
                  <a:srgbClr val="4d4d4d"/>
                </a:solidFill>
                <a:latin typeface="Microsoft Sans Serif"/>
                <a:ea typeface="宋体"/>
              </a:rPr>
              <a:t>	</a:t>
            </a:r>
            <a:endParaRPr b="0" lang="en-US" sz="40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981080" y="1981080"/>
            <a:ext cx="69343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d4d4d"/>
                </a:solidFill>
                <a:latin typeface="Microsoft Sans Serif"/>
                <a:ea typeface="宋体"/>
              </a:rPr>
              <a:t>单击此处添加副标题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83" name=""/>
          <p:cNvSpPr/>
          <p:nvPr/>
        </p:nvSpPr>
        <p:spPr>
          <a:xfrm>
            <a:off x="2507760" y="6095880"/>
            <a:ext cx="56332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d49e06"/>
                </a:solidFill>
                <a:uFillTx/>
                <a:latin typeface="华文新魏"/>
                <a:ea typeface="华文新魏"/>
                <a:hlinkClick r:id="rId2"/>
              </a:rPr>
              <a:t>PPT之家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整理发布，更多免费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PPT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模板下载请访问：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www.eeppt.com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85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4d4d4d"/>
                </a:solidFill>
                <a:latin typeface="Arial"/>
              </a:endParaRPr>
            </a:p>
          </p:txBody>
        </p:sp>
        <p:pic>
          <p:nvPicPr>
            <p:cNvPr id="86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d49e06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d49e06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d49e06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5T18:07:44Z</dcterms:created>
  <dc:creator>SmileTemplates.com</dc:creator>
  <dc:description/>
  <dc:language>en-US</dc:language>
  <cp:lastModifiedBy>Nick</cp:lastModifiedBy>
  <cp:lastPrinted>1899-12-30T00:00:00Z</cp:lastPrinted>
  <dcterms:modified xsi:type="dcterms:W3CDTF">2014-05-28T14:02:49Z</dcterms:modified>
  <cp:revision>28</cp:revision>
  <dc:subject/>
  <dc:title>Name of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68</vt:lpwstr>
  </property>
</Properties>
</file>