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EE86-A9D8-434C-88F4-D2DF22345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3520" y="233604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0254-4EDA-4393-8026-1750962C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3480" y="20574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3520" y="233604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13480" y="233604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C705-C210-4007-91BE-50E4FABA5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697480" y="20574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861800" y="20574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33520" y="233604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2697480" y="233604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4861800" y="233604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D264-925B-4E1B-B57D-BBA98E23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DBD3-B906-4777-9463-62B377FA1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2ACD-935B-438C-BB09-DB0B5EC3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4593-C63B-4ECE-8686-B4BB3374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813480" y="205740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B1CE-0676-4190-BB94-C44A15A0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C9D3-BE1A-41CE-A96B-2A17C994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8D18-7360-44B5-B0F9-915237D2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13480" y="205740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3520" y="233604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D45C-0A69-4896-92A0-538B5923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ED46-2189-4720-A2DA-E340077C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813480" y="20574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813480" y="233604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8F70-1A51-42F3-B064-7A0BCDF4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813480" y="20574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3520" y="233604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305F-EBF1-4654-AB8D-DC8ED254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33520" y="233604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6865-A6F3-4435-B0F8-459F4FD5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813480" y="20574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33520" y="233604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813480" y="233604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EFCA-CD0C-4709-B05F-2DF4C5192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697480" y="20574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861800" y="20574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33520" y="233604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697480" y="233604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4861800" y="233604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1E84-8510-42C9-BA34-591112B30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B88C-C30C-4308-A9A4-08BB29F1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13480" y="205740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4F77-E786-4073-9976-5D529911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F990-FE41-4EBB-8477-6AD35AAA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5C0E-A579-4C5C-8DDB-49057804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13480" y="205740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233604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8E3E-31CC-420C-BBFE-C337F11A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3480" y="20574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13480" y="233604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E703-1C97-47CC-9020-D75F34F9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3480" y="20574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233604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792C-7E05-4DDE-B0B2-176022A8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a6f3"/>
            </a:gs>
            <a:gs pos="100000">
              <a:srgbClr val="ddf2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21388" b="40620"/>
          <a:stretch/>
        </p:blipFill>
        <p:spPr>
          <a:xfrm>
            <a:off x="0" y="4876920"/>
            <a:ext cx="9144000" cy="19810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0" y="5105520"/>
            <a:ext cx="1384200" cy="156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0381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456840" y="646092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629400" y="647676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97DC-ED4C-4A99-AAFD-2D189388F40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未知"/>
          <p:cNvSpPr/>
          <p:nvPr/>
        </p:nvSpPr>
        <p:spPr>
          <a:xfrm>
            <a:off x="5334120" y="0"/>
            <a:ext cx="3149640" cy="5029200"/>
          </a:xfrm>
          <a:custGeom>
            <a:avLst/>
            <a:gdLst/>
            <a:ahLst/>
            <a:rect l="l" t="t" r="r" b="b"/>
            <a:pathLst>
              <a:path w="1984" h="2592">
                <a:moveTo>
                  <a:pt x="1968" y="2592"/>
                </a:moveTo>
                <a:cubicBezTo>
                  <a:pt x="1762" y="958"/>
                  <a:pt x="825" y="389"/>
                  <a:pt x="0" y="0"/>
                </a:cubicBezTo>
                <a:lnTo>
                  <a:pt x="596" y="0"/>
                </a:lnTo>
                <a:cubicBezTo>
                  <a:pt x="1984" y="437"/>
                  <a:pt x="1977" y="2332"/>
                  <a:pt x="1968" y="2592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未知"/>
          <p:cNvSpPr/>
          <p:nvPr/>
        </p:nvSpPr>
        <p:spPr>
          <a:xfrm>
            <a:off x="8407440" y="0"/>
            <a:ext cx="736560" cy="4952880"/>
          </a:xfrm>
          <a:custGeom>
            <a:avLst/>
            <a:gdLst/>
            <a:ahLst/>
            <a:rect l="l" t="t" r="r" b="b"/>
            <a:pathLst>
              <a:path w="464" h="2562">
                <a:moveTo>
                  <a:pt x="0" y="2562"/>
                </a:moveTo>
                <a:cubicBezTo>
                  <a:pt x="288" y="2246"/>
                  <a:pt x="356" y="1924"/>
                  <a:pt x="408" y="1560"/>
                </a:cubicBezTo>
                <a:cubicBezTo>
                  <a:pt x="460" y="1196"/>
                  <a:pt x="464" y="332"/>
                  <a:pt x="464" y="0"/>
                </a:cubicBezTo>
                <a:lnTo>
                  <a:pt x="42" y="0"/>
                </a:lnTo>
                <a:cubicBezTo>
                  <a:pt x="196" y="401"/>
                  <a:pt x="305" y="1169"/>
                  <a:pt x="279" y="1600"/>
                </a:cubicBezTo>
                <a:cubicBezTo>
                  <a:pt x="254" y="2032"/>
                  <a:pt x="254" y="2206"/>
                  <a:pt x="0" y="2562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096680" y="561960"/>
            <a:ext cx="1906920" cy="1189440"/>
            <a:chOff x="7096680" y="561960"/>
            <a:chExt cx="1906920" cy="1189440"/>
          </a:xfrm>
        </p:grpSpPr>
        <p:sp>
          <p:nvSpPr>
            <p:cNvPr id="8" name="未知"/>
            <p:cNvSpPr/>
            <p:nvPr/>
          </p:nvSpPr>
          <p:spPr>
            <a:xfrm rot="20706000">
              <a:off x="7160760" y="773280"/>
              <a:ext cx="1740960" cy="728640"/>
            </a:xfrm>
            <a:custGeom>
              <a:avLst/>
              <a:gdLst/>
              <a:ahLst/>
              <a:rect l="l" t="t" r="r" b="b"/>
              <a:pathLst>
                <a:path w="3920" h="1720">
                  <a:moveTo>
                    <a:pt x="0" y="1500"/>
                  </a:moveTo>
                  <a:cubicBezTo>
                    <a:pt x="0" y="1500"/>
                    <a:pt x="288" y="936"/>
                    <a:pt x="768" y="424"/>
                  </a:cubicBezTo>
                  <a:cubicBezTo>
                    <a:pt x="1652" y="0"/>
                    <a:pt x="2208" y="424"/>
                    <a:pt x="2208" y="424"/>
                  </a:cubicBezTo>
                  <a:cubicBezTo>
                    <a:pt x="3440" y="8"/>
                    <a:pt x="3752" y="612"/>
                    <a:pt x="3920" y="828"/>
                  </a:cubicBezTo>
                  <a:cubicBezTo>
                    <a:pt x="3660" y="1224"/>
                    <a:pt x="3216" y="1720"/>
                    <a:pt x="3216" y="1720"/>
                  </a:cubicBezTo>
                  <a:cubicBezTo>
                    <a:pt x="2844" y="1540"/>
                    <a:pt x="2504" y="1284"/>
                    <a:pt x="1524" y="1600"/>
                  </a:cubicBezTo>
                  <a:cubicBezTo>
                    <a:pt x="2400" y="1068"/>
                    <a:pt x="3000" y="1500"/>
                    <a:pt x="3232" y="1628"/>
                  </a:cubicBezTo>
                  <a:cubicBezTo>
                    <a:pt x="3512" y="1242"/>
                    <a:pt x="3672" y="1012"/>
                    <a:pt x="3748" y="820"/>
                  </a:cubicBezTo>
                  <a:cubicBezTo>
                    <a:pt x="3316" y="320"/>
                    <a:pt x="2643" y="350"/>
                    <a:pt x="2256" y="472"/>
                  </a:cubicBezTo>
                  <a:cubicBezTo>
                    <a:pt x="1872" y="1000"/>
                    <a:pt x="1484" y="1524"/>
                    <a:pt x="1468" y="1524"/>
                  </a:cubicBezTo>
                  <a:cubicBezTo>
                    <a:pt x="1700" y="948"/>
                    <a:pt x="2160" y="472"/>
                    <a:pt x="2160" y="472"/>
                  </a:cubicBezTo>
                  <a:cubicBezTo>
                    <a:pt x="2051" y="303"/>
                    <a:pt x="1280" y="296"/>
                    <a:pt x="812" y="508"/>
                  </a:cubicBezTo>
                  <a:cubicBezTo>
                    <a:pt x="452" y="988"/>
                    <a:pt x="96" y="1432"/>
                    <a:pt x="96" y="1432"/>
                  </a:cubicBezTo>
                  <a:cubicBezTo>
                    <a:pt x="1024" y="1112"/>
                    <a:pt x="1488" y="1576"/>
                    <a:pt x="1488" y="1576"/>
                  </a:cubicBezTo>
                  <a:cubicBezTo>
                    <a:pt x="1472" y="1587"/>
                    <a:pt x="792" y="1324"/>
                    <a:pt x="0" y="150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 rot="20706000">
              <a:off x="7983000" y="1087560"/>
              <a:ext cx="984960" cy="406440"/>
            </a:xfrm>
            <a:custGeom>
              <a:avLst/>
              <a:gdLst/>
              <a:ahLst/>
              <a:rect l="l" t="t" r="r" b="b"/>
              <a:pathLst>
                <a:path w="2218" h="960">
                  <a:moveTo>
                    <a:pt x="0" y="672"/>
                  </a:moveTo>
                  <a:cubicBezTo>
                    <a:pt x="1004" y="672"/>
                    <a:pt x="1252" y="944"/>
                    <a:pt x="1640" y="960"/>
                  </a:cubicBezTo>
                  <a:cubicBezTo>
                    <a:pt x="2068" y="464"/>
                    <a:pt x="2218" y="12"/>
                    <a:pt x="2208" y="0"/>
                  </a:cubicBezTo>
                  <a:cubicBezTo>
                    <a:pt x="2148" y="40"/>
                    <a:pt x="1840" y="516"/>
                    <a:pt x="1580" y="888"/>
                  </a:cubicBezTo>
                  <a:cubicBezTo>
                    <a:pt x="740" y="544"/>
                    <a:pt x="268" y="624"/>
                    <a:pt x="0" y="672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 rot="20706000">
              <a:off x="7305120" y="1497960"/>
              <a:ext cx="703440" cy="165960"/>
            </a:xfrm>
            <a:custGeom>
              <a:avLst/>
              <a:gdLst/>
              <a:ahLst/>
              <a:rect l="l" t="t" r="r" b="b"/>
              <a:pathLst>
                <a:path w="1584" h="392">
                  <a:moveTo>
                    <a:pt x="0" y="224"/>
                  </a:moveTo>
                  <a:cubicBezTo>
                    <a:pt x="628" y="84"/>
                    <a:pt x="892" y="108"/>
                    <a:pt x="1152" y="224"/>
                  </a:cubicBezTo>
                  <a:cubicBezTo>
                    <a:pt x="1320" y="336"/>
                    <a:pt x="1380" y="392"/>
                    <a:pt x="1584" y="272"/>
                  </a:cubicBezTo>
                  <a:cubicBezTo>
                    <a:pt x="1360" y="320"/>
                    <a:pt x="1240" y="188"/>
                    <a:pt x="1144" y="144"/>
                  </a:cubicBezTo>
                  <a:cubicBezTo>
                    <a:pt x="1048" y="100"/>
                    <a:pt x="372" y="0"/>
                    <a:pt x="0" y="224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 rot="20706000">
              <a:off x="7960680" y="1314360"/>
              <a:ext cx="768600" cy="145440"/>
            </a:xfrm>
            <a:custGeom>
              <a:avLst/>
              <a:gdLst/>
              <a:ahLst/>
              <a:rect l="l" t="t" r="r" b="b"/>
              <a:pathLst>
                <a:path w="1731" h="344">
                  <a:moveTo>
                    <a:pt x="0" y="176"/>
                  </a:moveTo>
                  <a:cubicBezTo>
                    <a:pt x="856" y="0"/>
                    <a:pt x="1604" y="344"/>
                    <a:pt x="1604" y="344"/>
                  </a:cubicBezTo>
                  <a:cubicBezTo>
                    <a:pt x="1731" y="327"/>
                    <a:pt x="1056" y="80"/>
                    <a:pt x="760" y="72"/>
                  </a:cubicBezTo>
                  <a:cubicBezTo>
                    <a:pt x="464" y="64"/>
                    <a:pt x="244" y="60"/>
                    <a:pt x="0" y="176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未知"/>
            <p:cNvSpPr/>
            <p:nvPr/>
          </p:nvSpPr>
          <p:spPr>
            <a:xfrm rot="20706000">
              <a:off x="8659800" y="1048320"/>
              <a:ext cx="223560" cy="284400"/>
            </a:xfrm>
            <a:custGeom>
              <a:avLst/>
              <a:gdLst/>
              <a:ahLst/>
              <a:rect l="l" t="t" r="r" b="b"/>
              <a:pathLst>
                <a:path w="504" h="672">
                  <a:moveTo>
                    <a:pt x="456" y="48"/>
                  </a:moveTo>
                  <a:cubicBezTo>
                    <a:pt x="504" y="0"/>
                    <a:pt x="384" y="240"/>
                    <a:pt x="312" y="336"/>
                  </a:cubicBezTo>
                  <a:cubicBezTo>
                    <a:pt x="240" y="432"/>
                    <a:pt x="0" y="672"/>
                    <a:pt x="24" y="624"/>
                  </a:cubicBezTo>
                  <a:lnTo>
                    <a:pt x="456" y="48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未知"/>
            <p:cNvSpPr/>
            <p:nvPr/>
          </p:nvSpPr>
          <p:spPr>
            <a:xfrm rot="20706000">
              <a:off x="8172000" y="1031040"/>
              <a:ext cx="479880" cy="127440"/>
            </a:xfrm>
            <a:custGeom>
              <a:avLst/>
              <a:gdLst/>
              <a:ahLst/>
              <a:rect l="l" t="t" r="r" b="b"/>
              <a:pathLst>
                <a:path w="1081" h="301">
                  <a:moveTo>
                    <a:pt x="0" y="36"/>
                  </a:moveTo>
                  <a:cubicBezTo>
                    <a:pt x="576" y="52"/>
                    <a:pt x="992" y="300"/>
                    <a:pt x="992" y="300"/>
                  </a:cubicBezTo>
                  <a:cubicBezTo>
                    <a:pt x="1081" y="301"/>
                    <a:pt x="701" y="88"/>
                    <a:pt x="536" y="44"/>
                  </a:cubicBezTo>
                  <a:cubicBezTo>
                    <a:pt x="371" y="0"/>
                    <a:pt x="216" y="0"/>
                    <a:pt x="0" y="36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 rot="20569200">
              <a:off x="8180640" y="892440"/>
              <a:ext cx="479880" cy="127440"/>
            </a:xfrm>
            <a:custGeom>
              <a:avLst/>
              <a:gdLst/>
              <a:ahLst/>
              <a:rect l="l" t="t" r="r" b="b"/>
              <a:pathLst>
                <a:path w="1081" h="301">
                  <a:moveTo>
                    <a:pt x="0" y="36"/>
                  </a:moveTo>
                  <a:cubicBezTo>
                    <a:pt x="576" y="52"/>
                    <a:pt x="992" y="300"/>
                    <a:pt x="992" y="300"/>
                  </a:cubicBezTo>
                  <a:cubicBezTo>
                    <a:pt x="1081" y="301"/>
                    <a:pt x="701" y="88"/>
                    <a:pt x="536" y="44"/>
                  </a:cubicBezTo>
                  <a:cubicBezTo>
                    <a:pt x="371" y="0"/>
                    <a:pt x="216" y="0"/>
                    <a:pt x="0" y="36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 rot="20706000">
              <a:off x="7495560" y="1082880"/>
              <a:ext cx="449640" cy="72360"/>
            </a:xfrm>
            <a:custGeom>
              <a:avLst/>
              <a:gdLst/>
              <a:ahLst/>
              <a:rect l="l" t="t" r="r" b="b"/>
              <a:pathLst>
                <a:path w="1013" h="171">
                  <a:moveTo>
                    <a:pt x="0" y="116"/>
                  </a:moveTo>
                  <a:cubicBezTo>
                    <a:pt x="620" y="0"/>
                    <a:pt x="851" y="171"/>
                    <a:pt x="932" y="156"/>
                  </a:cubicBezTo>
                  <a:cubicBezTo>
                    <a:pt x="1013" y="141"/>
                    <a:pt x="640" y="30"/>
                    <a:pt x="485" y="23"/>
                  </a:cubicBezTo>
                  <a:cubicBezTo>
                    <a:pt x="337" y="16"/>
                    <a:pt x="182" y="59"/>
                    <a:pt x="0" y="116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 rot="20706000">
              <a:off x="7464240" y="1200240"/>
              <a:ext cx="449640" cy="72360"/>
            </a:xfrm>
            <a:custGeom>
              <a:avLst/>
              <a:gdLst/>
              <a:ahLst/>
              <a:rect l="l" t="t" r="r" b="b"/>
              <a:pathLst>
                <a:path w="1013" h="171">
                  <a:moveTo>
                    <a:pt x="0" y="116"/>
                  </a:moveTo>
                  <a:cubicBezTo>
                    <a:pt x="620" y="0"/>
                    <a:pt x="851" y="171"/>
                    <a:pt x="932" y="156"/>
                  </a:cubicBezTo>
                  <a:cubicBezTo>
                    <a:pt x="1013" y="141"/>
                    <a:pt x="640" y="30"/>
                    <a:pt x="485" y="23"/>
                  </a:cubicBezTo>
                  <a:cubicBezTo>
                    <a:pt x="337" y="16"/>
                    <a:pt x="182" y="59"/>
                    <a:pt x="0" y="116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 rot="20706000">
              <a:off x="7409880" y="1343160"/>
              <a:ext cx="469440" cy="65520"/>
            </a:xfrm>
            <a:custGeom>
              <a:avLst/>
              <a:gdLst/>
              <a:ahLst/>
              <a:rect l="l" t="t" r="r" b="b"/>
              <a:pathLst>
                <a:path w="1057" h="155">
                  <a:moveTo>
                    <a:pt x="0" y="100"/>
                  </a:moveTo>
                  <a:cubicBezTo>
                    <a:pt x="652" y="36"/>
                    <a:pt x="888" y="155"/>
                    <a:pt x="972" y="140"/>
                  </a:cubicBezTo>
                  <a:cubicBezTo>
                    <a:pt x="1057" y="125"/>
                    <a:pt x="668" y="14"/>
                    <a:pt x="506" y="7"/>
                  </a:cubicBezTo>
                  <a:cubicBezTo>
                    <a:pt x="352" y="0"/>
                    <a:pt x="190" y="43"/>
                    <a:pt x="0" y="10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" name="未知"/>
          <p:cNvSpPr/>
          <p:nvPr/>
        </p:nvSpPr>
        <p:spPr>
          <a:xfrm rot="14091600">
            <a:off x="8398440" y="3475440"/>
            <a:ext cx="681120" cy="603000"/>
          </a:xfrm>
          <a:custGeom>
            <a:avLst/>
            <a:gdLst/>
            <a:ahLst/>
            <a:rect l="l" t="t" r="r" b="b"/>
            <a:pathLst>
              <a:path w="406" h="405">
                <a:moveTo>
                  <a:pt x="360" y="174"/>
                </a:moveTo>
                <a:lnTo>
                  <a:pt x="294" y="173"/>
                </a:lnTo>
                <a:lnTo>
                  <a:pt x="259" y="129"/>
                </a:lnTo>
                <a:lnTo>
                  <a:pt x="274" y="129"/>
                </a:lnTo>
                <a:lnTo>
                  <a:pt x="277" y="128"/>
                </a:lnTo>
                <a:lnTo>
                  <a:pt x="280" y="126"/>
                </a:lnTo>
                <a:lnTo>
                  <a:pt x="282" y="123"/>
                </a:lnTo>
                <a:lnTo>
                  <a:pt x="282" y="120"/>
                </a:lnTo>
                <a:lnTo>
                  <a:pt x="282" y="107"/>
                </a:lnTo>
                <a:lnTo>
                  <a:pt x="282" y="104"/>
                </a:lnTo>
                <a:lnTo>
                  <a:pt x="280" y="101"/>
                </a:lnTo>
                <a:lnTo>
                  <a:pt x="277" y="99"/>
                </a:lnTo>
                <a:lnTo>
                  <a:pt x="274" y="99"/>
                </a:lnTo>
                <a:lnTo>
                  <a:pt x="238" y="99"/>
                </a:lnTo>
                <a:lnTo>
                  <a:pt x="220" y="72"/>
                </a:lnTo>
                <a:lnTo>
                  <a:pt x="232" y="72"/>
                </a:lnTo>
                <a:lnTo>
                  <a:pt x="235" y="72"/>
                </a:lnTo>
                <a:lnTo>
                  <a:pt x="238" y="69"/>
                </a:lnTo>
                <a:lnTo>
                  <a:pt x="241" y="68"/>
                </a:lnTo>
                <a:lnTo>
                  <a:pt x="241" y="63"/>
                </a:lnTo>
                <a:lnTo>
                  <a:pt x="241" y="51"/>
                </a:lnTo>
                <a:lnTo>
                  <a:pt x="241" y="48"/>
                </a:lnTo>
                <a:lnTo>
                  <a:pt x="238" y="45"/>
                </a:lnTo>
                <a:lnTo>
                  <a:pt x="235" y="44"/>
                </a:lnTo>
                <a:lnTo>
                  <a:pt x="232" y="42"/>
                </a:lnTo>
                <a:lnTo>
                  <a:pt x="199" y="42"/>
                </a:lnTo>
                <a:lnTo>
                  <a:pt x="195" y="35"/>
                </a:lnTo>
                <a:lnTo>
                  <a:pt x="189" y="26"/>
                </a:lnTo>
                <a:lnTo>
                  <a:pt x="181" y="17"/>
                </a:lnTo>
                <a:lnTo>
                  <a:pt x="175" y="9"/>
                </a:lnTo>
                <a:lnTo>
                  <a:pt x="172" y="5"/>
                </a:lnTo>
                <a:lnTo>
                  <a:pt x="169" y="3"/>
                </a:lnTo>
                <a:lnTo>
                  <a:pt x="165" y="2"/>
                </a:lnTo>
                <a:lnTo>
                  <a:pt x="160" y="0"/>
                </a:lnTo>
                <a:lnTo>
                  <a:pt x="156" y="0"/>
                </a:lnTo>
                <a:lnTo>
                  <a:pt x="151" y="0"/>
                </a:lnTo>
                <a:lnTo>
                  <a:pt x="133" y="0"/>
                </a:lnTo>
                <a:lnTo>
                  <a:pt x="135" y="5"/>
                </a:lnTo>
                <a:lnTo>
                  <a:pt x="138" y="15"/>
                </a:lnTo>
                <a:lnTo>
                  <a:pt x="144" y="30"/>
                </a:lnTo>
                <a:lnTo>
                  <a:pt x="150" y="48"/>
                </a:lnTo>
                <a:lnTo>
                  <a:pt x="157" y="69"/>
                </a:lnTo>
                <a:lnTo>
                  <a:pt x="165" y="92"/>
                </a:lnTo>
                <a:lnTo>
                  <a:pt x="172" y="113"/>
                </a:lnTo>
                <a:lnTo>
                  <a:pt x="180" y="132"/>
                </a:lnTo>
                <a:lnTo>
                  <a:pt x="184" y="149"/>
                </a:lnTo>
                <a:lnTo>
                  <a:pt x="189" y="159"/>
                </a:lnTo>
                <a:lnTo>
                  <a:pt x="190" y="165"/>
                </a:lnTo>
                <a:lnTo>
                  <a:pt x="186" y="170"/>
                </a:lnTo>
                <a:lnTo>
                  <a:pt x="175" y="174"/>
                </a:lnTo>
                <a:lnTo>
                  <a:pt x="160" y="177"/>
                </a:lnTo>
                <a:lnTo>
                  <a:pt x="142" y="180"/>
                </a:lnTo>
                <a:lnTo>
                  <a:pt x="124" y="182"/>
                </a:lnTo>
                <a:lnTo>
                  <a:pt x="106" y="182"/>
                </a:lnTo>
                <a:lnTo>
                  <a:pt x="91" y="183"/>
                </a:lnTo>
                <a:lnTo>
                  <a:pt x="81" y="183"/>
                </a:lnTo>
                <a:lnTo>
                  <a:pt x="76" y="183"/>
                </a:lnTo>
                <a:lnTo>
                  <a:pt x="33" y="128"/>
                </a:lnTo>
                <a:lnTo>
                  <a:pt x="4" y="128"/>
                </a:lnTo>
                <a:lnTo>
                  <a:pt x="21" y="192"/>
                </a:lnTo>
                <a:lnTo>
                  <a:pt x="0" y="203"/>
                </a:lnTo>
                <a:lnTo>
                  <a:pt x="21" y="213"/>
                </a:lnTo>
                <a:lnTo>
                  <a:pt x="4" y="278"/>
                </a:lnTo>
                <a:lnTo>
                  <a:pt x="33" y="278"/>
                </a:lnTo>
                <a:lnTo>
                  <a:pt x="76" y="222"/>
                </a:lnTo>
                <a:lnTo>
                  <a:pt x="81" y="222"/>
                </a:lnTo>
                <a:lnTo>
                  <a:pt x="91" y="222"/>
                </a:lnTo>
                <a:lnTo>
                  <a:pt x="106" y="224"/>
                </a:lnTo>
                <a:lnTo>
                  <a:pt x="124" y="224"/>
                </a:lnTo>
                <a:lnTo>
                  <a:pt x="142" y="225"/>
                </a:lnTo>
                <a:lnTo>
                  <a:pt x="160" y="228"/>
                </a:lnTo>
                <a:lnTo>
                  <a:pt x="175" y="231"/>
                </a:lnTo>
                <a:lnTo>
                  <a:pt x="186" y="236"/>
                </a:lnTo>
                <a:lnTo>
                  <a:pt x="190" y="240"/>
                </a:lnTo>
                <a:lnTo>
                  <a:pt x="189" y="246"/>
                </a:lnTo>
                <a:lnTo>
                  <a:pt x="184" y="257"/>
                </a:lnTo>
                <a:lnTo>
                  <a:pt x="180" y="273"/>
                </a:lnTo>
                <a:lnTo>
                  <a:pt x="172" y="293"/>
                </a:lnTo>
                <a:lnTo>
                  <a:pt x="165" y="314"/>
                </a:lnTo>
                <a:lnTo>
                  <a:pt x="157" y="336"/>
                </a:lnTo>
                <a:lnTo>
                  <a:pt x="150" y="357"/>
                </a:lnTo>
                <a:lnTo>
                  <a:pt x="144" y="375"/>
                </a:lnTo>
                <a:lnTo>
                  <a:pt x="138" y="390"/>
                </a:lnTo>
                <a:lnTo>
                  <a:pt x="135" y="401"/>
                </a:lnTo>
                <a:lnTo>
                  <a:pt x="133" y="405"/>
                </a:lnTo>
                <a:lnTo>
                  <a:pt x="151" y="405"/>
                </a:lnTo>
                <a:lnTo>
                  <a:pt x="156" y="405"/>
                </a:lnTo>
                <a:lnTo>
                  <a:pt x="160" y="405"/>
                </a:lnTo>
                <a:lnTo>
                  <a:pt x="165" y="404"/>
                </a:lnTo>
                <a:lnTo>
                  <a:pt x="169" y="404"/>
                </a:lnTo>
                <a:lnTo>
                  <a:pt x="172" y="401"/>
                </a:lnTo>
                <a:lnTo>
                  <a:pt x="175" y="396"/>
                </a:lnTo>
                <a:lnTo>
                  <a:pt x="181" y="389"/>
                </a:lnTo>
                <a:lnTo>
                  <a:pt x="189" y="380"/>
                </a:lnTo>
                <a:lnTo>
                  <a:pt x="195" y="371"/>
                </a:lnTo>
                <a:lnTo>
                  <a:pt x="199" y="363"/>
                </a:lnTo>
                <a:lnTo>
                  <a:pt x="232" y="363"/>
                </a:lnTo>
                <a:lnTo>
                  <a:pt x="235" y="362"/>
                </a:lnTo>
                <a:lnTo>
                  <a:pt x="238" y="360"/>
                </a:lnTo>
                <a:lnTo>
                  <a:pt x="241" y="357"/>
                </a:lnTo>
                <a:lnTo>
                  <a:pt x="241" y="354"/>
                </a:lnTo>
                <a:lnTo>
                  <a:pt x="241" y="342"/>
                </a:lnTo>
                <a:lnTo>
                  <a:pt x="241" y="338"/>
                </a:lnTo>
                <a:lnTo>
                  <a:pt x="238" y="336"/>
                </a:lnTo>
                <a:lnTo>
                  <a:pt x="235" y="333"/>
                </a:lnTo>
                <a:lnTo>
                  <a:pt x="232" y="333"/>
                </a:lnTo>
                <a:lnTo>
                  <a:pt x="220" y="333"/>
                </a:lnTo>
                <a:lnTo>
                  <a:pt x="238" y="306"/>
                </a:lnTo>
                <a:lnTo>
                  <a:pt x="274" y="306"/>
                </a:lnTo>
                <a:lnTo>
                  <a:pt x="277" y="306"/>
                </a:lnTo>
                <a:lnTo>
                  <a:pt x="280" y="305"/>
                </a:lnTo>
                <a:lnTo>
                  <a:pt x="282" y="302"/>
                </a:lnTo>
                <a:lnTo>
                  <a:pt x="282" y="299"/>
                </a:lnTo>
                <a:lnTo>
                  <a:pt x="282" y="285"/>
                </a:lnTo>
                <a:lnTo>
                  <a:pt x="282" y="282"/>
                </a:lnTo>
                <a:lnTo>
                  <a:pt x="280" y="279"/>
                </a:lnTo>
                <a:lnTo>
                  <a:pt x="277" y="278"/>
                </a:lnTo>
                <a:lnTo>
                  <a:pt x="274" y="276"/>
                </a:lnTo>
                <a:lnTo>
                  <a:pt x="259" y="276"/>
                </a:lnTo>
                <a:lnTo>
                  <a:pt x="294" y="233"/>
                </a:lnTo>
                <a:lnTo>
                  <a:pt x="360" y="233"/>
                </a:lnTo>
                <a:lnTo>
                  <a:pt x="367" y="231"/>
                </a:lnTo>
                <a:lnTo>
                  <a:pt x="376" y="230"/>
                </a:lnTo>
                <a:lnTo>
                  <a:pt x="387" y="227"/>
                </a:lnTo>
                <a:lnTo>
                  <a:pt x="397" y="221"/>
                </a:lnTo>
                <a:lnTo>
                  <a:pt x="403" y="213"/>
                </a:lnTo>
                <a:lnTo>
                  <a:pt x="406" y="203"/>
                </a:lnTo>
                <a:lnTo>
                  <a:pt x="403" y="192"/>
                </a:lnTo>
                <a:lnTo>
                  <a:pt x="397" y="185"/>
                </a:lnTo>
                <a:lnTo>
                  <a:pt x="387" y="179"/>
                </a:lnTo>
                <a:lnTo>
                  <a:pt x="376" y="176"/>
                </a:lnTo>
                <a:lnTo>
                  <a:pt x="367" y="174"/>
                </a:lnTo>
                <a:lnTo>
                  <a:pt x="360" y="174"/>
                </a:lnTo>
                <a:close/>
              </a:path>
            </a:pathLst>
          </a:custGeom>
          <a:solidFill>
            <a:srgbClr val="f8f8f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" name="" descr=""/>
          <p:cNvPicPr/>
          <p:nvPr/>
        </p:nvPicPr>
        <p:blipFill>
          <a:blip r:embed="rId4"/>
          <a:srcRect l="43963" t="0" r="0" b="36409"/>
          <a:stretch/>
        </p:blipFill>
        <p:spPr>
          <a:xfrm>
            <a:off x="8005680" y="4952880"/>
            <a:ext cx="757440" cy="1905120"/>
          </a:xfrm>
          <a:prstGeom prst="rect">
            <a:avLst/>
          </a:prstGeom>
          <a:ln w="0">
            <a:noFill/>
          </a:ln>
        </p:spPr>
      </p:pic>
      <p:grpSp>
        <p:nvGrpSpPr>
          <p:cNvPr id="20" name=""/>
          <p:cNvGrpSpPr/>
          <p:nvPr/>
        </p:nvGrpSpPr>
        <p:grpSpPr>
          <a:xfrm>
            <a:off x="144000" y="320400"/>
            <a:ext cx="767520" cy="774360"/>
            <a:chOff x="144000" y="320400"/>
            <a:chExt cx="767520" cy="774360"/>
          </a:xfrm>
        </p:grpSpPr>
        <p:sp>
          <p:nvSpPr>
            <p:cNvPr id="21" name="未知"/>
            <p:cNvSpPr/>
            <p:nvPr/>
          </p:nvSpPr>
          <p:spPr>
            <a:xfrm>
              <a:off x="345960" y="460440"/>
              <a:ext cx="292320" cy="120600"/>
            </a:xfrm>
            <a:custGeom>
              <a:avLst/>
              <a:gdLst/>
              <a:ahLst/>
              <a:rect l="l" t="t" r="r" b="b"/>
              <a:pathLst>
                <a:path w="894" h="506">
                  <a:moveTo>
                    <a:pt x="824" y="200"/>
                  </a:moveTo>
                  <a:lnTo>
                    <a:pt x="791" y="208"/>
                  </a:lnTo>
                  <a:lnTo>
                    <a:pt x="752" y="216"/>
                  </a:lnTo>
                  <a:lnTo>
                    <a:pt x="711" y="224"/>
                  </a:lnTo>
                  <a:lnTo>
                    <a:pt x="676" y="236"/>
                  </a:lnTo>
                  <a:lnTo>
                    <a:pt x="636" y="247"/>
                  </a:lnTo>
                  <a:lnTo>
                    <a:pt x="604" y="263"/>
                  </a:lnTo>
                  <a:lnTo>
                    <a:pt x="577" y="283"/>
                  </a:lnTo>
                  <a:lnTo>
                    <a:pt x="556" y="308"/>
                  </a:lnTo>
                  <a:lnTo>
                    <a:pt x="540" y="335"/>
                  </a:lnTo>
                  <a:lnTo>
                    <a:pt x="525" y="362"/>
                  </a:lnTo>
                  <a:lnTo>
                    <a:pt x="513" y="391"/>
                  </a:lnTo>
                  <a:lnTo>
                    <a:pt x="497" y="419"/>
                  </a:lnTo>
                  <a:lnTo>
                    <a:pt x="482" y="442"/>
                  </a:lnTo>
                  <a:lnTo>
                    <a:pt x="461" y="466"/>
                  </a:lnTo>
                  <a:lnTo>
                    <a:pt x="437" y="483"/>
                  </a:lnTo>
                  <a:lnTo>
                    <a:pt x="402" y="498"/>
                  </a:lnTo>
                  <a:lnTo>
                    <a:pt x="381" y="506"/>
                  </a:lnTo>
                  <a:lnTo>
                    <a:pt x="362" y="506"/>
                  </a:lnTo>
                  <a:lnTo>
                    <a:pt x="346" y="502"/>
                  </a:lnTo>
                  <a:lnTo>
                    <a:pt x="330" y="498"/>
                  </a:lnTo>
                  <a:lnTo>
                    <a:pt x="319" y="495"/>
                  </a:lnTo>
                  <a:lnTo>
                    <a:pt x="302" y="487"/>
                  </a:lnTo>
                  <a:lnTo>
                    <a:pt x="286" y="483"/>
                  </a:lnTo>
                  <a:lnTo>
                    <a:pt x="270" y="479"/>
                  </a:lnTo>
                  <a:lnTo>
                    <a:pt x="243" y="479"/>
                  </a:lnTo>
                  <a:lnTo>
                    <a:pt x="214" y="487"/>
                  </a:lnTo>
                  <a:lnTo>
                    <a:pt x="191" y="495"/>
                  </a:lnTo>
                  <a:lnTo>
                    <a:pt x="163" y="502"/>
                  </a:lnTo>
                  <a:lnTo>
                    <a:pt x="144" y="502"/>
                  </a:lnTo>
                  <a:lnTo>
                    <a:pt x="123" y="502"/>
                  </a:lnTo>
                  <a:lnTo>
                    <a:pt x="103" y="502"/>
                  </a:lnTo>
                  <a:lnTo>
                    <a:pt x="84" y="498"/>
                  </a:lnTo>
                  <a:lnTo>
                    <a:pt x="60" y="495"/>
                  </a:lnTo>
                  <a:lnTo>
                    <a:pt x="39" y="487"/>
                  </a:lnTo>
                  <a:lnTo>
                    <a:pt x="20" y="487"/>
                  </a:lnTo>
                  <a:lnTo>
                    <a:pt x="0" y="483"/>
                  </a:lnTo>
                  <a:lnTo>
                    <a:pt x="16" y="434"/>
                  </a:lnTo>
                  <a:lnTo>
                    <a:pt x="31" y="391"/>
                  </a:lnTo>
                  <a:lnTo>
                    <a:pt x="48" y="343"/>
                  </a:lnTo>
                  <a:lnTo>
                    <a:pt x="64" y="304"/>
                  </a:lnTo>
                  <a:lnTo>
                    <a:pt x="84" y="263"/>
                  </a:lnTo>
                  <a:lnTo>
                    <a:pt x="111" y="224"/>
                  </a:lnTo>
                  <a:lnTo>
                    <a:pt x="144" y="192"/>
                  </a:lnTo>
                  <a:lnTo>
                    <a:pt x="187" y="160"/>
                  </a:lnTo>
                  <a:lnTo>
                    <a:pt x="235" y="136"/>
                  </a:lnTo>
                  <a:lnTo>
                    <a:pt x="286" y="113"/>
                  </a:lnTo>
                  <a:lnTo>
                    <a:pt x="342" y="92"/>
                  </a:lnTo>
                  <a:lnTo>
                    <a:pt x="398" y="76"/>
                  </a:lnTo>
                  <a:lnTo>
                    <a:pt x="453" y="60"/>
                  </a:lnTo>
                  <a:lnTo>
                    <a:pt x="509" y="45"/>
                  </a:lnTo>
                  <a:lnTo>
                    <a:pt x="565" y="33"/>
                  </a:lnTo>
                  <a:lnTo>
                    <a:pt x="616" y="21"/>
                  </a:lnTo>
                  <a:lnTo>
                    <a:pt x="649" y="13"/>
                  </a:lnTo>
                  <a:lnTo>
                    <a:pt x="684" y="4"/>
                  </a:lnTo>
                  <a:lnTo>
                    <a:pt x="723" y="0"/>
                  </a:lnTo>
                  <a:lnTo>
                    <a:pt x="760" y="0"/>
                  </a:lnTo>
                  <a:lnTo>
                    <a:pt x="795" y="4"/>
                  </a:lnTo>
                  <a:lnTo>
                    <a:pt x="831" y="17"/>
                  </a:lnTo>
                  <a:lnTo>
                    <a:pt x="859" y="33"/>
                  </a:lnTo>
                  <a:lnTo>
                    <a:pt x="882" y="60"/>
                  </a:lnTo>
                  <a:lnTo>
                    <a:pt x="894" y="96"/>
                  </a:lnTo>
                  <a:lnTo>
                    <a:pt x="890" y="128"/>
                  </a:lnTo>
                  <a:lnTo>
                    <a:pt x="875" y="160"/>
                  </a:lnTo>
                  <a:lnTo>
                    <a:pt x="843" y="187"/>
                  </a:lnTo>
                  <a:lnTo>
                    <a:pt x="824" y="200"/>
                  </a:lnTo>
                  <a:close/>
                </a:path>
              </a:pathLst>
            </a:cu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304920" y="628560"/>
              <a:ext cx="239760" cy="225360"/>
            </a:xfrm>
            <a:custGeom>
              <a:avLst/>
              <a:gdLst/>
              <a:ahLst/>
              <a:rect l="l" t="t" r="r" b="b"/>
              <a:pathLst>
                <a:path w="1002" h="936">
                  <a:moveTo>
                    <a:pt x="112" y="72"/>
                  </a:moveTo>
                  <a:lnTo>
                    <a:pt x="159" y="124"/>
                  </a:lnTo>
                  <a:lnTo>
                    <a:pt x="219" y="152"/>
                  </a:lnTo>
                  <a:lnTo>
                    <a:pt x="283" y="164"/>
                  </a:lnTo>
                  <a:lnTo>
                    <a:pt x="350" y="156"/>
                  </a:lnTo>
                  <a:lnTo>
                    <a:pt x="418" y="140"/>
                  </a:lnTo>
                  <a:lnTo>
                    <a:pt x="482" y="121"/>
                  </a:lnTo>
                  <a:lnTo>
                    <a:pt x="546" y="92"/>
                  </a:lnTo>
                  <a:lnTo>
                    <a:pt x="600" y="64"/>
                  </a:lnTo>
                  <a:lnTo>
                    <a:pt x="649" y="41"/>
                  </a:lnTo>
                  <a:lnTo>
                    <a:pt x="696" y="25"/>
                  </a:lnTo>
                  <a:lnTo>
                    <a:pt x="748" y="9"/>
                  </a:lnTo>
                  <a:lnTo>
                    <a:pt x="800" y="0"/>
                  </a:lnTo>
                  <a:lnTo>
                    <a:pt x="851" y="0"/>
                  </a:lnTo>
                  <a:lnTo>
                    <a:pt x="903" y="5"/>
                  </a:lnTo>
                  <a:lnTo>
                    <a:pt x="950" y="13"/>
                  </a:lnTo>
                  <a:lnTo>
                    <a:pt x="1002" y="33"/>
                  </a:lnTo>
                  <a:lnTo>
                    <a:pt x="971" y="97"/>
                  </a:lnTo>
                  <a:lnTo>
                    <a:pt x="919" y="140"/>
                  </a:lnTo>
                  <a:lnTo>
                    <a:pt x="855" y="175"/>
                  </a:lnTo>
                  <a:lnTo>
                    <a:pt x="792" y="208"/>
                  </a:lnTo>
                  <a:lnTo>
                    <a:pt x="728" y="243"/>
                  </a:lnTo>
                  <a:lnTo>
                    <a:pt x="672" y="284"/>
                  </a:lnTo>
                  <a:lnTo>
                    <a:pt x="637" y="339"/>
                  </a:lnTo>
                  <a:lnTo>
                    <a:pt x="625" y="415"/>
                  </a:lnTo>
                  <a:lnTo>
                    <a:pt x="637" y="514"/>
                  </a:lnTo>
                  <a:lnTo>
                    <a:pt x="653" y="606"/>
                  </a:lnTo>
                  <a:lnTo>
                    <a:pt x="660" y="697"/>
                  </a:lnTo>
                  <a:lnTo>
                    <a:pt x="637" y="796"/>
                  </a:lnTo>
                  <a:lnTo>
                    <a:pt x="612" y="837"/>
                  </a:lnTo>
                  <a:lnTo>
                    <a:pt x="585" y="868"/>
                  </a:lnTo>
                  <a:lnTo>
                    <a:pt x="550" y="892"/>
                  </a:lnTo>
                  <a:lnTo>
                    <a:pt x="509" y="912"/>
                  </a:lnTo>
                  <a:lnTo>
                    <a:pt x="470" y="923"/>
                  </a:lnTo>
                  <a:lnTo>
                    <a:pt x="426" y="932"/>
                  </a:lnTo>
                  <a:lnTo>
                    <a:pt x="379" y="936"/>
                  </a:lnTo>
                  <a:lnTo>
                    <a:pt x="334" y="936"/>
                  </a:lnTo>
                  <a:lnTo>
                    <a:pt x="303" y="936"/>
                  </a:lnTo>
                  <a:lnTo>
                    <a:pt x="266" y="936"/>
                  </a:lnTo>
                  <a:lnTo>
                    <a:pt x="231" y="932"/>
                  </a:lnTo>
                  <a:lnTo>
                    <a:pt x="200" y="929"/>
                  </a:lnTo>
                  <a:lnTo>
                    <a:pt x="167" y="919"/>
                  </a:lnTo>
                  <a:lnTo>
                    <a:pt x="136" y="908"/>
                  </a:lnTo>
                  <a:lnTo>
                    <a:pt x="108" y="892"/>
                  </a:lnTo>
                  <a:lnTo>
                    <a:pt x="84" y="868"/>
                  </a:lnTo>
                  <a:lnTo>
                    <a:pt x="52" y="812"/>
                  </a:lnTo>
                  <a:lnTo>
                    <a:pt x="41" y="757"/>
                  </a:lnTo>
                  <a:lnTo>
                    <a:pt x="33" y="693"/>
                  </a:lnTo>
                  <a:lnTo>
                    <a:pt x="25" y="633"/>
                  </a:lnTo>
                  <a:lnTo>
                    <a:pt x="8" y="526"/>
                  </a:lnTo>
                  <a:lnTo>
                    <a:pt x="0" y="411"/>
                  </a:lnTo>
                  <a:lnTo>
                    <a:pt x="4" y="296"/>
                  </a:lnTo>
                  <a:lnTo>
                    <a:pt x="12" y="183"/>
                  </a:lnTo>
                  <a:lnTo>
                    <a:pt x="16" y="148"/>
                  </a:lnTo>
                  <a:lnTo>
                    <a:pt x="29" y="121"/>
                  </a:lnTo>
                  <a:lnTo>
                    <a:pt x="37" y="92"/>
                  </a:lnTo>
                  <a:lnTo>
                    <a:pt x="52" y="68"/>
                  </a:lnTo>
                  <a:lnTo>
                    <a:pt x="56" y="64"/>
                  </a:lnTo>
                  <a:lnTo>
                    <a:pt x="72" y="60"/>
                  </a:lnTo>
                  <a:lnTo>
                    <a:pt x="91" y="60"/>
                  </a:lnTo>
                  <a:lnTo>
                    <a:pt x="112" y="72"/>
                  </a:lnTo>
                  <a:close/>
                </a:path>
              </a:pathLst>
            </a:cu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536400" y="546120"/>
              <a:ext cx="187560" cy="404640"/>
            </a:xfrm>
            <a:custGeom>
              <a:avLst/>
              <a:gdLst/>
              <a:ahLst/>
              <a:rect l="l" t="t" r="r" b="b"/>
              <a:pathLst>
                <a:path w="291" h="627">
                  <a:moveTo>
                    <a:pt x="48" y="48"/>
                  </a:moveTo>
                  <a:cubicBezTo>
                    <a:pt x="69" y="51"/>
                    <a:pt x="94" y="18"/>
                    <a:pt x="126" y="18"/>
                  </a:cubicBezTo>
                  <a:cubicBezTo>
                    <a:pt x="158" y="18"/>
                    <a:pt x="208" y="24"/>
                    <a:pt x="240" y="48"/>
                  </a:cubicBezTo>
                  <a:lnTo>
                    <a:pt x="291" y="132"/>
                  </a:lnTo>
                  <a:lnTo>
                    <a:pt x="240" y="240"/>
                  </a:lnTo>
                  <a:lnTo>
                    <a:pt x="192" y="288"/>
                  </a:lnTo>
                  <a:lnTo>
                    <a:pt x="264" y="336"/>
                  </a:lnTo>
                  <a:lnTo>
                    <a:pt x="288" y="480"/>
                  </a:lnTo>
                  <a:cubicBezTo>
                    <a:pt x="264" y="536"/>
                    <a:pt x="80" y="621"/>
                    <a:pt x="48" y="624"/>
                  </a:cubicBezTo>
                  <a:cubicBezTo>
                    <a:pt x="16" y="627"/>
                    <a:pt x="96" y="541"/>
                    <a:pt x="96" y="501"/>
                  </a:cubicBezTo>
                  <a:cubicBezTo>
                    <a:pt x="96" y="473"/>
                    <a:pt x="37" y="488"/>
                    <a:pt x="45" y="453"/>
                  </a:cubicBezTo>
                  <a:cubicBezTo>
                    <a:pt x="53" y="429"/>
                    <a:pt x="136" y="320"/>
                    <a:pt x="144" y="288"/>
                  </a:cubicBezTo>
                  <a:cubicBezTo>
                    <a:pt x="152" y="256"/>
                    <a:pt x="112" y="216"/>
                    <a:pt x="96" y="192"/>
                  </a:cubicBezTo>
                  <a:cubicBezTo>
                    <a:pt x="80" y="168"/>
                    <a:pt x="64" y="168"/>
                    <a:pt x="48" y="144"/>
                  </a:cubicBezTo>
                  <a:cubicBezTo>
                    <a:pt x="32" y="120"/>
                    <a:pt x="8" y="72"/>
                    <a:pt x="0" y="48"/>
                  </a:cubicBezTo>
                  <a:lnTo>
                    <a:pt x="0" y="0"/>
                  </a:lnTo>
                  <a:lnTo>
                    <a:pt x="48" y="48"/>
                  </a:lnTo>
                  <a:close/>
                </a:path>
              </a:pathLst>
            </a:cu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未知"/>
            <p:cNvSpPr/>
            <p:nvPr/>
          </p:nvSpPr>
          <p:spPr>
            <a:xfrm rot="17369400">
              <a:off x="222840" y="408240"/>
              <a:ext cx="609480" cy="598320"/>
            </a:xfrm>
            <a:custGeom>
              <a:avLst/>
              <a:gdLst/>
              <a:ahLst/>
              <a:rect l="l" t="t" r="r" b="b"/>
              <a:pathLst>
                <a:path w="2453" h="2458">
                  <a:moveTo>
                    <a:pt x="1229" y="0"/>
                  </a:moveTo>
                  <a:lnTo>
                    <a:pt x="1101" y="8"/>
                  </a:lnTo>
                  <a:lnTo>
                    <a:pt x="982" y="24"/>
                  </a:lnTo>
                  <a:lnTo>
                    <a:pt x="862" y="55"/>
                  </a:lnTo>
                  <a:lnTo>
                    <a:pt x="751" y="95"/>
                  </a:lnTo>
                  <a:lnTo>
                    <a:pt x="644" y="146"/>
                  </a:lnTo>
                  <a:lnTo>
                    <a:pt x="541" y="210"/>
                  </a:lnTo>
                  <a:lnTo>
                    <a:pt x="446" y="278"/>
                  </a:lnTo>
                  <a:lnTo>
                    <a:pt x="358" y="357"/>
                  </a:lnTo>
                  <a:lnTo>
                    <a:pt x="279" y="445"/>
                  </a:lnTo>
                  <a:lnTo>
                    <a:pt x="211" y="540"/>
                  </a:lnTo>
                  <a:lnTo>
                    <a:pt x="147" y="643"/>
                  </a:lnTo>
                  <a:lnTo>
                    <a:pt x="95" y="752"/>
                  </a:lnTo>
                  <a:lnTo>
                    <a:pt x="56" y="863"/>
                  </a:lnTo>
                  <a:lnTo>
                    <a:pt x="24" y="982"/>
                  </a:lnTo>
                  <a:lnTo>
                    <a:pt x="7" y="1101"/>
                  </a:lnTo>
                  <a:lnTo>
                    <a:pt x="0" y="1229"/>
                  </a:lnTo>
                  <a:lnTo>
                    <a:pt x="7" y="1352"/>
                  </a:lnTo>
                  <a:lnTo>
                    <a:pt x="24" y="1475"/>
                  </a:lnTo>
                  <a:lnTo>
                    <a:pt x="56" y="1595"/>
                  </a:lnTo>
                  <a:lnTo>
                    <a:pt x="95" y="1706"/>
                  </a:lnTo>
                  <a:lnTo>
                    <a:pt x="147" y="1813"/>
                  </a:lnTo>
                  <a:lnTo>
                    <a:pt x="211" y="1913"/>
                  </a:lnTo>
                  <a:lnTo>
                    <a:pt x="279" y="2008"/>
                  </a:lnTo>
                  <a:lnTo>
                    <a:pt x="358" y="2096"/>
                  </a:lnTo>
                  <a:lnTo>
                    <a:pt x="446" y="2176"/>
                  </a:lnTo>
                  <a:lnTo>
                    <a:pt x="541" y="2248"/>
                  </a:lnTo>
                  <a:lnTo>
                    <a:pt x="644" y="2310"/>
                  </a:lnTo>
                  <a:lnTo>
                    <a:pt x="751" y="2363"/>
                  </a:lnTo>
                  <a:lnTo>
                    <a:pt x="862" y="2402"/>
                  </a:lnTo>
                  <a:lnTo>
                    <a:pt x="982" y="2434"/>
                  </a:lnTo>
                  <a:lnTo>
                    <a:pt x="1101" y="2450"/>
                  </a:lnTo>
                  <a:lnTo>
                    <a:pt x="1229" y="2458"/>
                  </a:lnTo>
                  <a:lnTo>
                    <a:pt x="1352" y="2450"/>
                  </a:lnTo>
                  <a:lnTo>
                    <a:pt x="1476" y="2434"/>
                  </a:lnTo>
                  <a:lnTo>
                    <a:pt x="1594" y="2402"/>
                  </a:lnTo>
                  <a:lnTo>
                    <a:pt x="1705" y="2363"/>
                  </a:lnTo>
                  <a:lnTo>
                    <a:pt x="1814" y="2310"/>
                  </a:lnTo>
                  <a:lnTo>
                    <a:pt x="1913" y="2248"/>
                  </a:lnTo>
                  <a:lnTo>
                    <a:pt x="2008" y="2176"/>
                  </a:lnTo>
                  <a:lnTo>
                    <a:pt x="2096" y="2096"/>
                  </a:lnTo>
                  <a:lnTo>
                    <a:pt x="2175" y="2008"/>
                  </a:lnTo>
                  <a:lnTo>
                    <a:pt x="2243" y="1913"/>
                  </a:lnTo>
                  <a:lnTo>
                    <a:pt x="2306" y="1813"/>
                  </a:lnTo>
                  <a:lnTo>
                    <a:pt x="2358" y="1706"/>
                  </a:lnTo>
                  <a:lnTo>
                    <a:pt x="2397" y="1595"/>
                  </a:lnTo>
                  <a:lnTo>
                    <a:pt x="2430" y="1475"/>
                  </a:lnTo>
                  <a:lnTo>
                    <a:pt x="2445" y="1352"/>
                  </a:lnTo>
                  <a:lnTo>
                    <a:pt x="2453" y="1229"/>
                  </a:lnTo>
                  <a:lnTo>
                    <a:pt x="2445" y="1101"/>
                  </a:lnTo>
                  <a:lnTo>
                    <a:pt x="2430" y="982"/>
                  </a:lnTo>
                  <a:lnTo>
                    <a:pt x="2397" y="863"/>
                  </a:lnTo>
                  <a:lnTo>
                    <a:pt x="2358" y="752"/>
                  </a:lnTo>
                  <a:lnTo>
                    <a:pt x="2306" y="643"/>
                  </a:lnTo>
                  <a:lnTo>
                    <a:pt x="2243" y="540"/>
                  </a:lnTo>
                  <a:lnTo>
                    <a:pt x="2175" y="445"/>
                  </a:lnTo>
                  <a:lnTo>
                    <a:pt x="2096" y="357"/>
                  </a:lnTo>
                  <a:lnTo>
                    <a:pt x="2008" y="278"/>
                  </a:lnTo>
                  <a:lnTo>
                    <a:pt x="1913" y="210"/>
                  </a:lnTo>
                  <a:lnTo>
                    <a:pt x="1814" y="146"/>
                  </a:lnTo>
                  <a:lnTo>
                    <a:pt x="1705" y="95"/>
                  </a:lnTo>
                  <a:lnTo>
                    <a:pt x="1594" y="55"/>
                  </a:lnTo>
                  <a:lnTo>
                    <a:pt x="1476" y="24"/>
                  </a:lnTo>
                  <a:lnTo>
                    <a:pt x="1352" y="8"/>
                  </a:lnTo>
                  <a:lnTo>
                    <a:pt x="1229" y="0"/>
                  </a:lnTo>
                  <a:close/>
                  <a:moveTo>
                    <a:pt x="1324" y="2263"/>
                  </a:moveTo>
                  <a:lnTo>
                    <a:pt x="1217" y="2259"/>
                  </a:lnTo>
                  <a:lnTo>
                    <a:pt x="1113" y="2244"/>
                  </a:lnTo>
                  <a:lnTo>
                    <a:pt x="1010" y="2215"/>
                  </a:lnTo>
                  <a:lnTo>
                    <a:pt x="914" y="2180"/>
                  </a:lnTo>
                  <a:lnTo>
                    <a:pt x="823" y="2136"/>
                  </a:lnTo>
                  <a:lnTo>
                    <a:pt x="736" y="2084"/>
                  </a:lnTo>
                  <a:lnTo>
                    <a:pt x="656" y="2024"/>
                  </a:lnTo>
                  <a:lnTo>
                    <a:pt x="580" y="1957"/>
                  </a:lnTo>
                  <a:lnTo>
                    <a:pt x="512" y="1881"/>
                  </a:lnTo>
                  <a:lnTo>
                    <a:pt x="454" y="1802"/>
                  </a:lnTo>
                  <a:lnTo>
                    <a:pt x="402" y="1718"/>
                  </a:lnTo>
                  <a:lnTo>
                    <a:pt x="358" y="1626"/>
                  </a:lnTo>
                  <a:lnTo>
                    <a:pt x="322" y="1531"/>
                  </a:lnTo>
                  <a:lnTo>
                    <a:pt x="295" y="1432"/>
                  </a:lnTo>
                  <a:lnTo>
                    <a:pt x="279" y="1328"/>
                  </a:lnTo>
                  <a:lnTo>
                    <a:pt x="275" y="1221"/>
                  </a:lnTo>
                  <a:lnTo>
                    <a:pt x="279" y="1114"/>
                  </a:lnTo>
                  <a:lnTo>
                    <a:pt x="295" y="1009"/>
                  </a:lnTo>
                  <a:lnTo>
                    <a:pt x="322" y="910"/>
                  </a:lnTo>
                  <a:lnTo>
                    <a:pt x="358" y="815"/>
                  </a:lnTo>
                  <a:lnTo>
                    <a:pt x="402" y="723"/>
                  </a:lnTo>
                  <a:lnTo>
                    <a:pt x="454" y="635"/>
                  </a:lnTo>
                  <a:lnTo>
                    <a:pt x="512" y="557"/>
                  </a:lnTo>
                  <a:lnTo>
                    <a:pt x="580" y="481"/>
                  </a:lnTo>
                  <a:lnTo>
                    <a:pt x="656" y="413"/>
                  </a:lnTo>
                  <a:lnTo>
                    <a:pt x="736" y="353"/>
                  </a:lnTo>
                  <a:lnTo>
                    <a:pt x="823" y="302"/>
                  </a:lnTo>
                  <a:lnTo>
                    <a:pt x="914" y="258"/>
                  </a:lnTo>
                  <a:lnTo>
                    <a:pt x="1010" y="222"/>
                  </a:lnTo>
                  <a:lnTo>
                    <a:pt x="1113" y="195"/>
                  </a:lnTo>
                  <a:lnTo>
                    <a:pt x="1217" y="178"/>
                  </a:lnTo>
                  <a:lnTo>
                    <a:pt x="1324" y="174"/>
                  </a:lnTo>
                  <a:lnTo>
                    <a:pt x="1427" y="178"/>
                  </a:lnTo>
                  <a:lnTo>
                    <a:pt x="1530" y="195"/>
                  </a:lnTo>
                  <a:lnTo>
                    <a:pt x="1630" y="222"/>
                  </a:lnTo>
                  <a:lnTo>
                    <a:pt x="1726" y="258"/>
                  </a:lnTo>
                  <a:lnTo>
                    <a:pt x="1818" y="302"/>
                  </a:lnTo>
                  <a:lnTo>
                    <a:pt x="1901" y="353"/>
                  </a:lnTo>
                  <a:lnTo>
                    <a:pt x="1985" y="413"/>
                  </a:lnTo>
                  <a:lnTo>
                    <a:pt x="2055" y="481"/>
                  </a:lnTo>
                  <a:lnTo>
                    <a:pt x="2123" y="557"/>
                  </a:lnTo>
                  <a:lnTo>
                    <a:pt x="2183" y="635"/>
                  </a:lnTo>
                  <a:lnTo>
                    <a:pt x="2235" y="723"/>
                  </a:lnTo>
                  <a:lnTo>
                    <a:pt x="2278" y="815"/>
                  </a:lnTo>
                  <a:lnTo>
                    <a:pt x="2313" y="910"/>
                  </a:lnTo>
                  <a:lnTo>
                    <a:pt x="2342" y="1009"/>
                  </a:lnTo>
                  <a:lnTo>
                    <a:pt x="2358" y="1114"/>
                  </a:lnTo>
                  <a:lnTo>
                    <a:pt x="2362" y="1221"/>
                  </a:lnTo>
                  <a:lnTo>
                    <a:pt x="2358" y="1328"/>
                  </a:lnTo>
                  <a:lnTo>
                    <a:pt x="2342" y="1432"/>
                  </a:lnTo>
                  <a:lnTo>
                    <a:pt x="2313" y="1531"/>
                  </a:lnTo>
                  <a:lnTo>
                    <a:pt x="2278" y="1626"/>
                  </a:lnTo>
                  <a:lnTo>
                    <a:pt x="2235" y="1718"/>
                  </a:lnTo>
                  <a:lnTo>
                    <a:pt x="2183" y="1802"/>
                  </a:lnTo>
                  <a:lnTo>
                    <a:pt x="2123" y="1881"/>
                  </a:lnTo>
                  <a:lnTo>
                    <a:pt x="2055" y="1957"/>
                  </a:lnTo>
                  <a:lnTo>
                    <a:pt x="1985" y="2024"/>
                  </a:lnTo>
                  <a:lnTo>
                    <a:pt x="1901" y="2084"/>
                  </a:lnTo>
                  <a:lnTo>
                    <a:pt x="1818" y="2136"/>
                  </a:lnTo>
                  <a:lnTo>
                    <a:pt x="1726" y="2180"/>
                  </a:lnTo>
                  <a:lnTo>
                    <a:pt x="1630" y="2215"/>
                  </a:lnTo>
                  <a:lnTo>
                    <a:pt x="1530" y="2244"/>
                  </a:lnTo>
                  <a:lnTo>
                    <a:pt x="1427" y="2259"/>
                  </a:lnTo>
                  <a:lnTo>
                    <a:pt x="1324" y="226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" name=""/>
          <p:cNvGrpSpPr/>
          <p:nvPr/>
        </p:nvGrpSpPr>
        <p:grpSpPr>
          <a:xfrm>
            <a:off x="7676640" y="1743120"/>
            <a:ext cx="1377720" cy="1298520"/>
            <a:chOff x="7676640" y="1743120"/>
            <a:chExt cx="1377720" cy="1298520"/>
          </a:xfrm>
        </p:grpSpPr>
        <p:sp>
          <p:nvSpPr>
            <p:cNvPr id="26" name=""/>
            <p:cNvSpPr/>
            <p:nvPr/>
          </p:nvSpPr>
          <p:spPr>
            <a:xfrm rot="13775400">
              <a:off x="7906680" y="2664720"/>
              <a:ext cx="186480" cy="176400"/>
            </a:xfrm>
            <a:prstGeom prst="ellips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fefef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3775400">
              <a:off x="8420400" y="2473560"/>
              <a:ext cx="263880" cy="250200"/>
            </a:xfrm>
            <a:prstGeom prst="ellips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fefef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rot="13775400">
              <a:off x="7986240" y="2298240"/>
              <a:ext cx="196560" cy="186120"/>
            </a:xfrm>
            <a:prstGeom prst="ellips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fefef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rot="13775400">
              <a:off x="8890560" y="2167200"/>
              <a:ext cx="137880" cy="131040"/>
            </a:xfrm>
            <a:prstGeom prst="ellips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fefef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>
              <a:off x="8646120" y="2283120"/>
              <a:ext cx="275040" cy="234360"/>
            </a:xfrm>
            <a:prstGeom prst="line">
              <a:avLst/>
            </a:prstGeom>
            <a:ln w="12600">
              <a:solidFill>
                <a:srgbClr val="fefef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 flipV="1">
              <a:off x="8161920" y="2415600"/>
              <a:ext cx="257040" cy="167400"/>
            </a:xfrm>
            <a:prstGeom prst="line">
              <a:avLst/>
            </a:prstGeom>
            <a:ln w="9360">
              <a:solidFill>
                <a:srgbClr val="fefef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>
              <a:off x="8015400" y="2492280"/>
              <a:ext cx="43920" cy="189360"/>
            </a:xfrm>
            <a:prstGeom prst="line">
              <a:avLst/>
            </a:prstGeom>
            <a:ln w="9360">
              <a:solidFill>
                <a:srgbClr val="fefef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3775400">
              <a:off x="7701840" y="2197080"/>
              <a:ext cx="137880" cy="131040"/>
            </a:xfrm>
            <a:prstGeom prst="ellips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fefef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3775400">
              <a:off x="8200800" y="1992960"/>
              <a:ext cx="157680" cy="149760"/>
            </a:xfrm>
            <a:prstGeom prst="ellips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fefef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 flipV="1">
              <a:off x="8129520" y="2118960"/>
              <a:ext cx="139680" cy="182880"/>
            </a:xfrm>
            <a:prstGeom prst="line">
              <a:avLst/>
            </a:prstGeom>
            <a:ln w="9360">
              <a:solidFill>
                <a:srgbClr val="fefef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flipH="1" flipV="1">
              <a:off x="7803000" y="2310840"/>
              <a:ext cx="190440" cy="29160"/>
            </a:xfrm>
            <a:prstGeom prst="line">
              <a:avLst/>
            </a:prstGeom>
            <a:ln w="9360">
              <a:solidFill>
                <a:srgbClr val="fefef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3775400">
              <a:off x="8438400" y="2881080"/>
              <a:ext cx="137880" cy="131040"/>
            </a:xfrm>
            <a:prstGeom prst="ellips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fefef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flipV="1">
              <a:off x="8538840" y="2739240"/>
              <a:ext cx="12960" cy="165600"/>
            </a:xfrm>
            <a:prstGeom prst="line">
              <a:avLst/>
            </a:prstGeom>
            <a:ln w="9360">
              <a:solidFill>
                <a:srgbClr val="fefef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8328240" y="2076840"/>
              <a:ext cx="184680" cy="123480"/>
            </a:xfrm>
            <a:prstGeom prst="line">
              <a:avLst/>
            </a:prstGeom>
            <a:ln w="9360">
              <a:solidFill>
                <a:srgbClr val="fefef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3775400">
              <a:off x="8468640" y="2149200"/>
              <a:ext cx="137880" cy="130680"/>
            </a:xfrm>
            <a:prstGeom prst="ellips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fefef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 flipV="1">
              <a:off x="8292960" y="1921680"/>
              <a:ext cx="13320" cy="75240"/>
            </a:xfrm>
            <a:prstGeom prst="line">
              <a:avLst/>
            </a:prstGeom>
            <a:ln w="9360">
              <a:solidFill>
                <a:srgbClr val="fefef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3775400">
              <a:off x="8270280" y="1772640"/>
              <a:ext cx="137880" cy="131040"/>
            </a:xfrm>
            <a:prstGeom prst="ellips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fefef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" name=""/>
          <p:cNvGrpSpPr/>
          <p:nvPr/>
        </p:nvGrpSpPr>
        <p:grpSpPr>
          <a:xfrm>
            <a:off x="8278200" y="4431600"/>
            <a:ext cx="508680" cy="507960"/>
            <a:chOff x="8278200" y="4431600"/>
            <a:chExt cx="508680" cy="507960"/>
          </a:xfrm>
        </p:grpSpPr>
        <p:sp>
          <p:nvSpPr>
            <p:cNvPr id="44" name="未知"/>
            <p:cNvSpPr/>
            <p:nvPr/>
          </p:nvSpPr>
          <p:spPr>
            <a:xfrm rot="6957000">
              <a:off x="8342640" y="4494960"/>
              <a:ext cx="379440" cy="380880"/>
            </a:xfrm>
            <a:custGeom>
              <a:avLst/>
              <a:gdLst/>
              <a:ahLst/>
              <a:rect l="l" t="t" r="r" b="b"/>
              <a:pathLst>
                <a:path w="2453" h="2458">
                  <a:moveTo>
                    <a:pt x="1229" y="0"/>
                  </a:moveTo>
                  <a:lnTo>
                    <a:pt x="1101" y="8"/>
                  </a:lnTo>
                  <a:lnTo>
                    <a:pt x="982" y="24"/>
                  </a:lnTo>
                  <a:lnTo>
                    <a:pt x="862" y="55"/>
                  </a:lnTo>
                  <a:lnTo>
                    <a:pt x="751" y="95"/>
                  </a:lnTo>
                  <a:lnTo>
                    <a:pt x="644" y="146"/>
                  </a:lnTo>
                  <a:lnTo>
                    <a:pt x="541" y="210"/>
                  </a:lnTo>
                  <a:lnTo>
                    <a:pt x="446" y="278"/>
                  </a:lnTo>
                  <a:lnTo>
                    <a:pt x="358" y="357"/>
                  </a:lnTo>
                  <a:lnTo>
                    <a:pt x="279" y="445"/>
                  </a:lnTo>
                  <a:lnTo>
                    <a:pt x="211" y="540"/>
                  </a:lnTo>
                  <a:lnTo>
                    <a:pt x="147" y="643"/>
                  </a:lnTo>
                  <a:lnTo>
                    <a:pt x="95" y="752"/>
                  </a:lnTo>
                  <a:lnTo>
                    <a:pt x="56" y="863"/>
                  </a:lnTo>
                  <a:lnTo>
                    <a:pt x="24" y="982"/>
                  </a:lnTo>
                  <a:lnTo>
                    <a:pt x="7" y="1101"/>
                  </a:lnTo>
                  <a:lnTo>
                    <a:pt x="0" y="1229"/>
                  </a:lnTo>
                  <a:lnTo>
                    <a:pt x="7" y="1352"/>
                  </a:lnTo>
                  <a:lnTo>
                    <a:pt x="24" y="1475"/>
                  </a:lnTo>
                  <a:lnTo>
                    <a:pt x="56" y="1595"/>
                  </a:lnTo>
                  <a:lnTo>
                    <a:pt x="95" y="1706"/>
                  </a:lnTo>
                  <a:lnTo>
                    <a:pt x="147" y="1813"/>
                  </a:lnTo>
                  <a:lnTo>
                    <a:pt x="211" y="1913"/>
                  </a:lnTo>
                  <a:lnTo>
                    <a:pt x="279" y="2008"/>
                  </a:lnTo>
                  <a:lnTo>
                    <a:pt x="358" y="2096"/>
                  </a:lnTo>
                  <a:lnTo>
                    <a:pt x="446" y="2176"/>
                  </a:lnTo>
                  <a:lnTo>
                    <a:pt x="541" y="2248"/>
                  </a:lnTo>
                  <a:lnTo>
                    <a:pt x="644" y="2310"/>
                  </a:lnTo>
                  <a:lnTo>
                    <a:pt x="751" y="2363"/>
                  </a:lnTo>
                  <a:lnTo>
                    <a:pt x="862" y="2402"/>
                  </a:lnTo>
                  <a:lnTo>
                    <a:pt x="982" y="2434"/>
                  </a:lnTo>
                  <a:lnTo>
                    <a:pt x="1101" y="2450"/>
                  </a:lnTo>
                  <a:lnTo>
                    <a:pt x="1229" y="2458"/>
                  </a:lnTo>
                  <a:lnTo>
                    <a:pt x="1352" y="2450"/>
                  </a:lnTo>
                  <a:lnTo>
                    <a:pt x="1476" y="2434"/>
                  </a:lnTo>
                  <a:lnTo>
                    <a:pt x="1594" y="2402"/>
                  </a:lnTo>
                  <a:lnTo>
                    <a:pt x="1705" y="2363"/>
                  </a:lnTo>
                  <a:lnTo>
                    <a:pt x="1814" y="2310"/>
                  </a:lnTo>
                  <a:lnTo>
                    <a:pt x="1913" y="2248"/>
                  </a:lnTo>
                  <a:lnTo>
                    <a:pt x="2008" y="2176"/>
                  </a:lnTo>
                  <a:lnTo>
                    <a:pt x="2096" y="2096"/>
                  </a:lnTo>
                  <a:lnTo>
                    <a:pt x="2175" y="2008"/>
                  </a:lnTo>
                  <a:lnTo>
                    <a:pt x="2243" y="1913"/>
                  </a:lnTo>
                  <a:lnTo>
                    <a:pt x="2306" y="1813"/>
                  </a:lnTo>
                  <a:lnTo>
                    <a:pt x="2358" y="1706"/>
                  </a:lnTo>
                  <a:lnTo>
                    <a:pt x="2397" y="1595"/>
                  </a:lnTo>
                  <a:lnTo>
                    <a:pt x="2430" y="1475"/>
                  </a:lnTo>
                  <a:lnTo>
                    <a:pt x="2445" y="1352"/>
                  </a:lnTo>
                  <a:lnTo>
                    <a:pt x="2453" y="1229"/>
                  </a:lnTo>
                  <a:lnTo>
                    <a:pt x="2445" y="1101"/>
                  </a:lnTo>
                  <a:lnTo>
                    <a:pt x="2430" y="982"/>
                  </a:lnTo>
                  <a:lnTo>
                    <a:pt x="2397" y="863"/>
                  </a:lnTo>
                  <a:lnTo>
                    <a:pt x="2358" y="752"/>
                  </a:lnTo>
                  <a:lnTo>
                    <a:pt x="2306" y="643"/>
                  </a:lnTo>
                  <a:lnTo>
                    <a:pt x="2243" y="540"/>
                  </a:lnTo>
                  <a:lnTo>
                    <a:pt x="2175" y="445"/>
                  </a:lnTo>
                  <a:lnTo>
                    <a:pt x="2096" y="357"/>
                  </a:lnTo>
                  <a:lnTo>
                    <a:pt x="2008" y="278"/>
                  </a:lnTo>
                  <a:lnTo>
                    <a:pt x="1913" y="210"/>
                  </a:lnTo>
                  <a:lnTo>
                    <a:pt x="1814" y="146"/>
                  </a:lnTo>
                  <a:lnTo>
                    <a:pt x="1705" y="95"/>
                  </a:lnTo>
                  <a:lnTo>
                    <a:pt x="1594" y="55"/>
                  </a:lnTo>
                  <a:lnTo>
                    <a:pt x="1476" y="24"/>
                  </a:lnTo>
                  <a:lnTo>
                    <a:pt x="1352" y="8"/>
                  </a:lnTo>
                  <a:lnTo>
                    <a:pt x="1229" y="0"/>
                  </a:lnTo>
                  <a:close/>
                  <a:moveTo>
                    <a:pt x="1324" y="2263"/>
                  </a:moveTo>
                  <a:lnTo>
                    <a:pt x="1217" y="2259"/>
                  </a:lnTo>
                  <a:lnTo>
                    <a:pt x="1113" y="2244"/>
                  </a:lnTo>
                  <a:lnTo>
                    <a:pt x="1010" y="2215"/>
                  </a:lnTo>
                  <a:lnTo>
                    <a:pt x="914" y="2180"/>
                  </a:lnTo>
                  <a:lnTo>
                    <a:pt x="823" y="2136"/>
                  </a:lnTo>
                  <a:lnTo>
                    <a:pt x="736" y="2084"/>
                  </a:lnTo>
                  <a:lnTo>
                    <a:pt x="656" y="2024"/>
                  </a:lnTo>
                  <a:lnTo>
                    <a:pt x="580" y="1957"/>
                  </a:lnTo>
                  <a:lnTo>
                    <a:pt x="512" y="1881"/>
                  </a:lnTo>
                  <a:lnTo>
                    <a:pt x="454" y="1802"/>
                  </a:lnTo>
                  <a:lnTo>
                    <a:pt x="402" y="1718"/>
                  </a:lnTo>
                  <a:lnTo>
                    <a:pt x="358" y="1626"/>
                  </a:lnTo>
                  <a:lnTo>
                    <a:pt x="322" y="1531"/>
                  </a:lnTo>
                  <a:lnTo>
                    <a:pt x="295" y="1432"/>
                  </a:lnTo>
                  <a:lnTo>
                    <a:pt x="279" y="1328"/>
                  </a:lnTo>
                  <a:lnTo>
                    <a:pt x="275" y="1221"/>
                  </a:lnTo>
                  <a:lnTo>
                    <a:pt x="279" y="1114"/>
                  </a:lnTo>
                  <a:lnTo>
                    <a:pt x="295" y="1009"/>
                  </a:lnTo>
                  <a:lnTo>
                    <a:pt x="322" y="910"/>
                  </a:lnTo>
                  <a:lnTo>
                    <a:pt x="358" y="815"/>
                  </a:lnTo>
                  <a:lnTo>
                    <a:pt x="402" y="723"/>
                  </a:lnTo>
                  <a:lnTo>
                    <a:pt x="454" y="635"/>
                  </a:lnTo>
                  <a:lnTo>
                    <a:pt x="512" y="557"/>
                  </a:lnTo>
                  <a:lnTo>
                    <a:pt x="580" y="481"/>
                  </a:lnTo>
                  <a:lnTo>
                    <a:pt x="656" y="413"/>
                  </a:lnTo>
                  <a:lnTo>
                    <a:pt x="736" y="353"/>
                  </a:lnTo>
                  <a:lnTo>
                    <a:pt x="823" y="302"/>
                  </a:lnTo>
                  <a:lnTo>
                    <a:pt x="914" y="258"/>
                  </a:lnTo>
                  <a:lnTo>
                    <a:pt x="1010" y="222"/>
                  </a:lnTo>
                  <a:lnTo>
                    <a:pt x="1113" y="195"/>
                  </a:lnTo>
                  <a:lnTo>
                    <a:pt x="1217" y="178"/>
                  </a:lnTo>
                  <a:lnTo>
                    <a:pt x="1324" y="174"/>
                  </a:lnTo>
                  <a:lnTo>
                    <a:pt x="1427" y="178"/>
                  </a:lnTo>
                  <a:lnTo>
                    <a:pt x="1530" y="195"/>
                  </a:lnTo>
                  <a:lnTo>
                    <a:pt x="1630" y="222"/>
                  </a:lnTo>
                  <a:lnTo>
                    <a:pt x="1726" y="258"/>
                  </a:lnTo>
                  <a:lnTo>
                    <a:pt x="1818" y="302"/>
                  </a:lnTo>
                  <a:lnTo>
                    <a:pt x="1901" y="353"/>
                  </a:lnTo>
                  <a:lnTo>
                    <a:pt x="1985" y="413"/>
                  </a:lnTo>
                  <a:lnTo>
                    <a:pt x="2055" y="481"/>
                  </a:lnTo>
                  <a:lnTo>
                    <a:pt x="2123" y="557"/>
                  </a:lnTo>
                  <a:lnTo>
                    <a:pt x="2183" y="635"/>
                  </a:lnTo>
                  <a:lnTo>
                    <a:pt x="2235" y="723"/>
                  </a:lnTo>
                  <a:lnTo>
                    <a:pt x="2278" y="815"/>
                  </a:lnTo>
                  <a:lnTo>
                    <a:pt x="2313" y="910"/>
                  </a:lnTo>
                  <a:lnTo>
                    <a:pt x="2342" y="1009"/>
                  </a:lnTo>
                  <a:lnTo>
                    <a:pt x="2358" y="1114"/>
                  </a:lnTo>
                  <a:lnTo>
                    <a:pt x="2362" y="1221"/>
                  </a:lnTo>
                  <a:lnTo>
                    <a:pt x="2358" y="1328"/>
                  </a:lnTo>
                  <a:lnTo>
                    <a:pt x="2342" y="1432"/>
                  </a:lnTo>
                  <a:lnTo>
                    <a:pt x="2313" y="1531"/>
                  </a:lnTo>
                  <a:lnTo>
                    <a:pt x="2278" y="1626"/>
                  </a:lnTo>
                  <a:lnTo>
                    <a:pt x="2235" y="1718"/>
                  </a:lnTo>
                  <a:lnTo>
                    <a:pt x="2183" y="1802"/>
                  </a:lnTo>
                  <a:lnTo>
                    <a:pt x="2123" y="1881"/>
                  </a:lnTo>
                  <a:lnTo>
                    <a:pt x="2055" y="1957"/>
                  </a:lnTo>
                  <a:lnTo>
                    <a:pt x="1985" y="2024"/>
                  </a:lnTo>
                  <a:lnTo>
                    <a:pt x="1901" y="2084"/>
                  </a:lnTo>
                  <a:lnTo>
                    <a:pt x="1818" y="2136"/>
                  </a:lnTo>
                  <a:lnTo>
                    <a:pt x="1726" y="2180"/>
                  </a:lnTo>
                  <a:lnTo>
                    <a:pt x="1630" y="2215"/>
                  </a:lnTo>
                  <a:lnTo>
                    <a:pt x="1530" y="2244"/>
                  </a:lnTo>
                  <a:lnTo>
                    <a:pt x="1427" y="2259"/>
                  </a:lnTo>
                  <a:lnTo>
                    <a:pt x="1324" y="226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 rot="11706000">
              <a:off x="8415720" y="4574880"/>
              <a:ext cx="307080" cy="120960"/>
            </a:xfrm>
            <a:custGeom>
              <a:avLst/>
              <a:gdLst/>
              <a:ahLst/>
              <a:rect l="l" t="t" r="r" b="b"/>
              <a:pathLst>
                <a:path w="1731" h="344">
                  <a:moveTo>
                    <a:pt x="0" y="176"/>
                  </a:moveTo>
                  <a:cubicBezTo>
                    <a:pt x="856" y="0"/>
                    <a:pt x="1604" y="344"/>
                    <a:pt x="1604" y="344"/>
                  </a:cubicBezTo>
                  <a:cubicBezTo>
                    <a:pt x="1731" y="327"/>
                    <a:pt x="1056" y="80"/>
                    <a:pt x="760" y="72"/>
                  </a:cubicBezTo>
                  <a:cubicBezTo>
                    <a:pt x="464" y="64"/>
                    <a:pt x="244" y="60"/>
                    <a:pt x="0" y="176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 flipH="1" rot="2208000">
              <a:off x="8336160" y="4694040"/>
              <a:ext cx="307080" cy="118080"/>
            </a:xfrm>
            <a:custGeom>
              <a:avLst/>
              <a:gdLst/>
              <a:ahLst/>
              <a:rect l="l" t="t" r="r" b="b"/>
              <a:pathLst>
                <a:path w="1731" h="344">
                  <a:moveTo>
                    <a:pt x="0" y="176"/>
                  </a:moveTo>
                  <a:cubicBezTo>
                    <a:pt x="856" y="0"/>
                    <a:pt x="1604" y="344"/>
                    <a:pt x="1604" y="344"/>
                  </a:cubicBezTo>
                  <a:cubicBezTo>
                    <a:pt x="1731" y="327"/>
                    <a:pt x="1056" y="80"/>
                    <a:pt x="760" y="72"/>
                  </a:cubicBezTo>
                  <a:cubicBezTo>
                    <a:pt x="464" y="64"/>
                    <a:pt x="244" y="60"/>
                    <a:pt x="0" y="176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 rot="6957000">
              <a:off x="8523720" y="4764960"/>
              <a:ext cx="74520" cy="19080"/>
            </a:xfrm>
            <a:custGeom>
              <a:avLst/>
              <a:gdLst/>
              <a:ahLst/>
              <a:rect l="l" t="t" r="r" b="b"/>
              <a:pathLst>
                <a:path w="133" h="34">
                  <a:moveTo>
                    <a:pt x="0" y="32"/>
                  </a:moveTo>
                  <a:cubicBezTo>
                    <a:pt x="112" y="0"/>
                    <a:pt x="107" y="34"/>
                    <a:pt x="122" y="30"/>
                  </a:cubicBezTo>
                  <a:cubicBezTo>
                    <a:pt x="133" y="26"/>
                    <a:pt x="88" y="8"/>
                    <a:pt x="68" y="8"/>
                  </a:cubicBezTo>
                  <a:cubicBezTo>
                    <a:pt x="41" y="6"/>
                    <a:pt x="33" y="16"/>
                    <a:pt x="0" y="3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未知"/>
            <p:cNvSpPr/>
            <p:nvPr/>
          </p:nvSpPr>
          <p:spPr>
            <a:xfrm rot="6957000">
              <a:off x="8545320" y="4788720"/>
              <a:ext cx="74520" cy="19080"/>
            </a:xfrm>
            <a:custGeom>
              <a:avLst/>
              <a:gdLst/>
              <a:ahLst/>
              <a:rect l="l" t="t" r="r" b="b"/>
              <a:pathLst>
                <a:path w="133" h="34">
                  <a:moveTo>
                    <a:pt x="0" y="32"/>
                  </a:moveTo>
                  <a:cubicBezTo>
                    <a:pt x="112" y="0"/>
                    <a:pt x="107" y="34"/>
                    <a:pt x="122" y="30"/>
                  </a:cubicBezTo>
                  <a:cubicBezTo>
                    <a:pt x="133" y="26"/>
                    <a:pt x="88" y="8"/>
                    <a:pt x="68" y="8"/>
                  </a:cubicBezTo>
                  <a:cubicBezTo>
                    <a:pt x="41" y="6"/>
                    <a:pt x="33" y="16"/>
                    <a:pt x="0" y="3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未知"/>
            <p:cNvSpPr/>
            <p:nvPr/>
          </p:nvSpPr>
          <p:spPr>
            <a:xfrm rot="6957000">
              <a:off x="8494920" y="4749480"/>
              <a:ext cx="74520" cy="19080"/>
            </a:xfrm>
            <a:custGeom>
              <a:avLst/>
              <a:gdLst/>
              <a:ahLst/>
              <a:rect l="l" t="t" r="r" b="b"/>
              <a:pathLst>
                <a:path w="133" h="34">
                  <a:moveTo>
                    <a:pt x="0" y="32"/>
                  </a:moveTo>
                  <a:cubicBezTo>
                    <a:pt x="112" y="0"/>
                    <a:pt x="107" y="34"/>
                    <a:pt x="122" y="30"/>
                  </a:cubicBezTo>
                  <a:cubicBezTo>
                    <a:pt x="133" y="26"/>
                    <a:pt x="88" y="8"/>
                    <a:pt x="68" y="8"/>
                  </a:cubicBezTo>
                  <a:cubicBezTo>
                    <a:pt x="41" y="6"/>
                    <a:pt x="33" y="16"/>
                    <a:pt x="0" y="3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 rot="6957000">
              <a:off x="8472240" y="4738320"/>
              <a:ext cx="74520" cy="19080"/>
            </a:xfrm>
            <a:custGeom>
              <a:avLst/>
              <a:gdLst/>
              <a:ahLst/>
              <a:rect l="l" t="t" r="r" b="b"/>
              <a:pathLst>
                <a:path w="133" h="34">
                  <a:moveTo>
                    <a:pt x="0" y="32"/>
                  </a:moveTo>
                  <a:cubicBezTo>
                    <a:pt x="112" y="0"/>
                    <a:pt x="107" y="34"/>
                    <a:pt x="122" y="30"/>
                  </a:cubicBezTo>
                  <a:cubicBezTo>
                    <a:pt x="133" y="26"/>
                    <a:pt x="88" y="8"/>
                    <a:pt x="68" y="8"/>
                  </a:cubicBezTo>
                  <a:cubicBezTo>
                    <a:pt x="41" y="6"/>
                    <a:pt x="33" y="16"/>
                    <a:pt x="0" y="3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 rot="6957000">
              <a:off x="8448480" y="4726800"/>
              <a:ext cx="74520" cy="19080"/>
            </a:xfrm>
            <a:custGeom>
              <a:avLst/>
              <a:gdLst/>
              <a:ahLst/>
              <a:rect l="l" t="t" r="r" b="b"/>
              <a:pathLst>
                <a:path w="133" h="34">
                  <a:moveTo>
                    <a:pt x="0" y="32"/>
                  </a:moveTo>
                  <a:cubicBezTo>
                    <a:pt x="112" y="0"/>
                    <a:pt x="107" y="34"/>
                    <a:pt x="122" y="30"/>
                  </a:cubicBezTo>
                  <a:cubicBezTo>
                    <a:pt x="133" y="26"/>
                    <a:pt x="88" y="8"/>
                    <a:pt x="68" y="8"/>
                  </a:cubicBezTo>
                  <a:cubicBezTo>
                    <a:pt x="41" y="6"/>
                    <a:pt x="33" y="16"/>
                    <a:pt x="0" y="3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 rot="6957000">
              <a:off x="8423280" y="4719240"/>
              <a:ext cx="74520" cy="19080"/>
            </a:xfrm>
            <a:custGeom>
              <a:avLst/>
              <a:gdLst/>
              <a:ahLst/>
              <a:rect l="l" t="t" r="r" b="b"/>
              <a:pathLst>
                <a:path w="133" h="34">
                  <a:moveTo>
                    <a:pt x="0" y="32"/>
                  </a:moveTo>
                  <a:cubicBezTo>
                    <a:pt x="112" y="0"/>
                    <a:pt x="107" y="34"/>
                    <a:pt x="122" y="30"/>
                  </a:cubicBezTo>
                  <a:cubicBezTo>
                    <a:pt x="133" y="26"/>
                    <a:pt x="88" y="8"/>
                    <a:pt x="68" y="8"/>
                  </a:cubicBezTo>
                  <a:cubicBezTo>
                    <a:pt x="41" y="6"/>
                    <a:pt x="33" y="16"/>
                    <a:pt x="0" y="3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 rot="6957000">
              <a:off x="8550720" y="4654080"/>
              <a:ext cx="74520" cy="19080"/>
            </a:xfrm>
            <a:custGeom>
              <a:avLst/>
              <a:gdLst/>
              <a:ahLst/>
              <a:rect l="l" t="t" r="r" b="b"/>
              <a:pathLst>
                <a:path w="133" h="34">
                  <a:moveTo>
                    <a:pt x="0" y="32"/>
                  </a:moveTo>
                  <a:cubicBezTo>
                    <a:pt x="112" y="0"/>
                    <a:pt x="107" y="34"/>
                    <a:pt x="122" y="30"/>
                  </a:cubicBezTo>
                  <a:cubicBezTo>
                    <a:pt x="133" y="26"/>
                    <a:pt x="88" y="8"/>
                    <a:pt x="68" y="8"/>
                  </a:cubicBezTo>
                  <a:cubicBezTo>
                    <a:pt x="41" y="6"/>
                    <a:pt x="33" y="16"/>
                    <a:pt x="0" y="3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 rot="6957000">
              <a:off x="8580960" y="4667400"/>
              <a:ext cx="74520" cy="19080"/>
            </a:xfrm>
            <a:custGeom>
              <a:avLst/>
              <a:gdLst/>
              <a:ahLst/>
              <a:rect l="l" t="t" r="r" b="b"/>
              <a:pathLst>
                <a:path w="133" h="34">
                  <a:moveTo>
                    <a:pt x="0" y="32"/>
                  </a:moveTo>
                  <a:cubicBezTo>
                    <a:pt x="112" y="0"/>
                    <a:pt x="107" y="34"/>
                    <a:pt x="122" y="30"/>
                  </a:cubicBezTo>
                  <a:cubicBezTo>
                    <a:pt x="133" y="26"/>
                    <a:pt x="88" y="8"/>
                    <a:pt x="68" y="8"/>
                  </a:cubicBezTo>
                  <a:cubicBezTo>
                    <a:pt x="41" y="6"/>
                    <a:pt x="33" y="16"/>
                    <a:pt x="0" y="3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 rot="6957000">
              <a:off x="8522280" y="4638600"/>
              <a:ext cx="74520" cy="19080"/>
            </a:xfrm>
            <a:custGeom>
              <a:avLst/>
              <a:gdLst/>
              <a:ahLst/>
              <a:rect l="l" t="t" r="r" b="b"/>
              <a:pathLst>
                <a:path w="133" h="34">
                  <a:moveTo>
                    <a:pt x="0" y="32"/>
                  </a:moveTo>
                  <a:cubicBezTo>
                    <a:pt x="112" y="0"/>
                    <a:pt x="107" y="34"/>
                    <a:pt x="122" y="30"/>
                  </a:cubicBezTo>
                  <a:cubicBezTo>
                    <a:pt x="133" y="26"/>
                    <a:pt x="88" y="8"/>
                    <a:pt x="68" y="8"/>
                  </a:cubicBezTo>
                  <a:cubicBezTo>
                    <a:pt x="41" y="6"/>
                    <a:pt x="33" y="16"/>
                    <a:pt x="0" y="3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 rot="6957000">
              <a:off x="8499240" y="4627440"/>
              <a:ext cx="74520" cy="19080"/>
            </a:xfrm>
            <a:custGeom>
              <a:avLst/>
              <a:gdLst/>
              <a:ahLst/>
              <a:rect l="l" t="t" r="r" b="b"/>
              <a:pathLst>
                <a:path w="133" h="34">
                  <a:moveTo>
                    <a:pt x="0" y="32"/>
                  </a:moveTo>
                  <a:cubicBezTo>
                    <a:pt x="112" y="0"/>
                    <a:pt x="107" y="34"/>
                    <a:pt x="122" y="30"/>
                  </a:cubicBezTo>
                  <a:cubicBezTo>
                    <a:pt x="133" y="26"/>
                    <a:pt x="88" y="8"/>
                    <a:pt x="68" y="8"/>
                  </a:cubicBezTo>
                  <a:cubicBezTo>
                    <a:pt x="41" y="6"/>
                    <a:pt x="33" y="16"/>
                    <a:pt x="0" y="3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 rot="6957000">
              <a:off x="8471880" y="4605480"/>
              <a:ext cx="74520" cy="19080"/>
            </a:xfrm>
            <a:custGeom>
              <a:avLst/>
              <a:gdLst/>
              <a:ahLst/>
              <a:rect l="l" t="t" r="r" b="b"/>
              <a:pathLst>
                <a:path w="133" h="34">
                  <a:moveTo>
                    <a:pt x="0" y="32"/>
                  </a:moveTo>
                  <a:cubicBezTo>
                    <a:pt x="112" y="0"/>
                    <a:pt x="107" y="34"/>
                    <a:pt x="122" y="30"/>
                  </a:cubicBezTo>
                  <a:cubicBezTo>
                    <a:pt x="133" y="26"/>
                    <a:pt x="88" y="8"/>
                    <a:pt x="68" y="8"/>
                  </a:cubicBezTo>
                  <a:cubicBezTo>
                    <a:pt x="41" y="6"/>
                    <a:pt x="33" y="16"/>
                    <a:pt x="0" y="3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 rot="6957000">
              <a:off x="8452440" y="4588200"/>
              <a:ext cx="74520" cy="19080"/>
            </a:xfrm>
            <a:custGeom>
              <a:avLst/>
              <a:gdLst/>
              <a:ahLst/>
              <a:rect l="l" t="t" r="r" b="b"/>
              <a:pathLst>
                <a:path w="133" h="34">
                  <a:moveTo>
                    <a:pt x="0" y="32"/>
                  </a:moveTo>
                  <a:cubicBezTo>
                    <a:pt x="112" y="0"/>
                    <a:pt x="107" y="34"/>
                    <a:pt x="122" y="30"/>
                  </a:cubicBezTo>
                  <a:cubicBezTo>
                    <a:pt x="133" y="26"/>
                    <a:pt x="88" y="8"/>
                    <a:pt x="68" y="8"/>
                  </a:cubicBezTo>
                  <a:cubicBezTo>
                    <a:pt x="41" y="6"/>
                    <a:pt x="33" y="16"/>
                    <a:pt x="0" y="3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29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29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29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a6f3"/>
            </a:gs>
            <a:gs pos="100000">
              <a:srgbClr val="ddf2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未知"/>
          <p:cNvSpPr/>
          <p:nvPr/>
        </p:nvSpPr>
        <p:spPr>
          <a:xfrm rot="19090800">
            <a:off x="3580920" y="1469520"/>
            <a:ext cx="1143000" cy="1121040"/>
          </a:xfrm>
          <a:custGeom>
            <a:avLst/>
            <a:gdLst/>
            <a:ahLst/>
            <a:rect l="l" t="t" r="r" b="b"/>
            <a:pathLst>
              <a:path w="406" h="405">
                <a:moveTo>
                  <a:pt x="360" y="174"/>
                </a:moveTo>
                <a:lnTo>
                  <a:pt x="294" y="173"/>
                </a:lnTo>
                <a:lnTo>
                  <a:pt x="259" y="129"/>
                </a:lnTo>
                <a:lnTo>
                  <a:pt x="274" y="129"/>
                </a:lnTo>
                <a:lnTo>
                  <a:pt x="277" y="128"/>
                </a:lnTo>
                <a:lnTo>
                  <a:pt x="280" y="126"/>
                </a:lnTo>
                <a:lnTo>
                  <a:pt x="282" y="123"/>
                </a:lnTo>
                <a:lnTo>
                  <a:pt x="282" y="120"/>
                </a:lnTo>
                <a:lnTo>
                  <a:pt x="282" y="107"/>
                </a:lnTo>
                <a:lnTo>
                  <a:pt x="282" y="104"/>
                </a:lnTo>
                <a:lnTo>
                  <a:pt x="280" y="101"/>
                </a:lnTo>
                <a:lnTo>
                  <a:pt x="277" y="99"/>
                </a:lnTo>
                <a:lnTo>
                  <a:pt x="274" y="99"/>
                </a:lnTo>
                <a:lnTo>
                  <a:pt x="238" y="99"/>
                </a:lnTo>
                <a:lnTo>
                  <a:pt x="220" y="72"/>
                </a:lnTo>
                <a:lnTo>
                  <a:pt x="232" y="72"/>
                </a:lnTo>
                <a:lnTo>
                  <a:pt x="235" y="72"/>
                </a:lnTo>
                <a:lnTo>
                  <a:pt x="238" y="69"/>
                </a:lnTo>
                <a:lnTo>
                  <a:pt x="241" y="68"/>
                </a:lnTo>
                <a:lnTo>
                  <a:pt x="241" y="63"/>
                </a:lnTo>
                <a:lnTo>
                  <a:pt x="241" y="51"/>
                </a:lnTo>
                <a:lnTo>
                  <a:pt x="241" y="48"/>
                </a:lnTo>
                <a:lnTo>
                  <a:pt x="238" y="45"/>
                </a:lnTo>
                <a:lnTo>
                  <a:pt x="235" y="44"/>
                </a:lnTo>
                <a:lnTo>
                  <a:pt x="232" y="42"/>
                </a:lnTo>
                <a:lnTo>
                  <a:pt x="199" y="42"/>
                </a:lnTo>
                <a:lnTo>
                  <a:pt x="195" y="35"/>
                </a:lnTo>
                <a:lnTo>
                  <a:pt x="189" y="26"/>
                </a:lnTo>
                <a:lnTo>
                  <a:pt x="181" y="17"/>
                </a:lnTo>
                <a:lnTo>
                  <a:pt x="175" y="9"/>
                </a:lnTo>
                <a:lnTo>
                  <a:pt x="172" y="5"/>
                </a:lnTo>
                <a:lnTo>
                  <a:pt x="169" y="3"/>
                </a:lnTo>
                <a:lnTo>
                  <a:pt x="165" y="2"/>
                </a:lnTo>
                <a:lnTo>
                  <a:pt x="160" y="0"/>
                </a:lnTo>
                <a:lnTo>
                  <a:pt x="156" y="0"/>
                </a:lnTo>
                <a:lnTo>
                  <a:pt x="151" y="0"/>
                </a:lnTo>
                <a:lnTo>
                  <a:pt x="133" y="0"/>
                </a:lnTo>
                <a:lnTo>
                  <a:pt x="135" y="5"/>
                </a:lnTo>
                <a:lnTo>
                  <a:pt x="138" y="15"/>
                </a:lnTo>
                <a:lnTo>
                  <a:pt x="144" y="30"/>
                </a:lnTo>
                <a:lnTo>
                  <a:pt x="150" y="48"/>
                </a:lnTo>
                <a:lnTo>
                  <a:pt x="157" y="69"/>
                </a:lnTo>
                <a:lnTo>
                  <a:pt x="165" y="92"/>
                </a:lnTo>
                <a:lnTo>
                  <a:pt x="172" y="113"/>
                </a:lnTo>
                <a:lnTo>
                  <a:pt x="180" y="132"/>
                </a:lnTo>
                <a:lnTo>
                  <a:pt x="184" y="149"/>
                </a:lnTo>
                <a:lnTo>
                  <a:pt x="189" y="159"/>
                </a:lnTo>
                <a:lnTo>
                  <a:pt x="190" y="165"/>
                </a:lnTo>
                <a:lnTo>
                  <a:pt x="186" y="170"/>
                </a:lnTo>
                <a:lnTo>
                  <a:pt x="175" y="174"/>
                </a:lnTo>
                <a:lnTo>
                  <a:pt x="160" y="177"/>
                </a:lnTo>
                <a:lnTo>
                  <a:pt x="142" y="180"/>
                </a:lnTo>
                <a:lnTo>
                  <a:pt x="124" y="182"/>
                </a:lnTo>
                <a:lnTo>
                  <a:pt x="106" y="182"/>
                </a:lnTo>
                <a:lnTo>
                  <a:pt x="91" y="183"/>
                </a:lnTo>
                <a:lnTo>
                  <a:pt x="81" y="183"/>
                </a:lnTo>
                <a:lnTo>
                  <a:pt x="76" y="183"/>
                </a:lnTo>
                <a:lnTo>
                  <a:pt x="33" y="128"/>
                </a:lnTo>
                <a:lnTo>
                  <a:pt x="4" y="128"/>
                </a:lnTo>
                <a:lnTo>
                  <a:pt x="21" y="192"/>
                </a:lnTo>
                <a:lnTo>
                  <a:pt x="0" y="203"/>
                </a:lnTo>
                <a:lnTo>
                  <a:pt x="21" y="213"/>
                </a:lnTo>
                <a:lnTo>
                  <a:pt x="4" y="278"/>
                </a:lnTo>
                <a:lnTo>
                  <a:pt x="33" y="278"/>
                </a:lnTo>
                <a:lnTo>
                  <a:pt x="76" y="222"/>
                </a:lnTo>
                <a:lnTo>
                  <a:pt x="81" y="222"/>
                </a:lnTo>
                <a:lnTo>
                  <a:pt x="91" y="222"/>
                </a:lnTo>
                <a:lnTo>
                  <a:pt x="106" y="224"/>
                </a:lnTo>
                <a:lnTo>
                  <a:pt x="124" y="224"/>
                </a:lnTo>
                <a:lnTo>
                  <a:pt x="142" y="225"/>
                </a:lnTo>
                <a:lnTo>
                  <a:pt x="160" y="228"/>
                </a:lnTo>
                <a:lnTo>
                  <a:pt x="175" y="231"/>
                </a:lnTo>
                <a:lnTo>
                  <a:pt x="186" y="236"/>
                </a:lnTo>
                <a:lnTo>
                  <a:pt x="190" y="240"/>
                </a:lnTo>
                <a:lnTo>
                  <a:pt x="189" y="246"/>
                </a:lnTo>
                <a:lnTo>
                  <a:pt x="184" y="257"/>
                </a:lnTo>
                <a:lnTo>
                  <a:pt x="180" y="273"/>
                </a:lnTo>
                <a:lnTo>
                  <a:pt x="172" y="293"/>
                </a:lnTo>
                <a:lnTo>
                  <a:pt x="165" y="314"/>
                </a:lnTo>
                <a:lnTo>
                  <a:pt x="157" y="336"/>
                </a:lnTo>
                <a:lnTo>
                  <a:pt x="150" y="357"/>
                </a:lnTo>
                <a:lnTo>
                  <a:pt x="144" y="375"/>
                </a:lnTo>
                <a:lnTo>
                  <a:pt x="138" y="390"/>
                </a:lnTo>
                <a:lnTo>
                  <a:pt x="135" y="401"/>
                </a:lnTo>
                <a:lnTo>
                  <a:pt x="133" y="405"/>
                </a:lnTo>
                <a:lnTo>
                  <a:pt x="151" y="405"/>
                </a:lnTo>
                <a:lnTo>
                  <a:pt x="156" y="405"/>
                </a:lnTo>
                <a:lnTo>
                  <a:pt x="160" y="405"/>
                </a:lnTo>
                <a:lnTo>
                  <a:pt x="165" y="404"/>
                </a:lnTo>
                <a:lnTo>
                  <a:pt x="169" y="404"/>
                </a:lnTo>
                <a:lnTo>
                  <a:pt x="172" y="401"/>
                </a:lnTo>
                <a:lnTo>
                  <a:pt x="175" y="396"/>
                </a:lnTo>
                <a:lnTo>
                  <a:pt x="181" y="389"/>
                </a:lnTo>
                <a:lnTo>
                  <a:pt x="189" y="380"/>
                </a:lnTo>
                <a:lnTo>
                  <a:pt x="195" y="371"/>
                </a:lnTo>
                <a:lnTo>
                  <a:pt x="199" y="363"/>
                </a:lnTo>
                <a:lnTo>
                  <a:pt x="232" y="363"/>
                </a:lnTo>
                <a:lnTo>
                  <a:pt x="235" y="362"/>
                </a:lnTo>
                <a:lnTo>
                  <a:pt x="238" y="360"/>
                </a:lnTo>
                <a:lnTo>
                  <a:pt x="241" y="357"/>
                </a:lnTo>
                <a:lnTo>
                  <a:pt x="241" y="354"/>
                </a:lnTo>
                <a:lnTo>
                  <a:pt x="241" y="342"/>
                </a:lnTo>
                <a:lnTo>
                  <a:pt x="241" y="338"/>
                </a:lnTo>
                <a:lnTo>
                  <a:pt x="238" y="336"/>
                </a:lnTo>
                <a:lnTo>
                  <a:pt x="235" y="333"/>
                </a:lnTo>
                <a:lnTo>
                  <a:pt x="232" y="333"/>
                </a:lnTo>
                <a:lnTo>
                  <a:pt x="220" y="333"/>
                </a:lnTo>
                <a:lnTo>
                  <a:pt x="238" y="306"/>
                </a:lnTo>
                <a:lnTo>
                  <a:pt x="274" y="306"/>
                </a:lnTo>
                <a:lnTo>
                  <a:pt x="277" y="306"/>
                </a:lnTo>
                <a:lnTo>
                  <a:pt x="280" y="305"/>
                </a:lnTo>
                <a:lnTo>
                  <a:pt x="282" y="302"/>
                </a:lnTo>
                <a:lnTo>
                  <a:pt x="282" y="299"/>
                </a:lnTo>
                <a:lnTo>
                  <a:pt x="282" y="285"/>
                </a:lnTo>
                <a:lnTo>
                  <a:pt x="282" y="282"/>
                </a:lnTo>
                <a:lnTo>
                  <a:pt x="280" y="279"/>
                </a:lnTo>
                <a:lnTo>
                  <a:pt x="277" y="278"/>
                </a:lnTo>
                <a:lnTo>
                  <a:pt x="274" y="276"/>
                </a:lnTo>
                <a:lnTo>
                  <a:pt x="259" y="276"/>
                </a:lnTo>
                <a:lnTo>
                  <a:pt x="294" y="233"/>
                </a:lnTo>
                <a:lnTo>
                  <a:pt x="360" y="233"/>
                </a:lnTo>
                <a:lnTo>
                  <a:pt x="367" y="231"/>
                </a:lnTo>
                <a:lnTo>
                  <a:pt x="376" y="230"/>
                </a:lnTo>
                <a:lnTo>
                  <a:pt x="387" y="227"/>
                </a:lnTo>
                <a:lnTo>
                  <a:pt x="397" y="221"/>
                </a:lnTo>
                <a:lnTo>
                  <a:pt x="403" y="213"/>
                </a:lnTo>
                <a:lnTo>
                  <a:pt x="406" y="203"/>
                </a:lnTo>
                <a:lnTo>
                  <a:pt x="403" y="192"/>
                </a:lnTo>
                <a:lnTo>
                  <a:pt x="397" y="185"/>
                </a:lnTo>
                <a:lnTo>
                  <a:pt x="387" y="179"/>
                </a:lnTo>
                <a:lnTo>
                  <a:pt x="376" y="176"/>
                </a:lnTo>
                <a:lnTo>
                  <a:pt x="367" y="174"/>
                </a:lnTo>
                <a:lnTo>
                  <a:pt x="360" y="174"/>
                </a:lnTo>
                <a:close/>
              </a:path>
            </a:pathLst>
          </a:custGeom>
          <a:solidFill>
            <a:srgbClr val="f8f8f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未知"/>
          <p:cNvSpPr/>
          <p:nvPr/>
        </p:nvSpPr>
        <p:spPr>
          <a:xfrm>
            <a:off x="2432160" y="-4680"/>
            <a:ext cx="3595680" cy="4424400"/>
          </a:xfrm>
          <a:custGeom>
            <a:avLst/>
            <a:gdLst/>
            <a:ahLst/>
            <a:rect l="l" t="t" r="r" b="b"/>
            <a:pathLst>
              <a:path w="2265" h="2790">
                <a:moveTo>
                  <a:pt x="1895" y="2790"/>
                </a:moveTo>
                <a:cubicBezTo>
                  <a:pt x="2092" y="2493"/>
                  <a:pt x="2169" y="1787"/>
                  <a:pt x="2001" y="1455"/>
                </a:cubicBezTo>
                <a:cubicBezTo>
                  <a:pt x="1833" y="1123"/>
                  <a:pt x="1290" y="1089"/>
                  <a:pt x="909" y="885"/>
                </a:cubicBezTo>
                <a:cubicBezTo>
                  <a:pt x="528" y="681"/>
                  <a:pt x="95" y="144"/>
                  <a:pt x="0" y="0"/>
                </a:cubicBezTo>
                <a:lnTo>
                  <a:pt x="466" y="6"/>
                </a:lnTo>
                <a:cubicBezTo>
                  <a:pt x="570" y="267"/>
                  <a:pt x="788" y="572"/>
                  <a:pt x="1074" y="759"/>
                </a:cubicBezTo>
                <a:cubicBezTo>
                  <a:pt x="1359" y="946"/>
                  <a:pt x="1880" y="1011"/>
                  <a:pt x="2072" y="1396"/>
                </a:cubicBezTo>
                <a:cubicBezTo>
                  <a:pt x="2265" y="1781"/>
                  <a:pt x="2045" y="2639"/>
                  <a:pt x="1895" y="279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未知"/>
          <p:cNvSpPr/>
          <p:nvPr/>
        </p:nvSpPr>
        <p:spPr>
          <a:xfrm>
            <a:off x="0" y="0"/>
            <a:ext cx="5719680" cy="4495680"/>
          </a:xfrm>
          <a:custGeom>
            <a:avLst/>
            <a:gdLst/>
            <a:ahLst/>
            <a:rect l="l" t="t" r="r" b="b"/>
            <a:pathLst>
              <a:path w="3603" h="2832">
                <a:moveTo>
                  <a:pt x="3395" y="2832"/>
                </a:moveTo>
                <a:cubicBezTo>
                  <a:pt x="3514" y="2657"/>
                  <a:pt x="3539" y="2194"/>
                  <a:pt x="3450" y="1888"/>
                </a:cubicBezTo>
                <a:cubicBezTo>
                  <a:pt x="3361" y="1581"/>
                  <a:pt x="2487" y="1524"/>
                  <a:pt x="1918" y="1188"/>
                </a:cubicBezTo>
                <a:cubicBezTo>
                  <a:pt x="1350" y="851"/>
                  <a:pt x="128" y="228"/>
                  <a:pt x="0" y="0"/>
                </a:cubicBezTo>
                <a:lnTo>
                  <a:pt x="1145" y="0"/>
                </a:lnTo>
                <a:cubicBezTo>
                  <a:pt x="1248" y="271"/>
                  <a:pt x="1793" y="730"/>
                  <a:pt x="1995" y="891"/>
                </a:cubicBezTo>
                <a:cubicBezTo>
                  <a:pt x="2197" y="1052"/>
                  <a:pt x="3405" y="1416"/>
                  <a:pt x="3504" y="1817"/>
                </a:cubicBezTo>
                <a:cubicBezTo>
                  <a:pt x="3603" y="2218"/>
                  <a:pt x="3486" y="2743"/>
                  <a:pt x="3395" y="2832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未知"/>
          <p:cNvSpPr/>
          <p:nvPr/>
        </p:nvSpPr>
        <p:spPr>
          <a:xfrm>
            <a:off x="6513480" y="404640"/>
            <a:ext cx="2630520" cy="3329280"/>
          </a:xfrm>
          <a:custGeom>
            <a:avLst/>
            <a:gdLst/>
            <a:ahLst/>
            <a:rect l="l" t="t" r="r" b="b"/>
            <a:pathLst>
              <a:path w="1657" h="2583">
                <a:moveTo>
                  <a:pt x="0" y="2583"/>
                </a:moveTo>
                <a:cubicBezTo>
                  <a:pt x="558" y="2524"/>
                  <a:pt x="852" y="2300"/>
                  <a:pt x="1129" y="1978"/>
                </a:cubicBezTo>
                <a:cubicBezTo>
                  <a:pt x="1406" y="1656"/>
                  <a:pt x="1528" y="1439"/>
                  <a:pt x="1657" y="1117"/>
                </a:cubicBezTo>
                <a:lnTo>
                  <a:pt x="1645" y="0"/>
                </a:lnTo>
                <a:cubicBezTo>
                  <a:pt x="1598" y="291"/>
                  <a:pt x="1225" y="1470"/>
                  <a:pt x="950" y="1877"/>
                </a:cubicBezTo>
                <a:cubicBezTo>
                  <a:pt x="675" y="2284"/>
                  <a:pt x="499" y="2494"/>
                  <a:pt x="0" y="2583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未知"/>
          <p:cNvSpPr/>
          <p:nvPr/>
        </p:nvSpPr>
        <p:spPr>
          <a:xfrm>
            <a:off x="6477120" y="-4680"/>
            <a:ext cx="1676160" cy="3738600"/>
          </a:xfrm>
          <a:custGeom>
            <a:avLst/>
            <a:gdLst/>
            <a:ahLst/>
            <a:rect l="l" t="t" r="r" b="b"/>
            <a:pathLst>
              <a:path w="1110" h="2877">
                <a:moveTo>
                  <a:pt x="0" y="2877"/>
                </a:moveTo>
                <a:cubicBezTo>
                  <a:pt x="558" y="2818"/>
                  <a:pt x="878" y="2138"/>
                  <a:pt x="979" y="1734"/>
                </a:cubicBezTo>
                <a:cubicBezTo>
                  <a:pt x="1080" y="1330"/>
                  <a:pt x="1110" y="368"/>
                  <a:pt x="1110" y="0"/>
                </a:cubicBezTo>
                <a:lnTo>
                  <a:pt x="296" y="0"/>
                </a:lnTo>
                <a:cubicBezTo>
                  <a:pt x="593" y="445"/>
                  <a:pt x="803" y="1297"/>
                  <a:pt x="754" y="1776"/>
                </a:cubicBezTo>
                <a:cubicBezTo>
                  <a:pt x="705" y="2255"/>
                  <a:pt x="635" y="2613"/>
                  <a:pt x="0" y="2877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未知"/>
          <p:cNvSpPr/>
          <p:nvPr/>
        </p:nvSpPr>
        <p:spPr>
          <a:xfrm>
            <a:off x="-4680" y="609480"/>
            <a:ext cx="5413320" cy="3808440"/>
          </a:xfrm>
          <a:custGeom>
            <a:avLst/>
            <a:gdLst/>
            <a:ahLst/>
            <a:rect l="l" t="t" r="r" b="b"/>
            <a:pathLst>
              <a:path w="3413" h="2399">
                <a:moveTo>
                  <a:pt x="3413" y="2399"/>
                </a:moveTo>
                <a:cubicBezTo>
                  <a:pt x="3361" y="2324"/>
                  <a:pt x="3246" y="2028"/>
                  <a:pt x="2928" y="1962"/>
                </a:cubicBezTo>
                <a:cubicBezTo>
                  <a:pt x="2610" y="1896"/>
                  <a:pt x="1990" y="2131"/>
                  <a:pt x="1502" y="2003"/>
                </a:cubicBezTo>
                <a:cubicBezTo>
                  <a:pt x="937" y="1819"/>
                  <a:pt x="386" y="1510"/>
                  <a:pt x="0" y="1196"/>
                </a:cubicBezTo>
                <a:lnTo>
                  <a:pt x="6" y="0"/>
                </a:lnTo>
                <a:cubicBezTo>
                  <a:pt x="109" y="271"/>
                  <a:pt x="893" y="1158"/>
                  <a:pt x="1461" y="1558"/>
                </a:cubicBezTo>
                <a:cubicBezTo>
                  <a:pt x="1906" y="1919"/>
                  <a:pt x="2644" y="1780"/>
                  <a:pt x="2969" y="1920"/>
                </a:cubicBezTo>
                <a:cubicBezTo>
                  <a:pt x="3294" y="2060"/>
                  <a:pt x="3349" y="2288"/>
                  <a:pt x="3413" y="2399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3733920"/>
            <a:ext cx="9144000" cy="3124080"/>
            <a:chOff x="0" y="3733920"/>
            <a:chExt cx="9144000" cy="312408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rcRect l="0" t="0" r="0" b="25085"/>
            <a:stretch/>
          </p:blipFill>
          <p:spPr>
            <a:xfrm>
              <a:off x="0" y="3733920"/>
              <a:ext cx="9144000" cy="31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3">
              <a:lum contrast="12000"/>
            </a:blip>
            <a:stretch/>
          </p:blipFill>
          <p:spPr>
            <a:xfrm>
              <a:off x="0" y="4267440"/>
              <a:ext cx="138420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4">
              <a:lum contrast="12000"/>
            </a:blip>
            <a:stretch/>
          </p:blipFill>
          <p:spPr>
            <a:xfrm flipH="1" rot="639000">
              <a:off x="7162560" y="4343400"/>
              <a:ext cx="1095120" cy="133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4"/>
          </p:nvPr>
        </p:nvSpPr>
        <p:spPr>
          <a:xfrm>
            <a:off x="6781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ftr" idx="5"/>
          </p:nvPr>
        </p:nvSpPr>
        <p:spPr>
          <a:xfrm>
            <a:off x="228240" y="646092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3886200" y="64767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07B3-1D75-4F47-8C40-8DEEC91545A5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0800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337280" y="2736720"/>
            <a:ext cx="1488600" cy="1611360"/>
            <a:chOff x="4337280" y="2736720"/>
            <a:chExt cx="1488600" cy="1611360"/>
          </a:xfrm>
        </p:grpSpPr>
        <p:sp>
          <p:nvSpPr>
            <p:cNvPr id="113" name=""/>
            <p:cNvSpPr/>
            <p:nvPr/>
          </p:nvSpPr>
          <p:spPr>
            <a:xfrm rot="18601800">
              <a:off x="4465080" y="3108960"/>
              <a:ext cx="221760" cy="209160"/>
            </a:xfrm>
            <a:prstGeom prst="ellips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8601800">
              <a:off x="4708800" y="3681720"/>
              <a:ext cx="313560" cy="297000"/>
            </a:xfrm>
            <a:prstGeom prst="ellips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8601800">
              <a:off x="4899240" y="3131280"/>
              <a:ext cx="233280" cy="221040"/>
            </a:xfrm>
            <a:prstGeom prst="ellips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8601800">
              <a:off x="5292360" y="4157280"/>
              <a:ext cx="163800" cy="155520"/>
            </a:xfrm>
            <a:prstGeom prst="ellips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79160" y="3924000"/>
              <a:ext cx="328320" cy="275760"/>
            </a:xfrm>
            <a:prstGeom prst="line">
              <a:avLst/>
            </a:prstGeom>
            <a:ln w="1260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4857480" y="3336840"/>
              <a:ext cx="145440" cy="333720"/>
            </a:xfrm>
            <a:prstGeom prst="line">
              <a:avLst/>
            </a:prstGeom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4662720" y="3217320"/>
              <a:ext cx="230400" cy="14040"/>
            </a:xfrm>
            <a:prstGeom prst="line">
              <a:avLst/>
            </a:prstGeom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8601800">
              <a:off x="5023440" y="2771280"/>
              <a:ext cx="163800" cy="155520"/>
            </a:xfrm>
            <a:prstGeom prst="ellips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8601800">
              <a:off x="5339160" y="3317040"/>
              <a:ext cx="187200" cy="177480"/>
            </a:xfrm>
            <a:prstGeom prst="ellips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29280" y="3276360"/>
              <a:ext cx="241920" cy="127440"/>
            </a:xfrm>
            <a:prstGeom prst="line">
              <a:avLst/>
            </a:prstGeom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5055120" y="2896200"/>
              <a:ext cx="3600" cy="228600"/>
            </a:xfrm>
            <a:prstGeom prst="line">
              <a:avLst/>
            </a:prstGeom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8601800">
              <a:off x="4367520" y="3768480"/>
              <a:ext cx="163800" cy="155520"/>
            </a:xfrm>
            <a:prstGeom prst="ellips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4504680" y="3857400"/>
              <a:ext cx="196200" cy="17280"/>
            </a:xfrm>
            <a:prstGeom prst="line">
              <a:avLst/>
            </a:prstGeom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5323320" y="3465360"/>
              <a:ext cx="108360" cy="240480"/>
            </a:xfrm>
            <a:prstGeom prst="line">
              <a:avLst/>
            </a:prstGeom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8601800">
              <a:off x="5230080" y="3659760"/>
              <a:ext cx="163800" cy="155160"/>
            </a:xfrm>
            <a:prstGeom prst="ellips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19160" y="3407760"/>
              <a:ext cx="90360" cy="1080"/>
            </a:xfrm>
            <a:prstGeom prst="line">
              <a:avLst/>
            </a:prstGeom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8601800">
              <a:off x="5631840" y="3352680"/>
              <a:ext cx="163800" cy="155520"/>
            </a:xfrm>
            <a:prstGeom prst="ellips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7238880" y="914400"/>
            <a:ext cx="1675080" cy="1092960"/>
            <a:chOff x="7238880" y="914400"/>
            <a:chExt cx="1675080" cy="1092960"/>
          </a:xfrm>
        </p:grpSpPr>
        <p:sp>
          <p:nvSpPr>
            <p:cNvPr id="131" name="未知"/>
            <p:cNvSpPr/>
            <p:nvPr/>
          </p:nvSpPr>
          <p:spPr>
            <a:xfrm>
              <a:off x="7238880" y="1405080"/>
              <a:ext cx="219600" cy="236160"/>
            </a:xfrm>
            <a:custGeom>
              <a:avLst/>
              <a:gdLst/>
              <a:ahLst/>
              <a:rect l="l" t="t" r="r" b="b"/>
              <a:pathLst>
                <a:path w="108" h="87">
                  <a:moveTo>
                    <a:pt x="78" y="8"/>
                  </a:moveTo>
                  <a:cubicBezTo>
                    <a:pt x="70" y="0"/>
                    <a:pt x="20" y="1"/>
                    <a:pt x="9" y="18"/>
                  </a:cubicBezTo>
                  <a:cubicBezTo>
                    <a:pt x="4" y="25"/>
                    <a:pt x="2" y="33"/>
                    <a:pt x="0" y="41"/>
                  </a:cubicBezTo>
                  <a:cubicBezTo>
                    <a:pt x="1" y="66"/>
                    <a:pt x="9" y="85"/>
                    <a:pt x="36" y="87"/>
                  </a:cubicBezTo>
                  <a:cubicBezTo>
                    <a:pt x="70" y="86"/>
                    <a:pt x="66" y="87"/>
                    <a:pt x="90" y="81"/>
                  </a:cubicBezTo>
                  <a:cubicBezTo>
                    <a:pt x="104" y="67"/>
                    <a:pt x="99" y="74"/>
                    <a:pt x="105" y="63"/>
                  </a:cubicBezTo>
                  <a:cubicBezTo>
                    <a:pt x="108" y="45"/>
                    <a:pt x="104" y="8"/>
                    <a:pt x="78" y="8"/>
                  </a:cubicBezTo>
                  <a:close/>
                </a:path>
              </a:pathLst>
            </a:custGeom>
            <a:noFill/>
            <a:ln w="2844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7238880" y="1771200"/>
              <a:ext cx="219600" cy="236160"/>
            </a:xfrm>
            <a:custGeom>
              <a:avLst/>
              <a:gdLst/>
              <a:ahLst/>
              <a:rect l="l" t="t" r="r" b="b"/>
              <a:pathLst>
                <a:path w="108" h="87">
                  <a:moveTo>
                    <a:pt x="78" y="8"/>
                  </a:moveTo>
                  <a:cubicBezTo>
                    <a:pt x="70" y="0"/>
                    <a:pt x="20" y="1"/>
                    <a:pt x="9" y="18"/>
                  </a:cubicBezTo>
                  <a:cubicBezTo>
                    <a:pt x="4" y="25"/>
                    <a:pt x="2" y="33"/>
                    <a:pt x="0" y="41"/>
                  </a:cubicBezTo>
                  <a:cubicBezTo>
                    <a:pt x="1" y="66"/>
                    <a:pt x="9" y="85"/>
                    <a:pt x="36" y="87"/>
                  </a:cubicBezTo>
                  <a:cubicBezTo>
                    <a:pt x="70" y="86"/>
                    <a:pt x="66" y="87"/>
                    <a:pt x="90" y="81"/>
                  </a:cubicBezTo>
                  <a:cubicBezTo>
                    <a:pt x="104" y="67"/>
                    <a:pt x="99" y="74"/>
                    <a:pt x="105" y="63"/>
                  </a:cubicBezTo>
                  <a:cubicBezTo>
                    <a:pt x="108" y="45"/>
                    <a:pt x="104" y="8"/>
                    <a:pt x="78" y="8"/>
                  </a:cubicBezTo>
                  <a:close/>
                </a:path>
              </a:pathLst>
            </a:custGeom>
            <a:noFill/>
            <a:ln w="2844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7607880" y="1394640"/>
              <a:ext cx="217080" cy="21384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100" y="0"/>
                  </a:moveTo>
                  <a:cubicBezTo>
                    <a:pt x="69" y="32"/>
                    <a:pt x="39" y="64"/>
                    <a:pt x="22" y="77"/>
                  </a:cubicBezTo>
                  <a:cubicBezTo>
                    <a:pt x="5" y="90"/>
                    <a:pt x="4" y="79"/>
                    <a:pt x="0" y="80"/>
                  </a:cubicBezTo>
                </a:path>
              </a:pathLst>
            </a:custGeom>
            <a:noFill/>
            <a:ln w="2844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7640280" y="1413360"/>
              <a:ext cx="162360" cy="16848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0" y="0"/>
                  </a:moveTo>
                  <a:cubicBezTo>
                    <a:pt x="9" y="6"/>
                    <a:pt x="19" y="13"/>
                    <a:pt x="29" y="23"/>
                  </a:cubicBezTo>
                  <a:cubicBezTo>
                    <a:pt x="39" y="33"/>
                    <a:pt x="55" y="56"/>
                    <a:pt x="60" y="62"/>
                  </a:cubicBezTo>
                </a:path>
              </a:pathLst>
            </a:custGeom>
            <a:noFill/>
            <a:ln w="2844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7770240" y="914400"/>
              <a:ext cx="1143720" cy="913320"/>
              <a:chOff x="7770240" y="914400"/>
              <a:chExt cx="1143720" cy="913320"/>
            </a:xfrm>
          </p:grpSpPr>
          <p:sp>
            <p:nvSpPr>
              <p:cNvPr id="136" name="未知"/>
              <p:cNvSpPr/>
              <p:nvPr/>
            </p:nvSpPr>
            <p:spPr>
              <a:xfrm>
                <a:off x="8599320" y="914400"/>
                <a:ext cx="314640" cy="317160"/>
              </a:xfrm>
              <a:custGeom>
                <a:avLst/>
                <a:gdLst/>
                <a:ahLst/>
                <a:rect l="l" t="t" r="r" b="b"/>
                <a:pathLst>
                  <a:path w="116" h="117">
                    <a:moveTo>
                      <a:pt x="12" y="0"/>
                    </a:moveTo>
                    <a:lnTo>
                      <a:pt x="0" y="67"/>
                    </a:lnTo>
                    <a:lnTo>
                      <a:pt x="53" y="117"/>
                    </a:lnTo>
                    <a:lnTo>
                      <a:pt x="108" y="105"/>
                    </a:lnTo>
                    <a:lnTo>
                      <a:pt x="116" y="54"/>
                    </a:lnTo>
                    <a:lnTo>
                      <a:pt x="65" y="0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3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未知"/>
              <p:cNvSpPr/>
              <p:nvPr/>
            </p:nvSpPr>
            <p:spPr>
              <a:xfrm>
                <a:off x="8014320" y="1093320"/>
                <a:ext cx="740160" cy="617760"/>
              </a:xfrm>
              <a:custGeom>
                <a:avLst/>
                <a:gdLst/>
                <a:ahLst/>
                <a:rect l="l" t="t" r="r" b="b"/>
                <a:pathLst>
                  <a:path w="273" h="228">
                    <a:moveTo>
                      <a:pt x="0" y="169"/>
                    </a:moveTo>
                    <a:lnTo>
                      <a:pt x="45" y="228"/>
                    </a:lnTo>
                    <a:lnTo>
                      <a:pt x="273" y="49"/>
                    </a:lnTo>
                    <a:lnTo>
                      <a:pt x="215" y="0"/>
                    </a:lnTo>
                    <a:lnTo>
                      <a:pt x="0" y="169"/>
                    </a:lnTo>
                    <a:close/>
                  </a:path>
                </a:pathLst>
              </a:custGeom>
              <a:noFill/>
              <a:ln w="9360">
                <a:solidFill>
                  <a:srgbClr val="ffffff">
                    <a:alpha val="3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未知"/>
              <p:cNvSpPr/>
              <p:nvPr/>
            </p:nvSpPr>
            <p:spPr>
              <a:xfrm>
                <a:off x="8014320" y="914400"/>
                <a:ext cx="617760" cy="642600"/>
              </a:xfrm>
              <a:custGeom>
                <a:avLst/>
                <a:gdLst/>
                <a:ahLst/>
                <a:rect l="l" t="t" r="r" b="b"/>
                <a:pathLst>
                  <a:path w="228" h="237">
                    <a:moveTo>
                      <a:pt x="21" y="172"/>
                    </a:moveTo>
                    <a:lnTo>
                      <a:pt x="0" y="237"/>
                    </a:lnTo>
                    <a:lnTo>
                      <a:pt x="219" y="64"/>
                    </a:lnTo>
                    <a:lnTo>
                      <a:pt x="228" y="0"/>
                    </a:lnTo>
                    <a:lnTo>
                      <a:pt x="21" y="172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9360">
                <a:solidFill>
                  <a:srgbClr val="ffffff">
                    <a:alpha val="3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未知"/>
              <p:cNvSpPr/>
              <p:nvPr/>
            </p:nvSpPr>
            <p:spPr>
              <a:xfrm>
                <a:off x="8136000" y="1198800"/>
                <a:ext cx="761760" cy="511920"/>
              </a:xfrm>
              <a:custGeom>
                <a:avLst/>
                <a:gdLst/>
                <a:ahLst/>
                <a:rect l="l" t="t" r="r" b="b"/>
                <a:pathLst>
                  <a:path w="281" h="189">
                    <a:moveTo>
                      <a:pt x="63" y="178"/>
                    </a:moveTo>
                    <a:lnTo>
                      <a:pt x="0" y="189"/>
                    </a:lnTo>
                    <a:lnTo>
                      <a:pt x="227" y="10"/>
                    </a:lnTo>
                    <a:lnTo>
                      <a:pt x="281" y="0"/>
                    </a:lnTo>
                    <a:lnTo>
                      <a:pt x="63" y="178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9360">
                <a:solidFill>
                  <a:srgbClr val="ffffff">
                    <a:alpha val="3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未知"/>
              <p:cNvSpPr/>
              <p:nvPr/>
            </p:nvSpPr>
            <p:spPr>
              <a:xfrm>
                <a:off x="7827120" y="1369800"/>
                <a:ext cx="436320" cy="442080"/>
              </a:xfrm>
              <a:custGeom>
                <a:avLst/>
                <a:gdLst/>
                <a:ahLst/>
                <a:rect l="l" t="t" r="r" b="b"/>
                <a:pathLst>
                  <a:path w="161" h="163">
                    <a:moveTo>
                      <a:pt x="0" y="135"/>
                    </a:moveTo>
                    <a:lnTo>
                      <a:pt x="18" y="163"/>
                    </a:lnTo>
                    <a:lnTo>
                      <a:pt x="161" y="120"/>
                    </a:lnTo>
                    <a:lnTo>
                      <a:pt x="114" y="124"/>
                    </a:lnTo>
                    <a:lnTo>
                      <a:pt x="69" y="67"/>
                    </a:lnTo>
                    <a:lnTo>
                      <a:pt x="90" y="0"/>
                    </a:lnTo>
                    <a:lnTo>
                      <a:pt x="0" y="135"/>
                    </a:lnTo>
                    <a:close/>
                  </a:path>
                </a:pathLst>
              </a:custGeom>
              <a:noFill/>
              <a:ln w="9360">
                <a:solidFill>
                  <a:srgbClr val="ffffff">
                    <a:alpha val="3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未知"/>
              <p:cNvSpPr/>
              <p:nvPr/>
            </p:nvSpPr>
            <p:spPr>
              <a:xfrm>
                <a:off x="7770240" y="1738800"/>
                <a:ext cx="105480" cy="88920"/>
              </a:xfrm>
              <a:custGeom>
                <a:avLst/>
                <a:gdLst/>
                <a:ahLst/>
                <a:rect l="l" t="t" r="r" b="b"/>
                <a:pathLst>
                  <a:path w="39" h="33">
                    <a:moveTo>
                      <a:pt x="27" y="0"/>
                    </a:moveTo>
                    <a:lnTo>
                      <a:pt x="0" y="33"/>
                    </a:lnTo>
                    <a:lnTo>
                      <a:pt x="39" y="2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7848720" y="1548360"/>
                <a:ext cx="178560" cy="194760"/>
              </a:xfrm>
              <a:prstGeom prst="line">
                <a:avLst/>
              </a:prstGeom>
              <a:ln w="9360">
                <a:solidFill>
                  <a:srgbClr val="ffffff">
                    <a:alpha val="3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7873200" y="1703160"/>
                <a:ext cx="271080" cy="92160"/>
              </a:xfrm>
              <a:prstGeom prst="line">
                <a:avLst/>
              </a:prstGeom>
              <a:ln w="9360">
                <a:solidFill>
                  <a:srgbClr val="ffffff">
                    <a:alpha val="3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507200">
                <a:off x="8713440" y="1019520"/>
                <a:ext cx="115920" cy="7308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未知"/>
            <p:cNvSpPr/>
            <p:nvPr/>
          </p:nvSpPr>
          <p:spPr>
            <a:xfrm>
              <a:off x="7602120" y="1760760"/>
              <a:ext cx="217080" cy="21384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100" y="0"/>
                  </a:moveTo>
                  <a:cubicBezTo>
                    <a:pt x="69" y="32"/>
                    <a:pt x="39" y="64"/>
                    <a:pt x="22" y="77"/>
                  </a:cubicBezTo>
                  <a:cubicBezTo>
                    <a:pt x="5" y="90"/>
                    <a:pt x="4" y="79"/>
                    <a:pt x="0" y="80"/>
                  </a:cubicBezTo>
                </a:path>
              </a:pathLst>
            </a:custGeom>
            <a:noFill/>
            <a:ln w="2844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271200" y="2909880"/>
            <a:ext cx="1030320" cy="1029600"/>
            <a:chOff x="6271200" y="2909880"/>
            <a:chExt cx="1030320" cy="1029600"/>
          </a:xfrm>
        </p:grpSpPr>
        <p:sp>
          <p:nvSpPr>
            <p:cNvPr id="147" name="未知"/>
            <p:cNvSpPr/>
            <p:nvPr/>
          </p:nvSpPr>
          <p:spPr>
            <a:xfrm rot="6957000">
              <a:off x="6401160" y="3038760"/>
              <a:ext cx="769680" cy="771480"/>
            </a:xfrm>
            <a:custGeom>
              <a:avLst/>
              <a:gdLst/>
              <a:ahLst/>
              <a:rect l="l" t="t" r="r" b="b"/>
              <a:pathLst>
                <a:path w="2453" h="2458">
                  <a:moveTo>
                    <a:pt x="1229" y="0"/>
                  </a:moveTo>
                  <a:lnTo>
                    <a:pt x="1101" y="8"/>
                  </a:lnTo>
                  <a:lnTo>
                    <a:pt x="982" y="24"/>
                  </a:lnTo>
                  <a:lnTo>
                    <a:pt x="862" y="55"/>
                  </a:lnTo>
                  <a:lnTo>
                    <a:pt x="751" y="95"/>
                  </a:lnTo>
                  <a:lnTo>
                    <a:pt x="644" y="146"/>
                  </a:lnTo>
                  <a:lnTo>
                    <a:pt x="541" y="210"/>
                  </a:lnTo>
                  <a:lnTo>
                    <a:pt x="446" y="278"/>
                  </a:lnTo>
                  <a:lnTo>
                    <a:pt x="358" y="357"/>
                  </a:lnTo>
                  <a:lnTo>
                    <a:pt x="279" y="445"/>
                  </a:lnTo>
                  <a:lnTo>
                    <a:pt x="211" y="540"/>
                  </a:lnTo>
                  <a:lnTo>
                    <a:pt x="147" y="643"/>
                  </a:lnTo>
                  <a:lnTo>
                    <a:pt x="95" y="752"/>
                  </a:lnTo>
                  <a:lnTo>
                    <a:pt x="56" y="863"/>
                  </a:lnTo>
                  <a:lnTo>
                    <a:pt x="24" y="982"/>
                  </a:lnTo>
                  <a:lnTo>
                    <a:pt x="7" y="1101"/>
                  </a:lnTo>
                  <a:lnTo>
                    <a:pt x="0" y="1229"/>
                  </a:lnTo>
                  <a:lnTo>
                    <a:pt x="7" y="1352"/>
                  </a:lnTo>
                  <a:lnTo>
                    <a:pt x="24" y="1475"/>
                  </a:lnTo>
                  <a:lnTo>
                    <a:pt x="56" y="1595"/>
                  </a:lnTo>
                  <a:lnTo>
                    <a:pt x="95" y="1706"/>
                  </a:lnTo>
                  <a:lnTo>
                    <a:pt x="147" y="1813"/>
                  </a:lnTo>
                  <a:lnTo>
                    <a:pt x="211" y="1913"/>
                  </a:lnTo>
                  <a:lnTo>
                    <a:pt x="279" y="2008"/>
                  </a:lnTo>
                  <a:lnTo>
                    <a:pt x="358" y="2096"/>
                  </a:lnTo>
                  <a:lnTo>
                    <a:pt x="446" y="2176"/>
                  </a:lnTo>
                  <a:lnTo>
                    <a:pt x="541" y="2248"/>
                  </a:lnTo>
                  <a:lnTo>
                    <a:pt x="644" y="2310"/>
                  </a:lnTo>
                  <a:lnTo>
                    <a:pt x="751" y="2363"/>
                  </a:lnTo>
                  <a:lnTo>
                    <a:pt x="862" y="2402"/>
                  </a:lnTo>
                  <a:lnTo>
                    <a:pt x="982" y="2434"/>
                  </a:lnTo>
                  <a:lnTo>
                    <a:pt x="1101" y="2450"/>
                  </a:lnTo>
                  <a:lnTo>
                    <a:pt x="1229" y="2458"/>
                  </a:lnTo>
                  <a:lnTo>
                    <a:pt x="1352" y="2450"/>
                  </a:lnTo>
                  <a:lnTo>
                    <a:pt x="1476" y="2434"/>
                  </a:lnTo>
                  <a:lnTo>
                    <a:pt x="1594" y="2402"/>
                  </a:lnTo>
                  <a:lnTo>
                    <a:pt x="1705" y="2363"/>
                  </a:lnTo>
                  <a:lnTo>
                    <a:pt x="1814" y="2310"/>
                  </a:lnTo>
                  <a:lnTo>
                    <a:pt x="1913" y="2248"/>
                  </a:lnTo>
                  <a:lnTo>
                    <a:pt x="2008" y="2176"/>
                  </a:lnTo>
                  <a:lnTo>
                    <a:pt x="2096" y="2096"/>
                  </a:lnTo>
                  <a:lnTo>
                    <a:pt x="2175" y="2008"/>
                  </a:lnTo>
                  <a:lnTo>
                    <a:pt x="2243" y="1913"/>
                  </a:lnTo>
                  <a:lnTo>
                    <a:pt x="2306" y="1813"/>
                  </a:lnTo>
                  <a:lnTo>
                    <a:pt x="2358" y="1706"/>
                  </a:lnTo>
                  <a:lnTo>
                    <a:pt x="2397" y="1595"/>
                  </a:lnTo>
                  <a:lnTo>
                    <a:pt x="2430" y="1475"/>
                  </a:lnTo>
                  <a:lnTo>
                    <a:pt x="2445" y="1352"/>
                  </a:lnTo>
                  <a:lnTo>
                    <a:pt x="2453" y="1229"/>
                  </a:lnTo>
                  <a:lnTo>
                    <a:pt x="2445" y="1101"/>
                  </a:lnTo>
                  <a:lnTo>
                    <a:pt x="2430" y="982"/>
                  </a:lnTo>
                  <a:lnTo>
                    <a:pt x="2397" y="863"/>
                  </a:lnTo>
                  <a:lnTo>
                    <a:pt x="2358" y="752"/>
                  </a:lnTo>
                  <a:lnTo>
                    <a:pt x="2306" y="643"/>
                  </a:lnTo>
                  <a:lnTo>
                    <a:pt x="2243" y="540"/>
                  </a:lnTo>
                  <a:lnTo>
                    <a:pt x="2175" y="445"/>
                  </a:lnTo>
                  <a:lnTo>
                    <a:pt x="2096" y="357"/>
                  </a:lnTo>
                  <a:lnTo>
                    <a:pt x="2008" y="278"/>
                  </a:lnTo>
                  <a:lnTo>
                    <a:pt x="1913" y="210"/>
                  </a:lnTo>
                  <a:lnTo>
                    <a:pt x="1814" y="146"/>
                  </a:lnTo>
                  <a:lnTo>
                    <a:pt x="1705" y="95"/>
                  </a:lnTo>
                  <a:lnTo>
                    <a:pt x="1594" y="55"/>
                  </a:lnTo>
                  <a:lnTo>
                    <a:pt x="1476" y="24"/>
                  </a:lnTo>
                  <a:lnTo>
                    <a:pt x="1352" y="8"/>
                  </a:lnTo>
                  <a:lnTo>
                    <a:pt x="1229" y="0"/>
                  </a:lnTo>
                  <a:close/>
                  <a:moveTo>
                    <a:pt x="1324" y="2263"/>
                  </a:moveTo>
                  <a:lnTo>
                    <a:pt x="1217" y="2259"/>
                  </a:lnTo>
                  <a:lnTo>
                    <a:pt x="1113" y="2244"/>
                  </a:lnTo>
                  <a:lnTo>
                    <a:pt x="1010" y="2215"/>
                  </a:lnTo>
                  <a:lnTo>
                    <a:pt x="914" y="2180"/>
                  </a:lnTo>
                  <a:lnTo>
                    <a:pt x="823" y="2136"/>
                  </a:lnTo>
                  <a:lnTo>
                    <a:pt x="736" y="2084"/>
                  </a:lnTo>
                  <a:lnTo>
                    <a:pt x="656" y="2024"/>
                  </a:lnTo>
                  <a:lnTo>
                    <a:pt x="580" y="1957"/>
                  </a:lnTo>
                  <a:lnTo>
                    <a:pt x="512" y="1881"/>
                  </a:lnTo>
                  <a:lnTo>
                    <a:pt x="454" y="1802"/>
                  </a:lnTo>
                  <a:lnTo>
                    <a:pt x="402" y="1718"/>
                  </a:lnTo>
                  <a:lnTo>
                    <a:pt x="358" y="1626"/>
                  </a:lnTo>
                  <a:lnTo>
                    <a:pt x="322" y="1531"/>
                  </a:lnTo>
                  <a:lnTo>
                    <a:pt x="295" y="1432"/>
                  </a:lnTo>
                  <a:lnTo>
                    <a:pt x="279" y="1328"/>
                  </a:lnTo>
                  <a:lnTo>
                    <a:pt x="275" y="1221"/>
                  </a:lnTo>
                  <a:lnTo>
                    <a:pt x="279" y="1114"/>
                  </a:lnTo>
                  <a:lnTo>
                    <a:pt x="295" y="1009"/>
                  </a:lnTo>
                  <a:lnTo>
                    <a:pt x="322" y="910"/>
                  </a:lnTo>
                  <a:lnTo>
                    <a:pt x="358" y="815"/>
                  </a:lnTo>
                  <a:lnTo>
                    <a:pt x="402" y="723"/>
                  </a:lnTo>
                  <a:lnTo>
                    <a:pt x="454" y="635"/>
                  </a:lnTo>
                  <a:lnTo>
                    <a:pt x="512" y="557"/>
                  </a:lnTo>
                  <a:lnTo>
                    <a:pt x="580" y="481"/>
                  </a:lnTo>
                  <a:lnTo>
                    <a:pt x="656" y="413"/>
                  </a:lnTo>
                  <a:lnTo>
                    <a:pt x="736" y="353"/>
                  </a:lnTo>
                  <a:lnTo>
                    <a:pt x="823" y="302"/>
                  </a:lnTo>
                  <a:lnTo>
                    <a:pt x="914" y="258"/>
                  </a:lnTo>
                  <a:lnTo>
                    <a:pt x="1010" y="222"/>
                  </a:lnTo>
                  <a:lnTo>
                    <a:pt x="1113" y="195"/>
                  </a:lnTo>
                  <a:lnTo>
                    <a:pt x="1217" y="178"/>
                  </a:lnTo>
                  <a:lnTo>
                    <a:pt x="1324" y="174"/>
                  </a:lnTo>
                  <a:lnTo>
                    <a:pt x="1427" y="178"/>
                  </a:lnTo>
                  <a:lnTo>
                    <a:pt x="1530" y="195"/>
                  </a:lnTo>
                  <a:lnTo>
                    <a:pt x="1630" y="222"/>
                  </a:lnTo>
                  <a:lnTo>
                    <a:pt x="1726" y="258"/>
                  </a:lnTo>
                  <a:lnTo>
                    <a:pt x="1818" y="302"/>
                  </a:lnTo>
                  <a:lnTo>
                    <a:pt x="1901" y="353"/>
                  </a:lnTo>
                  <a:lnTo>
                    <a:pt x="1985" y="413"/>
                  </a:lnTo>
                  <a:lnTo>
                    <a:pt x="2055" y="481"/>
                  </a:lnTo>
                  <a:lnTo>
                    <a:pt x="2123" y="557"/>
                  </a:lnTo>
                  <a:lnTo>
                    <a:pt x="2183" y="635"/>
                  </a:lnTo>
                  <a:lnTo>
                    <a:pt x="2235" y="723"/>
                  </a:lnTo>
                  <a:lnTo>
                    <a:pt x="2278" y="815"/>
                  </a:lnTo>
                  <a:lnTo>
                    <a:pt x="2313" y="910"/>
                  </a:lnTo>
                  <a:lnTo>
                    <a:pt x="2342" y="1009"/>
                  </a:lnTo>
                  <a:lnTo>
                    <a:pt x="2358" y="1114"/>
                  </a:lnTo>
                  <a:lnTo>
                    <a:pt x="2362" y="1221"/>
                  </a:lnTo>
                  <a:lnTo>
                    <a:pt x="2358" y="1328"/>
                  </a:lnTo>
                  <a:lnTo>
                    <a:pt x="2342" y="1432"/>
                  </a:lnTo>
                  <a:lnTo>
                    <a:pt x="2313" y="1531"/>
                  </a:lnTo>
                  <a:lnTo>
                    <a:pt x="2278" y="1626"/>
                  </a:lnTo>
                  <a:lnTo>
                    <a:pt x="2235" y="1718"/>
                  </a:lnTo>
                  <a:lnTo>
                    <a:pt x="2183" y="1802"/>
                  </a:lnTo>
                  <a:lnTo>
                    <a:pt x="2123" y="1881"/>
                  </a:lnTo>
                  <a:lnTo>
                    <a:pt x="2055" y="1957"/>
                  </a:lnTo>
                  <a:lnTo>
                    <a:pt x="1985" y="2024"/>
                  </a:lnTo>
                  <a:lnTo>
                    <a:pt x="1901" y="2084"/>
                  </a:lnTo>
                  <a:lnTo>
                    <a:pt x="1818" y="2136"/>
                  </a:lnTo>
                  <a:lnTo>
                    <a:pt x="1726" y="2180"/>
                  </a:lnTo>
                  <a:lnTo>
                    <a:pt x="1630" y="2215"/>
                  </a:lnTo>
                  <a:lnTo>
                    <a:pt x="1530" y="2244"/>
                  </a:lnTo>
                  <a:lnTo>
                    <a:pt x="1427" y="2259"/>
                  </a:lnTo>
                  <a:lnTo>
                    <a:pt x="1324" y="226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 rot="11706000">
              <a:off x="6549480" y="3200400"/>
              <a:ext cx="622080" cy="245160"/>
            </a:xfrm>
            <a:custGeom>
              <a:avLst/>
              <a:gdLst/>
              <a:ahLst/>
              <a:rect l="l" t="t" r="r" b="b"/>
              <a:pathLst>
                <a:path w="1731" h="344">
                  <a:moveTo>
                    <a:pt x="0" y="176"/>
                  </a:moveTo>
                  <a:cubicBezTo>
                    <a:pt x="856" y="0"/>
                    <a:pt x="1604" y="344"/>
                    <a:pt x="1604" y="344"/>
                  </a:cubicBezTo>
                  <a:cubicBezTo>
                    <a:pt x="1731" y="327"/>
                    <a:pt x="1056" y="80"/>
                    <a:pt x="760" y="72"/>
                  </a:cubicBezTo>
                  <a:cubicBezTo>
                    <a:pt x="464" y="64"/>
                    <a:pt x="244" y="60"/>
                    <a:pt x="0" y="176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 flipH="1" rot="2208000">
              <a:off x="6388920" y="3443040"/>
              <a:ext cx="622080" cy="238680"/>
            </a:xfrm>
            <a:custGeom>
              <a:avLst/>
              <a:gdLst/>
              <a:ahLst/>
              <a:rect l="l" t="t" r="r" b="b"/>
              <a:pathLst>
                <a:path w="1731" h="344">
                  <a:moveTo>
                    <a:pt x="0" y="176"/>
                  </a:moveTo>
                  <a:cubicBezTo>
                    <a:pt x="856" y="0"/>
                    <a:pt x="1604" y="344"/>
                    <a:pt x="1604" y="344"/>
                  </a:cubicBezTo>
                  <a:cubicBezTo>
                    <a:pt x="1731" y="327"/>
                    <a:pt x="1056" y="80"/>
                    <a:pt x="760" y="72"/>
                  </a:cubicBezTo>
                  <a:cubicBezTo>
                    <a:pt x="464" y="64"/>
                    <a:pt x="244" y="60"/>
                    <a:pt x="0" y="176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 rot="6957000">
              <a:off x="6768360" y="3586320"/>
              <a:ext cx="151200" cy="38520"/>
            </a:xfrm>
            <a:custGeom>
              <a:avLst/>
              <a:gdLst/>
              <a:ahLst/>
              <a:rect l="l" t="t" r="r" b="b"/>
              <a:pathLst>
                <a:path w="133" h="34">
                  <a:moveTo>
                    <a:pt x="0" y="32"/>
                  </a:moveTo>
                  <a:cubicBezTo>
                    <a:pt x="112" y="0"/>
                    <a:pt x="107" y="34"/>
                    <a:pt x="122" y="30"/>
                  </a:cubicBezTo>
                  <a:cubicBezTo>
                    <a:pt x="133" y="26"/>
                    <a:pt x="88" y="8"/>
                    <a:pt x="68" y="8"/>
                  </a:cubicBezTo>
                  <a:cubicBezTo>
                    <a:pt x="41" y="6"/>
                    <a:pt x="33" y="16"/>
                    <a:pt x="0" y="3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 rot="6957000">
              <a:off x="6811920" y="3634560"/>
              <a:ext cx="150840" cy="38520"/>
            </a:xfrm>
            <a:custGeom>
              <a:avLst/>
              <a:gdLst/>
              <a:ahLst/>
              <a:rect l="l" t="t" r="r" b="b"/>
              <a:pathLst>
                <a:path w="133" h="34">
                  <a:moveTo>
                    <a:pt x="0" y="32"/>
                  </a:moveTo>
                  <a:cubicBezTo>
                    <a:pt x="112" y="0"/>
                    <a:pt x="107" y="34"/>
                    <a:pt x="122" y="30"/>
                  </a:cubicBezTo>
                  <a:cubicBezTo>
                    <a:pt x="133" y="26"/>
                    <a:pt x="88" y="8"/>
                    <a:pt x="68" y="8"/>
                  </a:cubicBezTo>
                  <a:cubicBezTo>
                    <a:pt x="41" y="6"/>
                    <a:pt x="33" y="16"/>
                    <a:pt x="0" y="3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 rot="6957000">
              <a:off x="6710040" y="3555360"/>
              <a:ext cx="151200" cy="38520"/>
            </a:xfrm>
            <a:custGeom>
              <a:avLst/>
              <a:gdLst/>
              <a:ahLst/>
              <a:rect l="l" t="t" r="r" b="b"/>
              <a:pathLst>
                <a:path w="133" h="34">
                  <a:moveTo>
                    <a:pt x="0" y="32"/>
                  </a:moveTo>
                  <a:cubicBezTo>
                    <a:pt x="112" y="0"/>
                    <a:pt x="107" y="34"/>
                    <a:pt x="122" y="30"/>
                  </a:cubicBezTo>
                  <a:cubicBezTo>
                    <a:pt x="133" y="26"/>
                    <a:pt x="88" y="8"/>
                    <a:pt x="68" y="8"/>
                  </a:cubicBezTo>
                  <a:cubicBezTo>
                    <a:pt x="41" y="6"/>
                    <a:pt x="33" y="16"/>
                    <a:pt x="0" y="3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 rot="6957000">
              <a:off x="6664320" y="3533040"/>
              <a:ext cx="151200" cy="38520"/>
            </a:xfrm>
            <a:custGeom>
              <a:avLst/>
              <a:gdLst/>
              <a:ahLst/>
              <a:rect l="l" t="t" r="r" b="b"/>
              <a:pathLst>
                <a:path w="133" h="34">
                  <a:moveTo>
                    <a:pt x="0" y="32"/>
                  </a:moveTo>
                  <a:cubicBezTo>
                    <a:pt x="112" y="0"/>
                    <a:pt x="107" y="34"/>
                    <a:pt x="122" y="30"/>
                  </a:cubicBezTo>
                  <a:cubicBezTo>
                    <a:pt x="133" y="26"/>
                    <a:pt x="88" y="8"/>
                    <a:pt x="68" y="8"/>
                  </a:cubicBezTo>
                  <a:cubicBezTo>
                    <a:pt x="41" y="6"/>
                    <a:pt x="33" y="16"/>
                    <a:pt x="0" y="3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 rot="6957000">
              <a:off x="6616080" y="3509280"/>
              <a:ext cx="151200" cy="38520"/>
            </a:xfrm>
            <a:custGeom>
              <a:avLst/>
              <a:gdLst/>
              <a:ahLst/>
              <a:rect l="l" t="t" r="r" b="b"/>
              <a:pathLst>
                <a:path w="133" h="34">
                  <a:moveTo>
                    <a:pt x="0" y="32"/>
                  </a:moveTo>
                  <a:cubicBezTo>
                    <a:pt x="112" y="0"/>
                    <a:pt x="107" y="34"/>
                    <a:pt x="122" y="30"/>
                  </a:cubicBezTo>
                  <a:cubicBezTo>
                    <a:pt x="133" y="26"/>
                    <a:pt x="88" y="8"/>
                    <a:pt x="68" y="8"/>
                  </a:cubicBezTo>
                  <a:cubicBezTo>
                    <a:pt x="41" y="6"/>
                    <a:pt x="33" y="16"/>
                    <a:pt x="0" y="3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 rot="6957000">
              <a:off x="6565320" y="3494160"/>
              <a:ext cx="151200" cy="38520"/>
            </a:xfrm>
            <a:custGeom>
              <a:avLst/>
              <a:gdLst/>
              <a:ahLst/>
              <a:rect l="l" t="t" r="r" b="b"/>
              <a:pathLst>
                <a:path w="133" h="34">
                  <a:moveTo>
                    <a:pt x="0" y="32"/>
                  </a:moveTo>
                  <a:cubicBezTo>
                    <a:pt x="112" y="0"/>
                    <a:pt x="107" y="34"/>
                    <a:pt x="122" y="30"/>
                  </a:cubicBezTo>
                  <a:cubicBezTo>
                    <a:pt x="133" y="26"/>
                    <a:pt x="88" y="8"/>
                    <a:pt x="68" y="8"/>
                  </a:cubicBezTo>
                  <a:cubicBezTo>
                    <a:pt x="41" y="6"/>
                    <a:pt x="33" y="16"/>
                    <a:pt x="0" y="3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 rot="6957000">
              <a:off x="6823800" y="3361320"/>
              <a:ext cx="151200" cy="38520"/>
            </a:xfrm>
            <a:custGeom>
              <a:avLst/>
              <a:gdLst/>
              <a:ahLst/>
              <a:rect l="l" t="t" r="r" b="b"/>
              <a:pathLst>
                <a:path w="133" h="34">
                  <a:moveTo>
                    <a:pt x="0" y="32"/>
                  </a:moveTo>
                  <a:cubicBezTo>
                    <a:pt x="112" y="0"/>
                    <a:pt x="107" y="34"/>
                    <a:pt x="122" y="30"/>
                  </a:cubicBezTo>
                  <a:cubicBezTo>
                    <a:pt x="133" y="26"/>
                    <a:pt x="88" y="8"/>
                    <a:pt x="68" y="8"/>
                  </a:cubicBezTo>
                  <a:cubicBezTo>
                    <a:pt x="41" y="6"/>
                    <a:pt x="33" y="16"/>
                    <a:pt x="0" y="3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 rot="6957000">
              <a:off x="6883560" y="3388320"/>
              <a:ext cx="150840" cy="38520"/>
            </a:xfrm>
            <a:custGeom>
              <a:avLst/>
              <a:gdLst/>
              <a:ahLst/>
              <a:rect l="l" t="t" r="r" b="b"/>
              <a:pathLst>
                <a:path w="133" h="34">
                  <a:moveTo>
                    <a:pt x="0" y="32"/>
                  </a:moveTo>
                  <a:cubicBezTo>
                    <a:pt x="112" y="0"/>
                    <a:pt x="107" y="34"/>
                    <a:pt x="122" y="30"/>
                  </a:cubicBezTo>
                  <a:cubicBezTo>
                    <a:pt x="133" y="26"/>
                    <a:pt x="88" y="8"/>
                    <a:pt x="68" y="8"/>
                  </a:cubicBezTo>
                  <a:cubicBezTo>
                    <a:pt x="41" y="6"/>
                    <a:pt x="33" y="16"/>
                    <a:pt x="0" y="3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 rot="6957000">
              <a:off x="6765120" y="3330720"/>
              <a:ext cx="150840" cy="38520"/>
            </a:xfrm>
            <a:custGeom>
              <a:avLst/>
              <a:gdLst/>
              <a:ahLst/>
              <a:rect l="l" t="t" r="r" b="b"/>
              <a:pathLst>
                <a:path w="133" h="34">
                  <a:moveTo>
                    <a:pt x="0" y="32"/>
                  </a:moveTo>
                  <a:cubicBezTo>
                    <a:pt x="112" y="0"/>
                    <a:pt x="107" y="34"/>
                    <a:pt x="122" y="30"/>
                  </a:cubicBezTo>
                  <a:cubicBezTo>
                    <a:pt x="133" y="26"/>
                    <a:pt x="88" y="8"/>
                    <a:pt x="68" y="8"/>
                  </a:cubicBezTo>
                  <a:cubicBezTo>
                    <a:pt x="41" y="6"/>
                    <a:pt x="33" y="16"/>
                    <a:pt x="0" y="3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 rot="6957000">
              <a:off x="6718680" y="3308040"/>
              <a:ext cx="150840" cy="38520"/>
            </a:xfrm>
            <a:custGeom>
              <a:avLst/>
              <a:gdLst/>
              <a:ahLst/>
              <a:rect l="l" t="t" r="r" b="b"/>
              <a:pathLst>
                <a:path w="133" h="34">
                  <a:moveTo>
                    <a:pt x="0" y="32"/>
                  </a:moveTo>
                  <a:cubicBezTo>
                    <a:pt x="112" y="0"/>
                    <a:pt x="107" y="34"/>
                    <a:pt x="122" y="30"/>
                  </a:cubicBezTo>
                  <a:cubicBezTo>
                    <a:pt x="133" y="26"/>
                    <a:pt x="88" y="8"/>
                    <a:pt x="68" y="8"/>
                  </a:cubicBezTo>
                  <a:cubicBezTo>
                    <a:pt x="41" y="6"/>
                    <a:pt x="33" y="16"/>
                    <a:pt x="0" y="3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未知"/>
            <p:cNvSpPr/>
            <p:nvPr/>
          </p:nvSpPr>
          <p:spPr>
            <a:xfrm rot="6957000">
              <a:off x="6663600" y="3263400"/>
              <a:ext cx="150840" cy="38520"/>
            </a:xfrm>
            <a:custGeom>
              <a:avLst/>
              <a:gdLst/>
              <a:ahLst/>
              <a:rect l="l" t="t" r="r" b="b"/>
              <a:pathLst>
                <a:path w="133" h="34">
                  <a:moveTo>
                    <a:pt x="0" y="32"/>
                  </a:moveTo>
                  <a:cubicBezTo>
                    <a:pt x="112" y="0"/>
                    <a:pt x="107" y="34"/>
                    <a:pt x="122" y="30"/>
                  </a:cubicBezTo>
                  <a:cubicBezTo>
                    <a:pt x="133" y="26"/>
                    <a:pt x="88" y="8"/>
                    <a:pt x="68" y="8"/>
                  </a:cubicBezTo>
                  <a:cubicBezTo>
                    <a:pt x="41" y="6"/>
                    <a:pt x="33" y="16"/>
                    <a:pt x="0" y="3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未知"/>
            <p:cNvSpPr/>
            <p:nvPr/>
          </p:nvSpPr>
          <p:spPr>
            <a:xfrm rot="6957000">
              <a:off x="6623640" y="3228840"/>
              <a:ext cx="151200" cy="38520"/>
            </a:xfrm>
            <a:custGeom>
              <a:avLst/>
              <a:gdLst/>
              <a:ahLst/>
              <a:rect l="l" t="t" r="r" b="b"/>
              <a:pathLst>
                <a:path w="133" h="34">
                  <a:moveTo>
                    <a:pt x="0" y="32"/>
                  </a:moveTo>
                  <a:cubicBezTo>
                    <a:pt x="112" y="0"/>
                    <a:pt x="107" y="34"/>
                    <a:pt x="122" y="30"/>
                  </a:cubicBezTo>
                  <a:cubicBezTo>
                    <a:pt x="133" y="26"/>
                    <a:pt x="88" y="8"/>
                    <a:pt x="68" y="8"/>
                  </a:cubicBezTo>
                  <a:cubicBezTo>
                    <a:pt x="41" y="6"/>
                    <a:pt x="33" y="16"/>
                    <a:pt x="0" y="3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048400" y="3881160"/>
            <a:ext cx="1465560" cy="1478160"/>
            <a:chOff x="2048400" y="3881160"/>
            <a:chExt cx="1465560" cy="1478160"/>
          </a:xfrm>
        </p:grpSpPr>
        <p:sp>
          <p:nvSpPr>
            <p:cNvPr id="163" name="未知"/>
            <p:cNvSpPr/>
            <p:nvPr/>
          </p:nvSpPr>
          <p:spPr>
            <a:xfrm>
              <a:off x="2433600" y="4138560"/>
              <a:ext cx="557280" cy="231840"/>
            </a:xfrm>
            <a:custGeom>
              <a:avLst/>
              <a:gdLst/>
              <a:ahLst/>
              <a:rect l="l" t="t" r="r" b="b"/>
              <a:pathLst>
                <a:path w="894" h="506">
                  <a:moveTo>
                    <a:pt x="824" y="200"/>
                  </a:moveTo>
                  <a:lnTo>
                    <a:pt x="791" y="208"/>
                  </a:lnTo>
                  <a:lnTo>
                    <a:pt x="752" y="216"/>
                  </a:lnTo>
                  <a:lnTo>
                    <a:pt x="711" y="224"/>
                  </a:lnTo>
                  <a:lnTo>
                    <a:pt x="676" y="236"/>
                  </a:lnTo>
                  <a:lnTo>
                    <a:pt x="636" y="247"/>
                  </a:lnTo>
                  <a:lnTo>
                    <a:pt x="604" y="263"/>
                  </a:lnTo>
                  <a:lnTo>
                    <a:pt x="577" y="283"/>
                  </a:lnTo>
                  <a:lnTo>
                    <a:pt x="556" y="308"/>
                  </a:lnTo>
                  <a:lnTo>
                    <a:pt x="540" y="335"/>
                  </a:lnTo>
                  <a:lnTo>
                    <a:pt x="525" y="362"/>
                  </a:lnTo>
                  <a:lnTo>
                    <a:pt x="513" y="391"/>
                  </a:lnTo>
                  <a:lnTo>
                    <a:pt x="497" y="419"/>
                  </a:lnTo>
                  <a:lnTo>
                    <a:pt x="482" y="442"/>
                  </a:lnTo>
                  <a:lnTo>
                    <a:pt x="461" y="466"/>
                  </a:lnTo>
                  <a:lnTo>
                    <a:pt x="437" y="483"/>
                  </a:lnTo>
                  <a:lnTo>
                    <a:pt x="402" y="498"/>
                  </a:lnTo>
                  <a:lnTo>
                    <a:pt x="381" y="506"/>
                  </a:lnTo>
                  <a:lnTo>
                    <a:pt x="362" y="506"/>
                  </a:lnTo>
                  <a:lnTo>
                    <a:pt x="346" y="502"/>
                  </a:lnTo>
                  <a:lnTo>
                    <a:pt x="330" y="498"/>
                  </a:lnTo>
                  <a:lnTo>
                    <a:pt x="319" y="495"/>
                  </a:lnTo>
                  <a:lnTo>
                    <a:pt x="302" y="487"/>
                  </a:lnTo>
                  <a:lnTo>
                    <a:pt x="286" y="483"/>
                  </a:lnTo>
                  <a:lnTo>
                    <a:pt x="270" y="479"/>
                  </a:lnTo>
                  <a:lnTo>
                    <a:pt x="243" y="479"/>
                  </a:lnTo>
                  <a:lnTo>
                    <a:pt x="214" y="487"/>
                  </a:lnTo>
                  <a:lnTo>
                    <a:pt x="191" y="495"/>
                  </a:lnTo>
                  <a:lnTo>
                    <a:pt x="163" y="502"/>
                  </a:lnTo>
                  <a:lnTo>
                    <a:pt x="144" y="502"/>
                  </a:lnTo>
                  <a:lnTo>
                    <a:pt x="123" y="502"/>
                  </a:lnTo>
                  <a:lnTo>
                    <a:pt x="103" y="502"/>
                  </a:lnTo>
                  <a:lnTo>
                    <a:pt x="84" y="498"/>
                  </a:lnTo>
                  <a:lnTo>
                    <a:pt x="60" y="495"/>
                  </a:lnTo>
                  <a:lnTo>
                    <a:pt x="39" y="487"/>
                  </a:lnTo>
                  <a:lnTo>
                    <a:pt x="20" y="487"/>
                  </a:lnTo>
                  <a:lnTo>
                    <a:pt x="0" y="483"/>
                  </a:lnTo>
                  <a:lnTo>
                    <a:pt x="16" y="434"/>
                  </a:lnTo>
                  <a:lnTo>
                    <a:pt x="31" y="391"/>
                  </a:lnTo>
                  <a:lnTo>
                    <a:pt x="48" y="343"/>
                  </a:lnTo>
                  <a:lnTo>
                    <a:pt x="64" y="304"/>
                  </a:lnTo>
                  <a:lnTo>
                    <a:pt x="84" y="263"/>
                  </a:lnTo>
                  <a:lnTo>
                    <a:pt x="111" y="224"/>
                  </a:lnTo>
                  <a:lnTo>
                    <a:pt x="144" y="192"/>
                  </a:lnTo>
                  <a:lnTo>
                    <a:pt x="187" y="160"/>
                  </a:lnTo>
                  <a:lnTo>
                    <a:pt x="235" y="136"/>
                  </a:lnTo>
                  <a:lnTo>
                    <a:pt x="286" y="113"/>
                  </a:lnTo>
                  <a:lnTo>
                    <a:pt x="342" y="92"/>
                  </a:lnTo>
                  <a:lnTo>
                    <a:pt x="398" y="76"/>
                  </a:lnTo>
                  <a:lnTo>
                    <a:pt x="453" y="60"/>
                  </a:lnTo>
                  <a:lnTo>
                    <a:pt x="509" y="45"/>
                  </a:lnTo>
                  <a:lnTo>
                    <a:pt x="565" y="33"/>
                  </a:lnTo>
                  <a:lnTo>
                    <a:pt x="616" y="21"/>
                  </a:lnTo>
                  <a:lnTo>
                    <a:pt x="649" y="13"/>
                  </a:lnTo>
                  <a:lnTo>
                    <a:pt x="684" y="4"/>
                  </a:lnTo>
                  <a:lnTo>
                    <a:pt x="723" y="0"/>
                  </a:lnTo>
                  <a:lnTo>
                    <a:pt x="760" y="0"/>
                  </a:lnTo>
                  <a:lnTo>
                    <a:pt x="795" y="4"/>
                  </a:lnTo>
                  <a:lnTo>
                    <a:pt x="831" y="17"/>
                  </a:lnTo>
                  <a:lnTo>
                    <a:pt x="859" y="33"/>
                  </a:lnTo>
                  <a:lnTo>
                    <a:pt x="882" y="60"/>
                  </a:lnTo>
                  <a:lnTo>
                    <a:pt x="894" y="96"/>
                  </a:lnTo>
                  <a:lnTo>
                    <a:pt x="890" y="128"/>
                  </a:lnTo>
                  <a:lnTo>
                    <a:pt x="875" y="160"/>
                  </a:lnTo>
                  <a:lnTo>
                    <a:pt x="843" y="187"/>
                  </a:lnTo>
                  <a:lnTo>
                    <a:pt x="824" y="200"/>
                  </a:lnTo>
                  <a:close/>
                </a:path>
              </a:pathLst>
            </a:custGeom>
            <a:solidFill>
              <a:srgbClr val="ffffff">
                <a:alpha val="49000"/>
              </a:srgbClr>
            </a:solidFill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2330280" y="4460760"/>
              <a:ext cx="457200" cy="430200"/>
            </a:xfrm>
            <a:custGeom>
              <a:avLst/>
              <a:gdLst/>
              <a:ahLst/>
              <a:rect l="l" t="t" r="r" b="b"/>
              <a:pathLst>
                <a:path w="1002" h="936">
                  <a:moveTo>
                    <a:pt x="112" y="72"/>
                  </a:moveTo>
                  <a:lnTo>
                    <a:pt x="159" y="124"/>
                  </a:lnTo>
                  <a:lnTo>
                    <a:pt x="219" y="152"/>
                  </a:lnTo>
                  <a:lnTo>
                    <a:pt x="283" y="164"/>
                  </a:lnTo>
                  <a:lnTo>
                    <a:pt x="350" y="156"/>
                  </a:lnTo>
                  <a:lnTo>
                    <a:pt x="418" y="140"/>
                  </a:lnTo>
                  <a:lnTo>
                    <a:pt x="482" y="121"/>
                  </a:lnTo>
                  <a:lnTo>
                    <a:pt x="546" y="92"/>
                  </a:lnTo>
                  <a:lnTo>
                    <a:pt x="600" y="64"/>
                  </a:lnTo>
                  <a:lnTo>
                    <a:pt x="649" y="41"/>
                  </a:lnTo>
                  <a:lnTo>
                    <a:pt x="696" y="25"/>
                  </a:lnTo>
                  <a:lnTo>
                    <a:pt x="748" y="9"/>
                  </a:lnTo>
                  <a:lnTo>
                    <a:pt x="800" y="0"/>
                  </a:lnTo>
                  <a:lnTo>
                    <a:pt x="851" y="0"/>
                  </a:lnTo>
                  <a:lnTo>
                    <a:pt x="903" y="5"/>
                  </a:lnTo>
                  <a:lnTo>
                    <a:pt x="950" y="13"/>
                  </a:lnTo>
                  <a:lnTo>
                    <a:pt x="1002" y="33"/>
                  </a:lnTo>
                  <a:lnTo>
                    <a:pt x="971" y="97"/>
                  </a:lnTo>
                  <a:lnTo>
                    <a:pt x="919" y="140"/>
                  </a:lnTo>
                  <a:lnTo>
                    <a:pt x="855" y="175"/>
                  </a:lnTo>
                  <a:lnTo>
                    <a:pt x="792" y="208"/>
                  </a:lnTo>
                  <a:lnTo>
                    <a:pt x="728" y="243"/>
                  </a:lnTo>
                  <a:lnTo>
                    <a:pt x="672" y="284"/>
                  </a:lnTo>
                  <a:lnTo>
                    <a:pt x="637" y="339"/>
                  </a:lnTo>
                  <a:lnTo>
                    <a:pt x="625" y="415"/>
                  </a:lnTo>
                  <a:lnTo>
                    <a:pt x="637" y="514"/>
                  </a:lnTo>
                  <a:lnTo>
                    <a:pt x="653" y="606"/>
                  </a:lnTo>
                  <a:lnTo>
                    <a:pt x="660" y="697"/>
                  </a:lnTo>
                  <a:lnTo>
                    <a:pt x="637" y="796"/>
                  </a:lnTo>
                  <a:lnTo>
                    <a:pt x="612" y="837"/>
                  </a:lnTo>
                  <a:lnTo>
                    <a:pt x="585" y="868"/>
                  </a:lnTo>
                  <a:lnTo>
                    <a:pt x="550" y="892"/>
                  </a:lnTo>
                  <a:lnTo>
                    <a:pt x="509" y="912"/>
                  </a:lnTo>
                  <a:lnTo>
                    <a:pt x="470" y="923"/>
                  </a:lnTo>
                  <a:lnTo>
                    <a:pt x="426" y="932"/>
                  </a:lnTo>
                  <a:lnTo>
                    <a:pt x="379" y="936"/>
                  </a:lnTo>
                  <a:lnTo>
                    <a:pt x="334" y="936"/>
                  </a:lnTo>
                  <a:lnTo>
                    <a:pt x="303" y="936"/>
                  </a:lnTo>
                  <a:lnTo>
                    <a:pt x="266" y="936"/>
                  </a:lnTo>
                  <a:lnTo>
                    <a:pt x="231" y="932"/>
                  </a:lnTo>
                  <a:lnTo>
                    <a:pt x="200" y="929"/>
                  </a:lnTo>
                  <a:lnTo>
                    <a:pt x="167" y="919"/>
                  </a:lnTo>
                  <a:lnTo>
                    <a:pt x="136" y="908"/>
                  </a:lnTo>
                  <a:lnTo>
                    <a:pt x="108" y="892"/>
                  </a:lnTo>
                  <a:lnTo>
                    <a:pt x="84" y="868"/>
                  </a:lnTo>
                  <a:lnTo>
                    <a:pt x="52" y="812"/>
                  </a:lnTo>
                  <a:lnTo>
                    <a:pt x="41" y="757"/>
                  </a:lnTo>
                  <a:lnTo>
                    <a:pt x="33" y="693"/>
                  </a:lnTo>
                  <a:lnTo>
                    <a:pt x="25" y="633"/>
                  </a:lnTo>
                  <a:lnTo>
                    <a:pt x="8" y="526"/>
                  </a:lnTo>
                  <a:lnTo>
                    <a:pt x="0" y="411"/>
                  </a:lnTo>
                  <a:lnTo>
                    <a:pt x="4" y="296"/>
                  </a:lnTo>
                  <a:lnTo>
                    <a:pt x="12" y="183"/>
                  </a:lnTo>
                  <a:lnTo>
                    <a:pt x="16" y="148"/>
                  </a:lnTo>
                  <a:lnTo>
                    <a:pt x="29" y="121"/>
                  </a:lnTo>
                  <a:lnTo>
                    <a:pt x="37" y="92"/>
                  </a:lnTo>
                  <a:lnTo>
                    <a:pt x="52" y="68"/>
                  </a:lnTo>
                  <a:lnTo>
                    <a:pt x="56" y="64"/>
                  </a:lnTo>
                  <a:lnTo>
                    <a:pt x="72" y="60"/>
                  </a:lnTo>
                  <a:lnTo>
                    <a:pt x="91" y="60"/>
                  </a:lnTo>
                  <a:lnTo>
                    <a:pt x="112" y="72"/>
                  </a:lnTo>
                  <a:close/>
                </a:path>
              </a:pathLst>
            </a:custGeom>
            <a:solidFill>
              <a:srgbClr val="ffffff">
                <a:alpha val="49000"/>
              </a:srgbClr>
            </a:solidFill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2798640" y="4303440"/>
              <a:ext cx="357120" cy="770040"/>
            </a:xfrm>
            <a:custGeom>
              <a:avLst/>
              <a:gdLst/>
              <a:ahLst/>
              <a:rect l="l" t="t" r="r" b="b"/>
              <a:pathLst>
                <a:path w="291" h="627">
                  <a:moveTo>
                    <a:pt x="48" y="48"/>
                  </a:moveTo>
                  <a:cubicBezTo>
                    <a:pt x="69" y="51"/>
                    <a:pt x="94" y="18"/>
                    <a:pt x="126" y="18"/>
                  </a:cubicBezTo>
                  <a:cubicBezTo>
                    <a:pt x="158" y="18"/>
                    <a:pt x="208" y="24"/>
                    <a:pt x="240" y="48"/>
                  </a:cubicBezTo>
                  <a:lnTo>
                    <a:pt x="291" y="132"/>
                  </a:lnTo>
                  <a:lnTo>
                    <a:pt x="240" y="240"/>
                  </a:lnTo>
                  <a:lnTo>
                    <a:pt x="192" y="288"/>
                  </a:lnTo>
                  <a:lnTo>
                    <a:pt x="264" y="336"/>
                  </a:lnTo>
                  <a:lnTo>
                    <a:pt x="288" y="480"/>
                  </a:lnTo>
                  <a:cubicBezTo>
                    <a:pt x="264" y="536"/>
                    <a:pt x="80" y="621"/>
                    <a:pt x="48" y="624"/>
                  </a:cubicBezTo>
                  <a:cubicBezTo>
                    <a:pt x="16" y="627"/>
                    <a:pt x="96" y="541"/>
                    <a:pt x="96" y="501"/>
                  </a:cubicBezTo>
                  <a:cubicBezTo>
                    <a:pt x="96" y="473"/>
                    <a:pt x="37" y="488"/>
                    <a:pt x="45" y="453"/>
                  </a:cubicBezTo>
                  <a:cubicBezTo>
                    <a:pt x="53" y="429"/>
                    <a:pt x="136" y="320"/>
                    <a:pt x="144" y="288"/>
                  </a:cubicBezTo>
                  <a:cubicBezTo>
                    <a:pt x="152" y="256"/>
                    <a:pt x="112" y="216"/>
                    <a:pt x="96" y="192"/>
                  </a:cubicBezTo>
                  <a:cubicBezTo>
                    <a:pt x="80" y="168"/>
                    <a:pt x="64" y="168"/>
                    <a:pt x="48" y="144"/>
                  </a:cubicBezTo>
                  <a:cubicBezTo>
                    <a:pt x="32" y="120"/>
                    <a:pt x="8" y="72"/>
                    <a:pt x="0" y="48"/>
                  </a:cubicBezTo>
                  <a:lnTo>
                    <a:pt x="0" y="0"/>
                  </a:lnTo>
                  <a:lnTo>
                    <a:pt x="48" y="48"/>
                  </a:lnTo>
                  <a:close/>
                </a:path>
              </a:pathLst>
            </a:cu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 rot="17369400">
              <a:off x="2199240" y="4048560"/>
              <a:ext cx="1163520" cy="1143000"/>
            </a:xfrm>
            <a:custGeom>
              <a:avLst/>
              <a:gdLst/>
              <a:ahLst/>
              <a:rect l="l" t="t" r="r" b="b"/>
              <a:pathLst>
                <a:path w="2453" h="2458">
                  <a:moveTo>
                    <a:pt x="1229" y="0"/>
                  </a:moveTo>
                  <a:lnTo>
                    <a:pt x="1101" y="8"/>
                  </a:lnTo>
                  <a:lnTo>
                    <a:pt x="982" y="24"/>
                  </a:lnTo>
                  <a:lnTo>
                    <a:pt x="862" y="55"/>
                  </a:lnTo>
                  <a:lnTo>
                    <a:pt x="751" y="95"/>
                  </a:lnTo>
                  <a:lnTo>
                    <a:pt x="644" y="146"/>
                  </a:lnTo>
                  <a:lnTo>
                    <a:pt x="541" y="210"/>
                  </a:lnTo>
                  <a:lnTo>
                    <a:pt x="446" y="278"/>
                  </a:lnTo>
                  <a:lnTo>
                    <a:pt x="358" y="357"/>
                  </a:lnTo>
                  <a:lnTo>
                    <a:pt x="279" y="445"/>
                  </a:lnTo>
                  <a:lnTo>
                    <a:pt x="211" y="540"/>
                  </a:lnTo>
                  <a:lnTo>
                    <a:pt x="147" y="643"/>
                  </a:lnTo>
                  <a:lnTo>
                    <a:pt x="95" y="752"/>
                  </a:lnTo>
                  <a:lnTo>
                    <a:pt x="56" y="863"/>
                  </a:lnTo>
                  <a:lnTo>
                    <a:pt x="24" y="982"/>
                  </a:lnTo>
                  <a:lnTo>
                    <a:pt x="7" y="1101"/>
                  </a:lnTo>
                  <a:lnTo>
                    <a:pt x="0" y="1229"/>
                  </a:lnTo>
                  <a:lnTo>
                    <a:pt x="7" y="1352"/>
                  </a:lnTo>
                  <a:lnTo>
                    <a:pt x="24" y="1475"/>
                  </a:lnTo>
                  <a:lnTo>
                    <a:pt x="56" y="1595"/>
                  </a:lnTo>
                  <a:lnTo>
                    <a:pt x="95" y="1706"/>
                  </a:lnTo>
                  <a:lnTo>
                    <a:pt x="147" y="1813"/>
                  </a:lnTo>
                  <a:lnTo>
                    <a:pt x="211" y="1913"/>
                  </a:lnTo>
                  <a:lnTo>
                    <a:pt x="279" y="2008"/>
                  </a:lnTo>
                  <a:lnTo>
                    <a:pt x="358" y="2096"/>
                  </a:lnTo>
                  <a:lnTo>
                    <a:pt x="446" y="2176"/>
                  </a:lnTo>
                  <a:lnTo>
                    <a:pt x="541" y="2248"/>
                  </a:lnTo>
                  <a:lnTo>
                    <a:pt x="644" y="2310"/>
                  </a:lnTo>
                  <a:lnTo>
                    <a:pt x="751" y="2363"/>
                  </a:lnTo>
                  <a:lnTo>
                    <a:pt x="862" y="2402"/>
                  </a:lnTo>
                  <a:lnTo>
                    <a:pt x="982" y="2434"/>
                  </a:lnTo>
                  <a:lnTo>
                    <a:pt x="1101" y="2450"/>
                  </a:lnTo>
                  <a:lnTo>
                    <a:pt x="1229" y="2458"/>
                  </a:lnTo>
                  <a:lnTo>
                    <a:pt x="1352" y="2450"/>
                  </a:lnTo>
                  <a:lnTo>
                    <a:pt x="1476" y="2434"/>
                  </a:lnTo>
                  <a:lnTo>
                    <a:pt x="1594" y="2402"/>
                  </a:lnTo>
                  <a:lnTo>
                    <a:pt x="1705" y="2363"/>
                  </a:lnTo>
                  <a:lnTo>
                    <a:pt x="1814" y="2310"/>
                  </a:lnTo>
                  <a:lnTo>
                    <a:pt x="1913" y="2248"/>
                  </a:lnTo>
                  <a:lnTo>
                    <a:pt x="2008" y="2176"/>
                  </a:lnTo>
                  <a:lnTo>
                    <a:pt x="2096" y="2096"/>
                  </a:lnTo>
                  <a:lnTo>
                    <a:pt x="2175" y="2008"/>
                  </a:lnTo>
                  <a:lnTo>
                    <a:pt x="2243" y="1913"/>
                  </a:lnTo>
                  <a:lnTo>
                    <a:pt x="2306" y="1813"/>
                  </a:lnTo>
                  <a:lnTo>
                    <a:pt x="2358" y="1706"/>
                  </a:lnTo>
                  <a:lnTo>
                    <a:pt x="2397" y="1595"/>
                  </a:lnTo>
                  <a:lnTo>
                    <a:pt x="2430" y="1475"/>
                  </a:lnTo>
                  <a:lnTo>
                    <a:pt x="2445" y="1352"/>
                  </a:lnTo>
                  <a:lnTo>
                    <a:pt x="2453" y="1229"/>
                  </a:lnTo>
                  <a:lnTo>
                    <a:pt x="2445" y="1101"/>
                  </a:lnTo>
                  <a:lnTo>
                    <a:pt x="2430" y="982"/>
                  </a:lnTo>
                  <a:lnTo>
                    <a:pt x="2397" y="863"/>
                  </a:lnTo>
                  <a:lnTo>
                    <a:pt x="2358" y="752"/>
                  </a:lnTo>
                  <a:lnTo>
                    <a:pt x="2306" y="643"/>
                  </a:lnTo>
                  <a:lnTo>
                    <a:pt x="2243" y="540"/>
                  </a:lnTo>
                  <a:lnTo>
                    <a:pt x="2175" y="445"/>
                  </a:lnTo>
                  <a:lnTo>
                    <a:pt x="2096" y="357"/>
                  </a:lnTo>
                  <a:lnTo>
                    <a:pt x="2008" y="278"/>
                  </a:lnTo>
                  <a:lnTo>
                    <a:pt x="1913" y="210"/>
                  </a:lnTo>
                  <a:lnTo>
                    <a:pt x="1814" y="146"/>
                  </a:lnTo>
                  <a:lnTo>
                    <a:pt x="1705" y="95"/>
                  </a:lnTo>
                  <a:lnTo>
                    <a:pt x="1594" y="55"/>
                  </a:lnTo>
                  <a:lnTo>
                    <a:pt x="1476" y="24"/>
                  </a:lnTo>
                  <a:lnTo>
                    <a:pt x="1352" y="8"/>
                  </a:lnTo>
                  <a:lnTo>
                    <a:pt x="1229" y="0"/>
                  </a:lnTo>
                  <a:close/>
                  <a:moveTo>
                    <a:pt x="1324" y="2263"/>
                  </a:moveTo>
                  <a:lnTo>
                    <a:pt x="1217" y="2259"/>
                  </a:lnTo>
                  <a:lnTo>
                    <a:pt x="1113" y="2244"/>
                  </a:lnTo>
                  <a:lnTo>
                    <a:pt x="1010" y="2215"/>
                  </a:lnTo>
                  <a:lnTo>
                    <a:pt x="914" y="2180"/>
                  </a:lnTo>
                  <a:lnTo>
                    <a:pt x="823" y="2136"/>
                  </a:lnTo>
                  <a:lnTo>
                    <a:pt x="736" y="2084"/>
                  </a:lnTo>
                  <a:lnTo>
                    <a:pt x="656" y="2024"/>
                  </a:lnTo>
                  <a:lnTo>
                    <a:pt x="580" y="1957"/>
                  </a:lnTo>
                  <a:lnTo>
                    <a:pt x="512" y="1881"/>
                  </a:lnTo>
                  <a:lnTo>
                    <a:pt x="454" y="1802"/>
                  </a:lnTo>
                  <a:lnTo>
                    <a:pt x="402" y="1718"/>
                  </a:lnTo>
                  <a:lnTo>
                    <a:pt x="358" y="1626"/>
                  </a:lnTo>
                  <a:lnTo>
                    <a:pt x="322" y="1531"/>
                  </a:lnTo>
                  <a:lnTo>
                    <a:pt x="295" y="1432"/>
                  </a:lnTo>
                  <a:lnTo>
                    <a:pt x="279" y="1328"/>
                  </a:lnTo>
                  <a:lnTo>
                    <a:pt x="275" y="1221"/>
                  </a:lnTo>
                  <a:lnTo>
                    <a:pt x="279" y="1114"/>
                  </a:lnTo>
                  <a:lnTo>
                    <a:pt x="295" y="1009"/>
                  </a:lnTo>
                  <a:lnTo>
                    <a:pt x="322" y="910"/>
                  </a:lnTo>
                  <a:lnTo>
                    <a:pt x="358" y="815"/>
                  </a:lnTo>
                  <a:lnTo>
                    <a:pt x="402" y="723"/>
                  </a:lnTo>
                  <a:lnTo>
                    <a:pt x="454" y="635"/>
                  </a:lnTo>
                  <a:lnTo>
                    <a:pt x="512" y="557"/>
                  </a:lnTo>
                  <a:lnTo>
                    <a:pt x="580" y="481"/>
                  </a:lnTo>
                  <a:lnTo>
                    <a:pt x="656" y="413"/>
                  </a:lnTo>
                  <a:lnTo>
                    <a:pt x="736" y="353"/>
                  </a:lnTo>
                  <a:lnTo>
                    <a:pt x="823" y="302"/>
                  </a:lnTo>
                  <a:lnTo>
                    <a:pt x="914" y="258"/>
                  </a:lnTo>
                  <a:lnTo>
                    <a:pt x="1010" y="222"/>
                  </a:lnTo>
                  <a:lnTo>
                    <a:pt x="1113" y="195"/>
                  </a:lnTo>
                  <a:lnTo>
                    <a:pt x="1217" y="178"/>
                  </a:lnTo>
                  <a:lnTo>
                    <a:pt x="1324" y="174"/>
                  </a:lnTo>
                  <a:lnTo>
                    <a:pt x="1427" y="178"/>
                  </a:lnTo>
                  <a:lnTo>
                    <a:pt x="1530" y="195"/>
                  </a:lnTo>
                  <a:lnTo>
                    <a:pt x="1630" y="222"/>
                  </a:lnTo>
                  <a:lnTo>
                    <a:pt x="1726" y="258"/>
                  </a:lnTo>
                  <a:lnTo>
                    <a:pt x="1818" y="302"/>
                  </a:lnTo>
                  <a:lnTo>
                    <a:pt x="1901" y="353"/>
                  </a:lnTo>
                  <a:lnTo>
                    <a:pt x="1985" y="413"/>
                  </a:lnTo>
                  <a:lnTo>
                    <a:pt x="2055" y="481"/>
                  </a:lnTo>
                  <a:lnTo>
                    <a:pt x="2123" y="557"/>
                  </a:lnTo>
                  <a:lnTo>
                    <a:pt x="2183" y="635"/>
                  </a:lnTo>
                  <a:lnTo>
                    <a:pt x="2235" y="723"/>
                  </a:lnTo>
                  <a:lnTo>
                    <a:pt x="2278" y="815"/>
                  </a:lnTo>
                  <a:lnTo>
                    <a:pt x="2313" y="910"/>
                  </a:lnTo>
                  <a:lnTo>
                    <a:pt x="2342" y="1009"/>
                  </a:lnTo>
                  <a:lnTo>
                    <a:pt x="2358" y="1114"/>
                  </a:lnTo>
                  <a:lnTo>
                    <a:pt x="2362" y="1221"/>
                  </a:lnTo>
                  <a:lnTo>
                    <a:pt x="2358" y="1328"/>
                  </a:lnTo>
                  <a:lnTo>
                    <a:pt x="2342" y="1432"/>
                  </a:lnTo>
                  <a:lnTo>
                    <a:pt x="2313" y="1531"/>
                  </a:lnTo>
                  <a:lnTo>
                    <a:pt x="2278" y="1626"/>
                  </a:lnTo>
                  <a:lnTo>
                    <a:pt x="2235" y="1718"/>
                  </a:lnTo>
                  <a:lnTo>
                    <a:pt x="2183" y="1802"/>
                  </a:lnTo>
                  <a:lnTo>
                    <a:pt x="2123" y="1881"/>
                  </a:lnTo>
                  <a:lnTo>
                    <a:pt x="2055" y="1957"/>
                  </a:lnTo>
                  <a:lnTo>
                    <a:pt x="1985" y="2024"/>
                  </a:lnTo>
                  <a:lnTo>
                    <a:pt x="1901" y="2084"/>
                  </a:lnTo>
                  <a:lnTo>
                    <a:pt x="1818" y="2136"/>
                  </a:lnTo>
                  <a:lnTo>
                    <a:pt x="1726" y="2180"/>
                  </a:lnTo>
                  <a:lnTo>
                    <a:pt x="1630" y="2215"/>
                  </a:lnTo>
                  <a:lnTo>
                    <a:pt x="1530" y="2244"/>
                  </a:lnTo>
                  <a:lnTo>
                    <a:pt x="1427" y="2259"/>
                  </a:lnTo>
                  <a:lnTo>
                    <a:pt x="1324" y="226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85800" y="2438280"/>
            <a:ext cx="1828440" cy="868320"/>
            <a:chOff x="685800" y="2438280"/>
            <a:chExt cx="1828440" cy="868320"/>
          </a:xfrm>
        </p:grpSpPr>
        <p:sp>
          <p:nvSpPr>
            <p:cNvPr id="168" name="未知"/>
            <p:cNvSpPr/>
            <p:nvPr/>
          </p:nvSpPr>
          <p:spPr>
            <a:xfrm>
              <a:off x="685800" y="2438280"/>
              <a:ext cx="1816920" cy="762120"/>
            </a:xfrm>
            <a:custGeom>
              <a:avLst/>
              <a:gdLst/>
              <a:ahLst/>
              <a:rect l="l" t="t" r="r" b="b"/>
              <a:pathLst>
                <a:path w="3920" h="1720">
                  <a:moveTo>
                    <a:pt x="0" y="1500"/>
                  </a:moveTo>
                  <a:cubicBezTo>
                    <a:pt x="0" y="1500"/>
                    <a:pt x="288" y="936"/>
                    <a:pt x="768" y="424"/>
                  </a:cubicBezTo>
                  <a:cubicBezTo>
                    <a:pt x="1652" y="0"/>
                    <a:pt x="2208" y="424"/>
                    <a:pt x="2208" y="424"/>
                  </a:cubicBezTo>
                  <a:cubicBezTo>
                    <a:pt x="3440" y="8"/>
                    <a:pt x="3752" y="612"/>
                    <a:pt x="3920" y="828"/>
                  </a:cubicBezTo>
                  <a:cubicBezTo>
                    <a:pt x="3660" y="1224"/>
                    <a:pt x="3216" y="1720"/>
                    <a:pt x="3216" y="1720"/>
                  </a:cubicBezTo>
                  <a:cubicBezTo>
                    <a:pt x="2844" y="1540"/>
                    <a:pt x="2504" y="1284"/>
                    <a:pt x="1524" y="1600"/>
                  </a:cubicBezTo>
                  <a:cubicBezTo>
                    <a:pt x="2400" y="1068"/>
                    <a:pt x="3000" y="1500"/>
                    <a:pt x="3232" y="1628"/>
                  </a:cubicBezTo>
                  <a:cubicBezTo>
                    <a:pt x="3512" y="1242"/>
                    <a:pt x="3672" y="1012"/>
                    <a:pt x="3748" y="820"/>
                  </a:cubicBezTo>
                  <a:cubicBezTo>
                    <a:pt x="3316" y="320"/>
                    <a:pt x="2643" y="350"/>
                    <a:pt x="2256" y="472"/>
                  </a:cubicBezTo>
                  <a:cubicBezTo>
                    <a:pt x="1872" y="1000"/>
                    <a:pt x="1484" y="1524"/>
                    <a:pt x="1468" y="1524"/>
                  </a:cubicBezTo>
                  <a:cubicBezTo>
                    <a:pt x="1700" y="948"/>
                    <a:pt x="2160" y="472"/>
                    <a:pt x="2160" y="472"/>
                  </a:cubicBezTo>
                  <a:cubicBezTo>
                    <a:pt x="2051" y="303"/>
                    <a:pt x="1280" y="296"/>
                    <a:pt x="812" y="508"/>
                  </a:cubicBezTo>
                  <a:cubicBezTo>
                    <a:pt x="452" y="988"/>
                    <a:pt x="96" y="1432"/>
                    <a:pt x="96" y="1432"/>
                  </a:cubicBezTo>
                  <a:cubicBezTo>
                    <a:pt x="1024" y="1112"/>
                    <a:pt x="1488" y="1576"/>
                    <a:pt x="1488" y="1576"/>
                  </a:cubicBezTo>
                  <a:cubicBezTo>
                    <a:pt x="1472" y="1587"/>
                    <a:pt x="792" y="1324"/>
                    <a:pt x="0" y="150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486440" y="2881440"/>
              <a:ext cx="1027800" cy="425160"/>
            </a:xfrm>
            <a:custGeom>
              <a:avLst/>
              <a:gdLst/>
              <a:ahLst/>
              <a:rect l="l" t="t" r="r" b="b"/>
              <a:pathLst>
                <a:path w="2218" h="960">
                  <a:moveTo>
                    <a:pt x="0" y="672"/>
                  </a:moveTo>
                  <a:cubicBezTo>
                    <a:pt x="1004" y="672"/>
                    <a:pt x="1252" y="944"/>
                    <a:pt x="1640" y="960"/>
                  </a:cubicBezTo>
                  <a:cubicBezTo>
                    <a:pt x="2068" y="464"/>
                    <a:pt x="2218" y="12"/>
                    <a:pt x="2208" y="0"/>
                  </a:cubicBezTo>
                  <a:cubicBezTo>
                    <a:pt x="2148" y="40"/>
                    <a:pt x="1840" y="516"/>
                    <a:pt x="1580" y="888"/>
                  </a:cubicBezTo>
                  <a:cubicBezTo>
                    <a:pt x="740" y="544"/>
                    <a:pt x="268" y="624"/>
                    <a:pt x="0" y="67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730080" y="3079800"/>
              <a:ext cx="734040" cy="173520"/>
            </a:xfrm>
            <a:custGeom>
              <a:avLst/>
              <a:gdLst/>
              <a:ahLst/>
              <a:rect l="l" t="t" r="r" b="b"/>
              <a:pathLst>
                <a:path w="1584" h="392">
                  <a:moveTo>
                    <a:pt x="0" y="224"/>
                  </a:moveTo>
                  <a:cubicBezTo>
                    <a:pt x="628" y="84"/>
                    <a:pt x="892" y="108"/>
                    <a:pt x="1152" y="224"/>
                  </a:cubicBezTo>
                  <a:cubicBezTo>
                    <a:pt x="1320" y="336"/>
                    <a:pt x="1380" y="392"/>
                    <a:pt x="1584" y="272"/>
                  </a:cubicBezTo>
                  <a:cubicBezTo>
                    <a:pt x="1360" y="320"/>
                    <a:pt x="1240" y="188"/>
                    <a:pt x="1144" y="144"/>
                  </a:cubicBezTo>
                  <a:cubicBezTo>
                    <a:pt x="1048" y="100"/>
                    <a:pt x="372" y="0"/>
                    <a:pt x="0" y="224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42160" y="3079800"/>
              <a:ext cx="802080" cy="152280"/>
            </a:xfrm>
            <a:custGeom>
              <a:avLst/>
              <a:gdLst/>
              <a:ahLst/>
              <a:rect l="l" t="t" r="r" b="b"/>
              <a:pathLst>
                <a:path w="1731" h="344">
                  <a:moveTo>
                    <a:pt x="0" y="176"/>
                  </a:moveTo>
                  <a:cubicBezTo>
                    <a:pt x="856" y="0"/>
                    <a:pt x="1604" y="344"/>
                    <a:pt x="1604" y="344"/>
                  </a:cubicBezTo>
                  <a:cubicBezTo>
                    <a:pt x="1731" y="327"/>
                    <a:pt x="1056" y="80"/>
                    <a:pt x="760" y="72"/>
                  </a:cubicBezTo>
                  <a:cubicBezTo>
                    <a:pt x="464" y="64"/>
                    <a:pt x="244" y="60"/>
                    <a:pt x="0" y="176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2209680" y="2923920"/>
              <a:ext cx="233640" cy="297720"/>
            </a:xfrm>
            <a:custGeom>
              <a:avLst/>
              <a:gdLst/>
              <a:ahLst/>
              <a:rect l="l" t="t" r="r" b="b"/>
              <a:pathLst>
                <a:path w="504" h="672">
                  <a:moveTo>
                    <a:pt x="456" y="48"/>
                  </a:moveTo>
                  <a:cubicBezTo>
                    <a:pt x="504" y="0"/>
                    <a:pt x="384" y="240"/>
                    <a:pt x="312" y="336"/>
                  </a:cubicBezTo>
                  <a:cubicBezTo>
                    <a:pt x="240" y="432"/>
                    <a:pt x="0" y="672"/>
                    <a:pt x="24" y="624"/>
                  </a:cubicBezTo>
                  <a:lnTo>
                    <a:pt x="456" y="4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738800" y="2812320"/>
              <a:ext cx="500760" cy="133200"/>
            </a:xfrm>
            <a:custGeom>
              <a:avLst/>
              <a:gdLst/>
              <a:ahLst/>
              <a:rect l="l" t="t" r="r" b="b"/>
              <a:pathLst>
                <a:path w="1081" h="301">
                  <a:moveTo>
                    <a:pt x="0" y="36"/>
                  </a:moveTo>
                  <a:cubicBezTo>
                    <a:pt x="576" y="52"/>
                    <a:pt x="992" y="300"/>
                    <a:pt x="992" y="300"/>
                  </a:cubicBezTo>
                  <a:cubicBezTo>
                    <a:pt x="1081" y="301"/>
                    <a:pt x="701" y="88"/>
                    <a:pt x="536" y="44"/>
                  </a:cubicBezTo>
                  <a:cubicBezTo>
                    <a:pt x="371" y="0"/>
                    <a:pt x="216" y="0"/>
                    <a:pt x="0" y="36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未知"/>
            <p:cNvSpPr/>
            <p:nvPr/>
          </p:nvSpPr>
          <p:spPr>
            <a:xfrm rot="21463800">
              <a:off x="1784880" y="2673720"/>
              <a:ext cx="500760" cy="133200"/>
            </a:xfrm>
            <a:custGeom>
              <a:avLst/>
              <a:gdLst/>
              <a:ahLst/>
              <a:rect l="l" t="t" r="r" b="b"/>
              <a:pathLst>
                <a:path w="1081" h="301">
                  <a:moveTo>
                    <a:pt x="0" y="36"/>
                  </a:moveTo>
                  <a:cubicBezTo>
                    <a:pt x="576" y="52"/>
                    <a:pt x="992" y="300"/>
                    <a:pt x="992" y="300"/>
                  </a:cubicBezTo>
                  <a:cubicBezTo>
                    <a:pt x="1081" y="301"/>
                    <a:pt x="701" y="88"/>
                    <a:pt x="536" y="44"/>
                  </a:cubicBezTo>
                  <a:cubicBezTo>
                    <a:pt x="371" y="0"/>
                    <a:pt x="216" y="0"/>
                    <a:pt x="0" y="36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未知"/>
            <p:cNvSpPr/>
            <p:nvPr/>
          </p:nvSpPr>
          <p:spPr>
            <a:xfrm>
              <a:off x="1050840" y="2679120"/>
              <a:ext cx="469440" cy="75600"/>
            </a:xfrm>
            <a:custGeom>
              <a:avLst/>
              <a:gdLst/>
              <a:ahLst/>
              <a:rect l="l" t="t" r="r" b="b"/>
              <a:pathLst>
                <a:path w="1013" h="171">
                  <a:moveTo>
                    <a:pt x="0" y="116"/>
                  </a:moveTo>
                  <a:cubicBezTo>
                    <a:pt x="620" y="0"/>
                    <a:pt x="851" y="171"/>
                    <a:pt x="932" y="156"/>
                  </a:cubicBezTo>
                  <a:cubicBezTo>
                    <a:pt x="1013" y="141"/>
                    <a:pt x="640" y="30"/>
                    <a:pt x="485" y="23"/>
                  </a:cubicBezTo>
                  <a:cubicBezTo>
                    <a:pt x="337" y="16"/>
                    <a:pt x="182" y="59"/>
                    <a:pt x="0" y="116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987840" y="2789280"/>
              <a:ext cx="469440" cy="75600"/>
            </a:xfrm>
            <a:custGeom>
              <a:avLst/>
              <a:gdLst/>
              <a:ahLst/>
              <a:rect l="l" t="t" r="r" b="b"/>
              <a:pathLst>
                <a:path w="1013" h="171">
                  <a:moveTo>
                    <a:pt x="0" y="116"/>
                  </a:moveTo>
                  <a:cubicBezTo>
                    <a:pt x="620" y="0"/>
                    <a:pt x="851" y="171"/>
                    <a:pt x="932" y="156"/>
                  </a:cubicBezTo>
                  <a:cubicBezTo>
                    <a:pt x="1013" y="141"/>
                    <a:pt x="640" y="30"/>
                    <a:pt x="485" y="23"/>
                  </a:cubicBezTo>
                  <a:cubicBezTo>
                    <a:pt x="337" y="16"/>
                    <a:pt x="182" y="59"/>
                    <a:pt x="0" y="116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894960" y="2922120"/>
              <a:ext cx="489600" cy="68400"/>
            </a:xfrm>
            <a:custGeom>
              <a:avLst/>
              <a:gdLst/>
              <a:ahLst/>
              <a:rect l="l" t="t" r="r" b="b"/>
              <a:pathLst>
                <a:path w="1057" h="155">
                  <a:moveTo>
                    <a:pt x="0" y="100"/>
                  </a:moveTo>
                  <a:cubicBezTo>
                    <a:pt x="652" y="36"/>
                    <a:pt x="888" y="155"/>
                    <a:pt x="972" y="140"/>
                  </a:cubicBezTo>
                  <a:cubicBezTo>
                    <a:pt x="1057" y="125"/>
                    <a:pt x="668" y="14"/>
                    <a:pt x="506" y="7"/>
                  </a:cubicBezTo>
                  <a:cubicBezTo>
                    <a:pt x="352" y="0"/>
                    <a:pt x="190" y="43"/>
                    <a:pt x="0" y="10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" descr=""/>
          <p:cNvPicPr/>
          <p:nvPr/>
        </p:nvPicPr>
        <p:blipFill>
          <a:blip r:embed="rId5"/>
          <a:srcRect l="43963" t="0" r="0" b="32349"/>
          <a:stretch/>
        </p:blipFill>
        <p:spPr>
          <a:xfrm>
            <a:off x="5965920" y="3657600"/>
            <a:ext cx="1197000" cy="320040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3304800" y="4500000"/>
            <a:ext cx="1301040" cy="1158120"/>
            <a:chOff x="3304800" y="4500000"/>
            <a:chExt cx="1301040" cy="1158120"/>
          </a:xfrm>
        </p:grpSpPr>
        <p:sp>
          <p:nvSpPr>
            <p:cNvPr id="180" name="未知"/>
            <p:cNvSpPr/>
            <p:nvPr/>
          </p:nvSpPr>
          <p:spPr>
            <a:xfrm rot="3172800">
              <a:off x="3863160" y="4948920"/>
              <a:ext cx="646200" cy="563040"/>
            </a:xfrm>
            <a:custGeom>
              <a:avLst/>
              <a:gdLst/>
              <a:ahLst/>
              <a:rect l="l" t="t" r="r" b="b"/>
              <a:pathLst>
                <a:path w="667" h="556">
                  <a:moveTo>
                    <a:pt x="171" y="189"/>
                  </a:moveTo>
                  <a:lnTo>
                    <a:pt x="368" y="51"/>
                  </a:lnTo>
                  <a:cubicBezTo>
                    <a:pt x="417" y="23"/>
                    <a:pt x="435" y="20"/>
                    <a:pt x="468" y="20"/>
                  </a:cubicBezTo>
                  <a:cubicBezTo>
                    <a:pt x="501" y="20"/>
                    <a:pt x="537" y="28"/>
                    <a:pt x="567" y="51"/>
                  </a:cubicBezTo>
                  <a:cubicBezTo>
                    <a:pt x="597" y="74"/>
                    <a:pt x="642" y="122"/>
                    <a:pt x="650" y="158"/>
                  </a:cubicBezTo>
                  <a:cubicBezTo>
                    <a:pt x="658" y="194"/>
                    <a:pt x="650" y="228"/>
                    <a:pt x="618" y="266"/>
                  </a:cubicBezTo>
                  <a:cubicBezTo>
                    <a:pt x="586" y="304"/>
                    <a:pt x="500" y="355"/>
                    <a:pt x="455" y="384"/>
                  </a:cubicBezTo>
                  <a:lnTo>
                    <a:pt x="350" y="440"/>
                  </a:lnTo>
                  <a:lnTo>
                    <a:pt x="298" y="464"/>
                  </a:lnTo>
                  <a:lnTo>
                    <a:pt x="221" y="491"/>
                  </a:lnTo>
                  <a:lnTo>
                    <a:pt x="141" y="515"/>
                  </a:lnTo>
                  <a:lnTo>
                    <a:pt x="63" y="444"/>
                  </a:lnTo>
                  <a:lnTo>
                    <a:pt x="221" y="317"/>
                  </a:lnTo>
                  <a:lnTo>
                    <a:pt x="54" y="426"/>
                  </a:lnTo>
                  <a:lnTo>
                    <a:pt x="33" y="391"/>
                  </a:lnTo>
                  <a:lnTo>
                    <a:pt x="32" y="359"/>
                  </a:lnTo>
                  <a:lnTo>
                    <a:pt x="120" y="266"/>
                  </a:lnTo>
                  <a:lnTo>
                    <a:pt x="158" y="270"/>
                  </a:lnTo>
                  <a:lnTo>
                    <a:pt x="187" y="280"/>
                  </a:lnTo>
                  <a:lnTo>
                    <a:pt x="219" y="295"/>
                  </a:lnTo>
                  <a:lnTo>
                    <a:pt x="284" y="368"/>
                  </a:lnTo>
                  <a:lnTo>
                    <a:pt x="321" y="450"/>
                  </a:lnTo>
                  <a:lnTo>
                    <a:pt x="294" y="363"/>
                  </a:lnTo>
                  <a:lnTo>
                    <a:pt x="232" y="282"/>
                  </a:lnTo>
                  <a:lnTo>
                    <a:pt x="193" y="255"/>
                  </a:lnTo>
                  <a:lnTo>
                    <a:pt x="149" y="241"/>
                  </a:lnTo>
                  <a:lnTo>
                    <a:pt x="99" y="243"/>
                  </a:lnTo>
                  <a:lnTo>
                    <a:pt x="23" y="323"/>
                  </a:lnTo>
                  <a:lnTo>
                    <a:pt x="0" y="376"/>
                  </a:lnTo>
                  <a:lnTo>
                    <a:pt x="4" y="401"/>
                  </a:lnTo>
                  <a:lnTo>
                    <a:pt x="21" y="447"/>
                  </a:lnTo>
                  <a:lnTo>
                    <a:pt x="59" y="500"/>
                  </a:lnTo>
                  <a:lnTo>
                    <a:pt x="77" y="517"/>
                  </a:lnTo>
                  <a:lnTo>
                    <a:pt x="94" y="530"/>
                  </a:lnTo>
                  <a:lnTo>
                    <a:pt x="113" y="543"/>
                  </a:lnTo>
                  <a:lnTo>
                    <a:pt x="130" y="551"/>
                  </a:lnTo>
                  <a:lnTo>
                    <a:pt x="144" y="556"/>
                  </a:lnTo>
                  <a:lnTo>
                    <a:pt x="159" y="556"/>
                  </a:lnTo>
                  <a:lnTo>
                    <a:pt x="173" y="555"/>
                  </a:lnTo>
                  <a:lnTo>
                    <a:pt x="203" y="544"/>
                  </a:lnTo>
                  <a:lnTo>
                    <a:pt x="244" y="524"/>
                  </a:lnTo>
                  <a:lnTo>
                    <a:pt x="365" y="472"/>
                  </a:lnTo>
                  <a:lnTo>
                    <a:pt x="392" y="460"/>
                  </a:lnTo>
                  <a:lnTo>
                    <a:pt x="418" y="449"/>
                  </a:lnTo>
                  <a:lnTo>
                    <a:pt x="445" y="438"/>
                  </a:lnTo>
                  <a:lnTo>
                    <a:pt x="494" y="414"/>
                  </a:lnTo>
                  <a:lnTo>
                    <a:pt x="516" y="401"/>
                  </a:lnTo>
                  <a:lnTo>
                    <a:pt x="539" y="388"/>
                  </a:lnTo>
                  <a:lnTo>
                    <a:pt x="560" y="375"/>
                  </a:lnTo>
                  <a:lnTo>
                    <a:pt x="590" y="351"/>
                  </a:lnTo>
                  <a:lnTo>
                    <a:pt x="614" y="324"/>
                  </a:lnTo>
                  <a:lnTo>
                    <a:pt x="622" y="313"/>
                  </a:lnTo>
                  <a:lnTo>
                    <a:pt x="641" y="275"/>
                  </a:lnTo>
                  <a:lnTo>
                    <a:pt x="646" y="261"/>
                  </a:lnTo>
                  <a:lnTo>
                    <a:pt x="653" y="246"/>
                  </a:lnTo>
                  <a:lnTo>
                    <a:pt x="657" y="232"/>
                  </a:lnTo>
                  <a:lnTo>
                    <a:pt x="667" y="188"/>
                  </a:lnTo>
                  <a:lnTo>
                    <a:pt x="667" y="159"/>
                  </a:lnTo>
                  <a:lnTo>
                    <a:pt x="652" y="104"/>
                  </a:lnTo>
                  <a:lnTo>
                    <a:pt x="587" y="38"/>
                  </a:lnTo>
                  <a:lnTo>
                    <a:pt x="547" y="17"/>
                  </a:lnTo>
                  <a:lnTo>
                    <a:pt x="528" y="10"/>
                  </a:lnTo>
                  <a:lnTo>
                    <a:pt x="508" y="5"/>
                  </a:lnTo>
                  <a:lnTo>
                    <a:pt x="488" y="1"/>
                  </a:lnTo>
                  <a:lnTo>
                    <a:pt x="468" y="0"/>
                  </a:lnTo>
                  <a:lnTo>
                    <a:pt x="450" y="1"/>
                  </a:lnTo>
                  <a:lnTo>
                    <a:pt x="431" y="4"/>
                  </a:lnTo>
                  <a:lnTo>
                    <a:pt x="414" y="9"/>
                  </a:lnTo>
                  <a:lnTo>
                    <a:pt x="397" y="16"/>
                  </a:lnTo>
                  <a:lnTo>
                    <a:pt x="381" y="23"/>
                  </a:lnTo>
                  <a:lnTo>
                    <a:pt x="348" y="38"/>
                  </a:lnTo>
                  <a:lnTo>
                    <a:pt x="334" y="46"/>
                  </a:lnTo>
                  <a:lnTo>
                    <a:pt x="308" y="60"/>
                  </a:lnTo>
                  <a:lnTo>
                    <a:pt x="296" y="68"/>
                  </a:lnTo>
                  <a:lnTo>
                    <a:pt x="284" y="77"/>
                  </a:lnTo>
                  <a:lnTo>
                    <a:pt x="260" y="94"/>
                  </a:lnTo>
                  <a:lnTo>
                    <a:pt x="249" y="104"/>
                  </a:lnTo>
                  <a:lnTo>
                    <a:pt x="237" y="114"/>
                  </a:lnTo>
                  <a:lnTo>
                    <a:pt x="216" y="135"/>
                  </a:lnTo>
                  <a:lnTo>
                    <a:pt x="206" y="144"/>
                  </a:lnTo>
                  <a:lnTo>
                    <a:pt x="183" y="165"/>
                  </a:lnTo>
                  <a:lnTo>
                    <a:pt x="149" y="198"/>
                  </a:lnTo>
                  <a:lnTo>
                    <a:pt x="128" y="220"/>
                  </a:lnTo>
                </a:path>
              </a:pathLst>
            </a:custGeom>
            <a:solidFill>
              <a:srgbClr val="ffffff">
                <a:alpha val="49000"/>
              </a:srgbClr>
            </a:solidFill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 rot="3172800">
              <a:off x="3210840" y="4773600"/>
              <a:ext cx="756720" cy="141480"/>
            </a:xfrm>
            <a:custGeom>
              <a:avLst/>
              <a:gdLst/>
              <a:ahLst/>
              <a:rect l="l" t="t" r="r" b="b"/>
              <a:pathLst>
                <a:path w="781" h="140">
                  <a:moveTo>
                    <a:pt x="1" y="118"/>
                  </a:moveTo>
                  <a:cubicBezTo>
                    <a:pt x="0" y="115"/>
                    <a:pt x="97" y="22"/>
                    <a:pt x="193" y="22"/>
                  </a:cubicBezTo>
                  <a:cubicBezTo>
                    <a:pt x="289" y="22"/>
                    <a:pt x="483" y="123"/>
                    <a:pt x="577" y="118"/>
                  </a:cubicBezTo>
                  <a:cubicBezTo>
                    <a:pt x="671" y="113"/>
                    <a:pt x="734" y="15"/>
                    <a:pt x="768" y="0"/>
                  </a:cubicBezTo>
                  <a:lnTo>
                    <a:pt x="781" y="18"/>
                  </a:lnTo>
                  <a:cubicBezTo>
                    <a:pt x="751" y="41"/>
                    <a:pt x="683" y="134"/>
                    <a:pt x="586" y="138"/>
                  </a:cubicBezTo>
                  <a:cubicBezTo>
                    <a:pt x="489" y="140"/>
                    <a:pt x="295" y="43"/>
                    <a:pt x="198" y="40"/>
                  </a:cubicBezTo>
                  <a:cubicBezTo>
                    <a:pt x="101" y="37"/>
                    <a:pt x="42" y="102"/>
                    <a:pt x="1" y="118"/>
                  </a:cubicBezTo>
                  <a:close/>
                </a:path>
              </a:pathLst>
            </a:custGeom>
            <a:solidFill>
              <a:srgbClr val="ffffff">
                <a:alpha val="49000"/>
              </a:srgbClr>
            </a:solidFill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" descr=""/>
          <p:cNvPicPr/>
          <p:nvPr/>
        </p:nvPicPr>
        <p:blipFill>
          <a:blip r:embed="rId6"/>
          <a:srcRect l="0" t="18931" r="57195" b="28640"/>
          <a:stretch/>
        </p:blipFill>
        <p:spPr>
          <a:xfrm>
            <a:off x="4800600" y="4114800"/>
            <a:ext cx="1011240" cy="27432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29000"/>
              </a:buClr>
              <a:buFont typeface="Arial"/>
              <a:buChar char="●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29000"/>
              </a:buClr>
              <a:buFont typeface="Arial"/>
              <a:buChar char="●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●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a6f3"/>
            </a:gs>
            <a:gs pos="100000">
              <a:srgbClr val="ddf2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16184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39800" y="979560"/>
            <a:ext cx="592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孩子眼中的未来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a6f3"/>
            </a:gs>
            <a:gs pos="100000">
              <a:srgbClr val="ddf2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2" name=""/>
          <p:cNvSpPr/>
          <p:nvPr/>
        </p:nvSpPr>
        <p:spPr>
          <a:xfrm>
            <a:off x="1265400" y="5778360"/>
            <a:ext cx="6540480" cy="457200"/>
          </a:xfrm>
          <a:prstGeom prst="roundRect">
            <a:avLst>
              <a:gd name="adj" fmla="val 27481"/>
            </a:avLst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2640960" y="161280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eec100"/>
              </a:gs>
              <a:gs pos="100000">
                <a:srgbClr val="f6e18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548240" y="1279440"/>
            <a:ext cx="0" cy="45864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573440" y="1612800"/>
            <a:ext cx="1873440" cy="1873440"/>
          </a:xfrm>
          <a:prstGeom prst="rtTriangle">
            <a:avLst/>
          </a:prstGeom>
          <a:gradFill rotWithShape="0">
            <a:gsLst>
              <a:gs pos="0">
                <a:srgbClr val="98c630"/>
              </a:gs>
              <a:gs pos="100000">
                <a:srgbClr val="c6df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rot="5400000">
            <a:off x="4574520" y="355428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f29000"/>
              </a:gs>
              <a:gs pos="100000">
                <a:srgbClr val="f6be6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 rot="16200000">
            <a:off x="2643120" y="3554280"/>
            <a:ext cx="1873440" cy="1873440"/>
          </a:xfrm>
          <a:prstGeom prst="rtTriangle">
            <a:avLst/>
          </a:prstGeom>
          <a:gradFill rotWithShape="0">
            <a:gsLst>
              <a:gs pos="0">
                <a:srgbClr val="53aadb"/>
              </a:gs>
              <a:gs pos="100000">
                <a:srgbClr val="95cae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014560" y="3522600"/>
            <a:ext cx="5070600" cy="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463760" y="15238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lease write down of contents explanation for Business Are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52400" y="25495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usiness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721040" y="25495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usiness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721040" y="401004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usiness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599920" y="401004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usiness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433520" y="5835600"/>
            <a:ext cx="624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Please write down of contents explanation for Business Ar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935600" y="15238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lease write down of contents explanation for Business Are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463760" y="49482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lease write down of contents explanation for Business Are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935600" y="49482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lease write down of contents explanation for Business Are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a6f3"/>
            </a:gs>
            <a:gs pos="100000">
              <a:srgbClr val="ddf2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9" name="未知"/>
          <p:cNvSpPr/>
          <p:nvPr/>
        </p:nvSpPr>
        <p:spPr>
          <a:xfrm>
            <a:off x="1060560" y="4548240"/>
            <a:ext cx="7014960" cy="1785960"/>
          </a:xfrm>
          <a:custGeom>
            <a:avLst/>
            <a:gdLst/>
            <a:ahLst/>
            <a:rect l="l" t="t" r="r" b="b"/>
            <a:pathLst>
              <a:path w="4419" h="1125">
                <a:moveTo>
                  <a:pt x="2216" y="584"/>
                </a:moveTo>
                <a:cubicBezTo>
                  <a:pt x="1769" y="582"/>
                  <a:pt x="1490" y="244"/>
                  <a:pt x="963" y="122"/>
                </a:cubicBezTo>
                <a:cubicBezTo>
                  <a:pt x="437" y="0"/>
                  <a:pt x="0" y="204"/>
                  <a:pt x="1" y="550"/>
                </a:cubicBezTo>
                <a:cubicBezTo>
                  <a:pt x="2" y="896"/>
                  <a:pt x="389" y="1066"/>
                  <a:pt x="888" y="1038"/>
                </a:cubicBezTo>
                <a:cubicBezTo>
                  <a:pt x="1387" y="1010"/>
                  <a:pt x="1756" y="644"/>
                  <a:pt x="2216" y="645"/>
                </a:cubicBezTo>
                <a:cubicBezTo>
                  <a:pt x="2676" y="646"/>
                  <a:pt x="2908" y="989"/>
                  <a:pt x="3443" y="1057"/>
                </a:cubicBezTo>
                <a:cubicBezTo>
                  <a:pt x="3978" y="1125"/>
                  <a:pt x="4391" y="936"/>
                  <a:pt x="4405" y="590"/>
                </a:cubicBezTo>
                <a:cubicBezTo>
                  <a:pt x="4419" y="244"/>
                  <a:pt x="3937" y="34"/>
                  <a:pt x="3497" y="129"/>
                </a:cubicBezTo>
                <a:cubicBezTo>
                  <a:pt x="3057" y="224"/>
                  <a:pt x="2663" y="586"/>
                  <a:pt x="2216" y="584"/>
                </a:cubicBezTo>
                <a:close/>
              </a:path>
            </a:pathLst>
          </a:custGeom>
          <a:gradFill rotWithShape="0">
            <a:gsLst>
              <a:gs pos="0">
                <a:srgbClr val="a7a7a7"/>
              </a:gs>
              <a:gs pos="50000">
                <a:srgbClr val="dddddd"/>
              </a:gs>
              <a:gs pos="100000">
                <a:srgbClr val="a7a7a7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695680" y="532116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711520" y="4449600"/>
            <a:ext cx="463320" cy="193680"/>
          </a:xfrm>
          <a:prstGeom prst="ellipse">
            <a:avLst/>
          </a:prstGeom>
          <a:solidFill>
            <a:srgbClr val="ee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041560" y="523080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065320" y="2735280"/>
            <a:ext cx="463680" cy="193680"/>
          </a:xfrm>
          <a:prstGeom prst="ellipse">
            <a:avLst/>
          </a:prstGeom>
          <a:solidFill>
            <a:srgbClr val="98c6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395360" y="534348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419120" y="3552840"/>
            <a:ext cx="463680" cy="193680"/>
          </a:xfrm>
          <a:prstGeom prst="ellipse">
            <a:avLst/>
          </a:prstGeom>
          <a:solidFill>
            <a:srgbClr val="f2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264440" y="535320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291440" y="2865600"/>
            <a:ext cx="463320" cy="193680"/>
          </a:xfrm>
          <a:prstGeom prst="ellipse">
            <a:avLst/>
          </a:prstGeom>
          <a:solidFill>
            <a:srgbClr val="ee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610320" y="520848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634080" y="3427560"/>
            <a:ext cx="463680" cy="193680"/>
          </a:xfrm>
          <a:prstGeom prst="ellipse">
            <a:avLst/>
          </a:prstGeom>
          <a:solidFill>
            <a:srgbClr val="98c6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964120" y="5302080"/>
            <a:ext cx="50508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986440" y="4435560"/>
            <a:ext cx="463680" cy="193680"/>
          </a:xfrm>
          <a:prstGeom prst="ellipse">
            <a:avLst/>
          </a:prstGeom>
          <a:solidFill>
            <a:srgbClr val="f2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419120" y="574848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989680" y="578160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284120" y="32209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$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890720" y="23972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630520" y="407520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$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881680" y="406728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$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497640" y="305748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$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165800" y="250020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$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143000" y="1523880"/>
            <a:ext cx="6921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未知"/>
          <p:cNvSpPr/>
          <p:nvPr/>
        </p:nvSpPr>
        <p:spPr>
          <a:xfrm>
            <a:off x="3562200" y="2560680"/>
            <a:ext cx="2097360" cy="1251000"/>
          </a:xfrm>
          <a:custGeom>
            <a:avLst/>
            <a:gdLst/>
            <a:ahLst/>
            <a:rect l="l" t="t" r="r" b="b"/>
            <a:pathLst>
              <a:path w="1321" h="788">
                <a:moveTo>
                  <a:pt x="4" y="391"/>
                </a:moveTo>
                <a:cubicBezTo>
                  <a:pt x="5" y="589"/>
                  <a:pt x="6" y="788"/>
                  <a:pt x="6" y="788"/>
                </a:cubicBezTo>
                <a:lnTo>
                  <a:pt x="1098" y="782"/>
                </a:lnTo>
                <a:cubicBezTo>
                  <a:pt x="1321" y="782"/>
                  <a:pt x="1315" y="667"/>
                  <a:pt x="1314" y="388"/>
                </a:cubicBezTo>
                <a:cubicBezTo>
                  <a:pt x="1314" y="193"/>
                  <a:pt x="1315" y="0"/>
                  <a:pt x="1315" y="0"/>
                </a:cubicBezTo>
                <a:lnTo>
                  <a:pt x="244" y="3"/>
                </a:lnTo>
                <a:cubicBezTo>
                  <a:pt x="0" y="3"/>
                  <a:pt x="5" y="138"/>
                  <a:pt x="4" y="391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840120" y="2673360"/>
            <a:ext cx="225360" cy="225360"/>
          </a:xfrm>
          <a:prstGeom prst="ellipse">
            <a:avLst/>
          </a:prstGeom>
          <a:gradFill rotWithShape="0">
            <a:gsLst>
              <a:gs pos="0">
                <a:srgbClr val="f29000"/>
              </a:gs>
              <a:gs pos="100000">
                <a:srgbClr val="be71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840120" y="3056040"/>
            <a:ext cx="225360" cy="225360"/>
          </a:xfrm>
          <a:prstGeom prst="ellipse">
            <a:avLst/>
          </a:prstGeom>
          <a:gradFill rotWithShape="0">
            <a:gsLst>
              <a:gs pos="0">
                <a:srgbClr val="98c630"/>
              </a:gs>
              <a:gs pos="100000">
                <a:srgbClr val="779c2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840120" y="3449520"/>
            <a:ext cx="225360" cy="225720"/>
          </a:xfrm>
          <a:prstGeom prst="ellipse">
            <a:avLst/>
          </a:prstGeom>
          <a:gradFill rotWithShape="0">
            <a:gsLst>
              <a:gs pos="0">
                <a:srgbClr val="eec100"/>
              </a:gs>
              <a:gs pos="100000">
                <a:srgbClr val="bb9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122720" y="262908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122720" y="301140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122720" y="341640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a6f3"/>
            </a:gs>
            <a:gs pos="100000">
              <a:srgbClr val="ddf2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1913040" y="1600200"/>
            <a:ext cx="0" cy="3736800"/>
          </a:xfrm>
          <a:prstGeom prst="line">
            <a:avLst/>
          </a:prstGeom>
          <a:ln w="12600">
            <a:solidFill>
              <a:srgbClr val="fefefe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36440" y="3470400"/>
            <a:ext cx="3552840" cy="0"/>
          </a:xfrm>
          <a:prstGeom prst="line">
            <a:avLst/>
          </a:prstGeom>
          <a:ln w="12600">
            <a:solidFill>
              <a:srgbClr val="fefefe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1" name=""/>
          <p:cNvSpPr/>
          <p:nvPr/>
        </p:nvSpPr>
        <p:spPr>
          <a:xfrm>
            <a:off x="5610240" y="1922400"/>
            <a:ext cx="0" cy="3108240"/>
          </a:xfrm>
          <a:prstGeom prst="line">
            <a:avLst/>
          </a:prstGeom>
          <a:ln w="28440">
            <a:solidFill>
              <a:srgbClr val="fefefe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5516640" y="2320920"/>
            <a:ext cx="168120" cy="168120"/>
            <a:chOff x="5516640" y="2320920"/>
            <a:chExt cx="168120" cy="168120"/>
          </a:xfrm>
        </p:grpSpPr>
        <p:sp>
          <p:nvSpPr>
            <p:cNvPr id="533" name=""/>
            <p:cNvSpPr/>
            <p:nvPr/>
          </p:nvSpPr>
          <p:spPr>
            <a:xfrm>
              <a:off x="5516640" y="232092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98c630"/>
                </a:gs>
                <a:gs pos="100000">
                  <a:srgbClr val="e0edc2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529960" y="233496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bcd97b"/>
                </a:gs>
                <a:gs pos="100000">
                  <a:srgbClr val="98c63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5516640" y="3273480"/>
            <a:ext cx="168120" cy="168120"/>
            <a:chOff x="5516640" y="3273480"/>
            <a:chExt cx="168120" cy="168120"/>
          </a:xfrm>
        </p:grpSpPr>
        <p:sp>
          <p:nvSpPr>
            <p:cNvPr id="536" name=""/>
            <p:cNvSpPr/>
            <p:nvPr/>
          </p:nvSpPr>
          <p:spPr>
            <a:xfrm>
              <a:off x="5516640" y="327348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98c630"/>
                </a:gs>
                <a:gs pos="100000">
                  <a:srgbClr val="e0edc2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529960" y="328752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bcd97b"/>
                </a:gs>
                <a:gs pos="100000">
                  <a:srgbClr val="98c63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5516640" y="4219560"/>
            <a:ext cx="168120" cy="168120"/>
            <a:chOff x="5516640" y="4219560"/>
            <a:chExt cx="168120" cy="168120"/>
          </a:xfrm>
        </p:grpSpPr>
        <p:sp>
          <p:nvSpPr>
            <p:cNvPr id="539" name=""/>
            <p:cNvSpPr/>
            <p:nvPr/>
          </p:nvSpPr>
          <p:spPr>
            <a:xfrm>
              <a:off x="5516640" y="421956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98c630"/>
                </a:gs>
                <a:gs pos="100000">
                  <a:srgbClr val="e0edc2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529960" y="423360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bcd97b"/>
                </a:gs>
                <a:gs pos="100000">
                  <a:srgbClr val="98c63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5627520" y="219564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638680" y="315432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638680" y="409248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791320" y="2549520"/>
            <a:ext cx="2971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791320" y="3475080"/>
            <a:ext cx="2971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791320" y="4402080"/>
            <a:ext cx="2971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88880" y="2023920"/>
            <a:ext cx="2844720" cy="2867040"/>
          </a:xfrm>
          <a:prstGeom prst="ellipse">
            <a:avLst/>
          </a:prstGeom>
          <a:noFill/>
          <a:ln w="9360">
            <a:solidFill>
              <a:srgbClr val="fefefe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716040" y="2273400"/>
            <a:ext cx="2377800" cy="2425320"/>
            <a:chOff x="716040" y="2273400"/>
            <a:chExt cx="2377800" cy="2425320"/>
          </a:xfrm>
        </p:grpSpPr>
        <p:sp>
          <p:nvSpPr>
            <p:cNvPr id="549" name=""/>
            <p:cNvSpPr/>
            <p:nvPr/>
          </p:nvSpPr>
          <p:spPr>
            <a:xfrm>
              <a:off x="716040" y="2273400"/>
              <a:ext cx="2377800" cy="2425320"/>
            </a:xfrm>
            <a:prstGeom prst="ellipse">
              <a:avLst/>
            </a:prstGeom>
            <a:gradFill rotWithShape="0">
              <a:gsLst>
                <a:gs pos="0">
                  <a:srgbClr val="98c630"/>
                </a:gs>
                <a:gs pos="100000">
                  <a:srgbClr val="f2f7e7"/>
                </a:gs>
              </a:gsLst>
              <a:lin ang="13500000"/>
            </a:gradFill>
            <a:ln w="38160">
              <a:solidFill>
                <a:srgbClr val="f8f8f8"/>
              </a:solidFill>
              <a:miter/>
            </a:ln>
            <a:effectLst>
              <a:outerShdw dist="81185" dir="307803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13960" y="2368080"/>
              <a:ext cx="2180160" cy="2225520"/>
            </a:xfrm>
            <a:prstGeom prst="ellipse">
              <a:avLst/>
            </a:prstGeom>
            <a:gradFill rotWithShape="0">
              <a:gsLst>
                <a:gs pos="0">
                  <a:srgbClr val="98c630"/>
                </a:gs>
                <a:gs pos="100000">
                  <a:srgbClr val="70922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216800" y="2792880"/>
              <a:ext cx="1395720" cy="1425240"/>
            </a:xfrm>
            <a:prstGeom prst="ellipse">
              <a:avLst/>
            </a:prstGeom>
            <a:gradFill rotWithShape="0">
              <a:gsLst>
                <a:gs pos="0">
                  <a:srgbClr val="e3efc9"/>
                </a:gs>
                <a:gs pos="100000">
                  <a:srgbClr val="98c63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284040" y="1839960"/>
            <a:ext cx="3245040" cy="3246480"/>
          </a:xfrm>
          <a:prstGeom prst="ellipse">
            <a:avLst/>
          </a:prstGeom>
          <a:noFill/>
          <a:ln w="19080">
            <a:solidFill>
              <a:srgbClr val="fefefe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798640" y="1793880"/>
            <a:ext cx="20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692520" y="3257640"/>
            <a:ext cx="20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497400" y="2463840"/>
            <a:ext cx="20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441600" y="4084560"/>
            <a:ext cx="20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793960" y="4722840"/>
            <a:ext cx="20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936720" y="3133800"/>
            <a:ext cx="19875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2482920" y="1822320"/>
            <a:ext cx="339480" cy="339840"/>
            <a:chOff x="2482920" y="1822320"/>
            <a:chExt cx="339480" cy="339840"/>
          </a:xfrm>
        </p:grpSpPr>
        <p:sp>
          <p:nvSpPr>
            <p:cNvPr id="560" name=""/>
            <p:cNvSpPr/>
            <p:nvPr/>
          </p:nvSpPr>
          <p:spPr>
            <a:xfrm>
              <a:off x="2482920" y="1822320"/>
              <a:ext cx="339480" cy="339840"/>
            </a:xfrm>
            <a:prstGeom prst="ellipse">
              <a:avLst/>
            </a:prstGeom>
            <a:gradFill rotWithShape="0">
              <a:gsLst>
                <a:gs pos="0">
                  <a:srgbClr val="f29000"/>
                </a:gs>
                <a:gs pos="100000">
                  <a:srgbClr val="fadeb5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509920" y="1850760"/>
              <a:ext cx="282240" cy="282600"/>
            </a:xfrm>
            <a:prstGeom prst="ellipse">
              <a:avLst/>
            </a:prstGeom>
            <a:gradFill rotWithShape="0">
              <a:gsLst>
                <a:gs pos="0">
                  <a:srgbClr val="fae1bd"/>
                </a:gs>
                <a:gs pos="100000">
                  <a:srgbClr val="f29000">
                    <a:alpha val="9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174840" y="2492280"/>
            <a:ext cx="339840" cy="339840"/>
            <a:chOff x="3174840" y="2492280"/>
            <a:chExt cx="339840" cy="339840"/>
          </a:xfrm>
        </p:grpSpPr>
        <p:sp>
          <p:nvSpPr>
            <p:cNvPr id="563" name=""/>
            <p:cNvSpPr/>
            <p:nvPr/>
          </p:nvSpPr>
          <p:spPr>
            <a:xfrm>
              <a:off x="3174840" y="2492280"/>
              <a:ext cx="339840" cy="339840"/>
            </a:xfrm>
            <a:prstGeom prst="ellipse">
              <a:avLst/>
            </a:prstGeom>
            <a:gradFill rotWithShape="0">
              <a:gsLst>
                <a:gs pos="0">
                  <a:srgbClr val="f29000"/>
                </a:gs>
                <a:gs pos="100000">
                  <a:srgbClr val="fadeb5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202200" y="2520720"/>
              <a:ext cx="282600" cy="282600"/>
            </a:xfrm>
            <a:prstGeom prst="ellipse">
              <a:avLst/>
            </a:prstGeom>
            <a:gradFill rotWithShape="0">
              <a:gsLst>
                <a:gs pos="0">
                  <a:srgbClr val="fae1bd"/>
                </a:gs>
                <a:gs pos="100000">
                  <a:srgbClr val="f29000">
                    <a:alpha val="9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3394080" y="3274920"/>
            <a:ext cx="339840" cy="339840"/>
            <a:chOff x="3394080" y="3274920"/>
            <a:chExt cx="339840" cy="339840"/>
          </a:xfrm>
        </p:grpSpPr>
        <p:sp>
          <p:nvSpPr>
            <p:cNvPr id="566" name=""/>
            <p:cNvSpPr/>
            <p:nvPr/>
          </p:nvSpPr>
          <p:spPr>
            <a:xfrm>
              <a:off x="3394080" y="3274920"/>
              <a:ext cx="339840" cy="339840"/>
            </a:xfrm>
            <a:prstGeom prst="ellipse">
              <a:avLst/>
            </a:prstGeom>
            <a:gradFill rotWithShape="0">
              <a:gsLst>
                <a:gs pos="0">
                  <a:srgbClr val="f29000"/>
                </a:gs>
                <a:gs pos="100000">
                  <a:srgbClr val="fadeb5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421440" y="3303360"/>
              <a:ext cx="282600" cy="282600"/>
            </a:xfrm>
            <a:prstGeom prst="ellipse">
              <a:avLst/>
            </a:prstGeom>
            <a:gradFill rotWithShape="0">
              <a:gsLst>
                <a:gs pos="0">
                  <a:srgbClr val="fae1bd"/>
                </a:gs>
                <a:gs pos="100000">
                  <a:srgbClr val="f29000">
                    <a:alpha val="9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3154320" y="4113360"/>
            <a:ext cx="339840" cy="339480"/>
            <a:chOff x="3154320" y="4113360"/>
            <a:chExt cx="339840" cy="339480"/>
          </a:xfrm>
        </p:grpSpPr>
        <p:sp>
          <p:nvSpPr>
            <p:cNvPr id="569" name=""/>
            <p:cNvSpPr/>
            <p:nvPr/>
          </p:nvSpPr>
          <p:spPr>
            <a:xfrm>
              <a:off x="3154320" y="4113360"/>
              <a:ext cx="339840" cy="339480"/>
            </a:xfrm>
            <a:prstGeom prst="ellipse">
              <a:avLst/>
            </a:prstGeom>
            <a:gradFill rotWithShape="0">
              <a:gsLst>
                <a:gs pos="0">
                  <a:srgbClr val="f29000"/>
                </a:gs>
                <a:gs pos="100000">
                  <a:srgbClr val="fadeb5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181680" y="4141800"/>
              <a:ext cx="282600" cy="282240"/>
            </a:xfrm>
            <a:prstGeom prst="ellipse">
              <a:avLst/>
            </a:prstGeom>
            <a:gradFill rotWithShape="0">
              <a:gsLst>
                <a:gs pos="0">
                  <a:srgbClr val="fae1bd"/>
                </a:gs>
                <a:gs pos="100000">
                  <a:srgbClr val="f29000">
                    <a:alpha val="9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2523960" y="4729320"/>
            <a:ext cx="339840" cy="339480"/>
            <a:chOff x="2523960" y="4729320"/>
            <a:chExt cx="339840" cy="339480"/>
          </a:xfrm>
        </p:grpSpPr>
        <p:sp>
          <p:nvSpPr>
            <p:cNvPr id="572" name=""/>
            <p:cNvSpPr/>
            <p:nvPr/>
          </p:nvSpPr>
          <p:spPr>
            <a:xfrm>
              <a:off x="2523960" y="4729320"/>
              <a:ext cx="339840" cy="339480"/>
            </a:xfrm>
            <a:prstGeom prst="ellipse">
              <a:avLst/>
            </a:prstGeom>
            <a:gradFill rotWithShape="0">
              <a:gsLst>
                <a:gs pos="0">
                  <a:srgbClr val="f29000"/>
                </a:gs>
                <a:gs pos="100000">
                  <a:srgbClr val="fadeb5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551320" y="4757760"/>
              <a:ext cx="282600" cy="282240"/>
            </a:xfrm>
            <a:prstGeom prst="ellipse">
              <a:avLst/>
            </a:prstGeom>
            <a:gradFill rotWithShape="0">
              <a:gsLst>
                <a:gs pos="0">
                  <a:srgbClr val="fae1bd"/>
                </a:gs>
                <a:gs pos="100000">
                  <a:srgbClr val="f29000">
                    <a:alpha val="9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a6f3"/>
            </a:gs>
            <a:gs pos="100000">
              <a:srgbClr val="ddf2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5789520" y="2097000"/>
            <a:ext cx="2167200" cy="2994120"/>
          </a:xfrm>
          <a:custGeom>
            <a:avLst/>
            <a:gdLst>
              <a:gd name="textAreaLeft" fmla="*/ 79560 w 2167200"/>
              <a:gd name="textAreaRight" fmla="*/ 2087640 w 2167200"/>
              <a:gd name="textAreaTop" fmla="*/ 79560 h 2994120"/>
              <a:gd name="textAreaBottom" fmla="*/ 2914560 h 2994120"/>
            </a:gdLst>
            <a:ahLst/>
            <a:rect l="textAreaLeft" t="textAreaTop" r="textAreaRight" b="textAreaBottom"/>
            <a:pathLst>
              <a:path w="21600" h="29840">
                <a:moveTo>
                  <a:pt x="2716" y="0"/>
                </a:moveTo>
                <a:arcTo wR="2716" hR="2716" stAng="16200000" swAng="-5400000"/>
                <a:lnTo>
                  <a:pt x="0" y="27124"/>
                </a:lnTo>
                <a:arcTo wR="2716" hR="2716" stAng="10800000" swAng="-5400000"/>
                <a:lnTo>
                  <a:pt x="18884" y="29840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53aa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786280" y="4314960"/>
            <a:ext cx="2159280" cy="769680"/>
          </a:xfrm>
          <a:prstGeom prst="roundRect">
            <a:avLst>
              <a:gd name="adj" fmla="val 32134"/>
            </a:avLst>
          </a:prstGeom>
          <a:gradFill rotWithShape="0">
            <a:gsLst>
              <a:gs pos="0">
                <a:srgbClr val="53aadb">
                  <a:alpha val="0"/>
                </a:srgbClr>
              </a:gs>
              <a:gs pos="100000">
                <a:srgbClr val="b7db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805360" y="2106720"/>
            <a:ext cx="2130480" cy="771480"/>
          </a:xfrm>
          <a:prstGeom prst="roundRect">
            <a:avLst>
              <a:gd name="adj" fmla="val 31319"/>
            </a:avLst>
          </a:prstGeom>
          <a:gradFill rotWithShape="0">
            <a:gsLst>
              <a:gs pos="0">
                <a:srgbClr val="c4e1f2"/>
              </a:gs>
              <a:gs pos="100000">
                <a:srgbClr val="53aad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3449520" y="2378160"/>
            <a:ext cx="2169720" cy="2712960"/>
            <a:chOff x="3449520" y="2378160"/>
            <a:chExt cx="2169720" cy="2712960"/>
          </a:xfrm>
        </p:grpSpPr>
        <p:sp>
          <p:nvSpPr>
            <p:cNvPr id="578" name=""/>
            <p:cNvSpPr/>
            <p:nvPr/>
          </p:nvSpPr>
          <p:spPr>
            <a:xfrm>
              <a:off x="3452400" y="2378160"/>
              <a:ext cx="2166840" cy="2712960"/>
            </a:xfrm>
            <a:custGeom>
              <a:avLst/>
              <a:gdLst>
                <a:gd name="textAreaLeft" fmla="*/ 79560 w 2166840"/>
                <a:gd name="textAreaRight" fmla="*/ 2087280 w 2166840"/>
                <a:gd name="textAreaTop" fmla="*/ 79560 h 2712960"/>
                <a:gd name="textAreaBottom" fmla="*/ 2633400 h 2712960"/>
              </a:gdLst>
              <a:ahLst/>
              <a:rect l="textAreaLeft" t="textAreaTop" r="textAreaRight" b="textAreaBottom"/>
              <a:pathLst>
                <a:path w="21600" h="27043">
                  <a:moveTo>
                    <a:pt x="2716" y="0"/>
                  </a:moveTo>
                  <a:arcTo wR="2716" hR="2716" stAng="16200000" swAng="-5400000"/>
                  <a:lnTo>
                    <a:pt x="0" y="24327"/>
                  </a:lnTo>
                  <a:arcTo wR="2716" hR="2716" stAng="10800000" swAng="-5400000"/>
                  <a:lnTo>
                    <a:pt x="18884" y="27043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98c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449520" y="4387320"/>
              <a:ext cx="2168640" cy="697680"/>
            </a:xfrm>
            <a:prstGeom prst="roundRect">
              <a:avLst>
                <a:gd name="adj" fmla="val 42588"/>
              </a:avLst>
            </a:prstGeom>
            <a:gradFill rotWithShape="0">
              <a:gsLst>
                <a:gs pos="0">
                  <a:srgbClr val="98c630">
                    <a:alpha val="0"/>
                  </a:srgbClr>
                </a:gs>
                <a:gs pos="100000">
                  <a:srgbClr val="d3e6a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59600" y="2386440"/>
              <a:ext cx="2149560" cy="698040"/>
            </a:xfrm>
            <a:prstGeom prst="roundRect">
              <a:avLst>
                <a:gd name="adj" fmla="val 35907"/>
              </a:avLst>
            </a:prstGeom>
            <a:gradFill rotWithShape="0">
              <a:gsLst>
                <a:gs pos="0">
                  <a:srgbClr val="dbebb9"/>
                </a:gs>
                <a:gs pos="100000">
                  <a:srgbClr val="98c63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1143000" y="2782800"/>
            <a:ext cx="2169720" cy="2308320"/>
            <a:chOff x="1143000" y="2782800"/>
            <a:chExt cx="2169720" cy="2308320"/>
          </a:xfrm>
        </p:grpSpPr>
        <p:sp>
          <p:nvSpPr>
            <p:cNvPr id="582" name=""/>
            <p:cNvSpPr/>
            <p:nvPr/>
          </p:nvSpPr>
          <p:spPr>
            <a:xfrm>
              <a:off x="1145880" y="2782800"/>
              <a:ext cx="2166840" cy="2308320"/>
            </a:xfrm>
            <a:custGeom>
              <a:avLst/>
              <a:gdLst>
                <a:gd name="textAreaLeft" fmla="*/ 79560 w 2166840"/>
                <a:gd name="textAreaRight" fmla="*/ 2087280 w 2166840"/>
                <a:gd name="textAreaTop" fmla="*/ 79560 h 2308320"/>
                <a:gd name="textAreaBottom" fmla="*/ 2228760 h 2308320"/>
              </a:gdLst>
              <a:ahLst/>
              <a:rect l="textAreaLeft" t="textAreaTop" r="textAreaRight" b="textAreaBottom"/>
              <a:pathLst>
                <a:path w="21600" h="23010">
                  <a:moveTo>
                    <a:pt x="2716" y="0"/>
                  </a:moveTo>
                  <a:arcTo wR="2716" hR="2716" stAng="16200000" swAng="-5400000"/>
                  <a:lnTo>
                    <a:pt x="0" y="20294"/>
                  </a:lnTo>
                  <a:arcTo wR="2716" hR="2716" stAng="10800000" swAng="-5400000"/>
                  <a:lnTo>
                    <a:pt x="18884" y="23010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f2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143000" y="4492080"/>
              <a:ext cx="2168640" cy="59436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f29000">
                    <a:alpha val="0"/>
                  </a:srgbClr>
                </a:gs>
                <a:gs pos="100000">
                  <a:srgbClr val="f8d0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171800" y="2790000"/>
              <a:ext cx="2130480" cy="59436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f9d9a9"/>
                </a:gs>
                <a:gs pos="100000">
                  <a:srgbClr val="f29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1243080" y="386064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48160" y="340056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886360" y="274968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76200" y="2192400"/>
            <a:ext cx="16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676680" y="1687680"/>
            <a:ext cx="16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32520" y="1447920"/>
            <a:ext cx="16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260360" y="5372280"/>
            <a:ext cx="653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1270080" y="2874960"/>
            <a:ext cx="558720" cy="53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568680" y="2452680"/>
            <a:ext cx="56052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5873760" y="2178000"/>
            <a:ext cx="56052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a6f3"/>
            </a:gs>
            <a:gs pos="100000">
              <a:srgbClr val="ddf2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602160" y="2303640"/>
            <a:ext cx="876240" cy="734760"/>
          </a:xfrm>
          <a:custGeom>
            <a:avLst/>
            <a:gdLst>
              <a:gd name="textAreaLeft" fmla="*/ 117360 w 876240"/>
              <a:gd name="textAreaRight" fmla="*/ 758880 w 876240"/>
              <a:gd name="textAreaTop" fmla="*/ 132480 h 734760"/>
              <a:gd name="textAreaBottom" fmla="*/ 519840 h 73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f29000"/>
              </a:gs>
              <a:gs pos="100000">
                <a:srgbClr val="f4b04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590840" y="2335320"/>
            <a:ext cx="874440" cy="734760"/>
          </a:xfrm>
          <a:custGeom>
            <a:avLst/>
            <a:gdLst>
              <a:gd name="textAreaLeft" fmla="*/ 117000 w 874440"/>
              <a:gd name="textAreaRight" fmla="*/ 757440 w 874440"/>
              <a:gd name="textAreaTop" fmla="*/ 124560 h 734760"/>
              <a:gd name="textAreaBottom" fmla="*/ 518040 h 73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f29000"/>
              </a:gs>
              <a:gs pos="100000">
                <a:srgbClr val="f6be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770120" y="3514680"/>
            <a:ext cx="2643120" cy="2440080"/>
            <a:chOff x="1770120" y="3514680"/>
            <a:chExt cx="2643120" cy="2440080"/>
          </a:xfrm>
        </p:grpSpPr>
        <p:grpSp>
          <p:nvGrpSpPr>
            <p:cNvPr id="600" name=""/>
            <p:cNvGrpSpPr/>
            <p:nvPr/>
          </p:nvGrpSpPr>
          <p:grpSpPr>
            <a:xfrm>
              <a:off x="1923840" y="4561200"/>
              <a:ext cx="2381760" cy="1393560"/>
              <a:chOff x="1923840" y="4561200"/>
              <a:chExt cx="2381760" cy="1393560"/>
            </a:xfrm>
          </p:grpSpPr>
          <p:sp>
            <p:nvSpPr>
              <p:cNvPr id="601" name="未知"/>
              <p:cNvSpPr/>
              <p:nvPr/>
            </p:nvSpPr>
            <p:spPr>
              <a:xfrm>
                <a:off x="1923840" y="5030280"/>
                <a:ext cx="935640" cy="92448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5c1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未知"/>
              <p:cNvSpPr/>
              <p:nvPr/>
            </p:nvSpPr>
            <p:spPr>
              <a:xfrm>
                <a:off x="2848680" y="4959000"/>
                <a:ext cx="1456560" cy="99144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2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未知"/>
              <p:cNvSpPr/>
              <p:nvPr/>
            </p:nvSpPr>
            <p:spPr>
              <a:xfrm>
                <a:off x="1923840" y="4561200"/>
                <a:ext cx="2381760" cy="114588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dc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1872720" y="4220640"/>
              <a:ext cx="2466000" cy="1393200"/>
              <a:chOff x="1872720" y="4220640"/>
              <a:chExt cx="2466000" cy="1393200"/>
            </a:xfrm>
          </p:grpSpPr>
          <p:sp>
            <p:nvSpPr>
              <p:cNvPr id="605" name="未知"/>
              <p:cNvSpPr/>
              <p:nvPr/>
            </p:nvSpPr>
            <p:spPr>
              <a:xfrm>
                <a:off x="1872720" y="4689720"/>
                <a:ext cx="968400" cy="92412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cb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未知"/>
              <p:cNvSpPr/>
              <p:nvPr/>
            </p:nvSpPr>
            <p:spPr>
              <a:xfrm>
                <a:off x="2830320" y="4618080"/>
                <a:ext cx="1508040" cy="991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de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未知"/>
              <p:cNvSpPr/>
              <p:nvPr/>
            </p:nvSpPr>
            <p:spPr>
              <a:xfrm>
                <a:off x="1872720" y="4220640"/>
                <a:ext cx="2466000" cy="114588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fdd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1820880" y="3868200"/>
              <a:ext cx="2554200" cy="1393560"/>
              <a:chOff x="1820880" y="3868200"/>
              <a:chExt cx="2554200" cy="1393560"/>
            </a:xfrm>
          </p:grpSpPr>
          <p:sp>
            <p:nvSpPr>
              <p:cNvPr id="609" name="未知"/>
              <p:cNvSpPr/>
              <p:nvPr/>
            </p:nvSpPr>
            <p:spPr>
              <a:xfrm>
                <a:off x="1820880" y="4337280"/>
                <a:ext cx="1003320" cy="92448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49a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未知"/>
              <p:cNvSpPr/>
              <p:nvPr/>
            </p:nvSpPr>
            <p:spPr>
              <a:xfrm>
                <a:off x="2813040" y="4266000"/>
                <a:ext cx="1562040" cy="99144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a2e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未知"/>
              <p:cNvSpPr/>
              <p:nvPr/>
            </p:nvSpPr>
            <p:spPr>
              <a:xfrm>
                <a:off x="1820880" y="3868200"/>
                <a:ext cx="2554200" cy="114588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38c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1770120" y="3514680"/>
              <a:ext cx="2643120" cy="1393560"/>
              <a:chOff x="1770120" y="3514680"/>
              <a:chExt cx="2643120" cy="1393560"/>
            </a:xfrm>
          </p:grpSpPr>
          <p:sp>
            <p:nvSpPr>
              <p:cNvPr id="613" name="未知"/>
              <p:cNvSpPr/>
              <p:nvPr/>
            </p:nvSpPr>
            <p:spPr>
              <a:xfrm>
                <a:off x="1770120" y="3983760"/>
                <a:ext cx="1038240" cy="92448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306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未知"/>
              <p:cNvSpPr/>
              <p:nvPr/>
            </p:nvSpPr>
            <p:spPr>
              <a:xfrm>
                <a:off x="2796480" y="3912480"/>
                <a:ext cx="1616400" cy="99144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8bd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未知"/>
              <p:cNvSpPr/>
              <p:nvPr/>
            </p:nvSpPr>
            <p:spPr>
              <a:xfrm>
                <a:off x="1770120" y="3514680"/>
                <a:ext cx="2643120" cy="114588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09ed0"/>
                  </a:gs>
                  <a:gs pos="100000">
                    <a:srgbClr val="65b6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6" name=""/>
          <p:cNvSpPr/>
          <p:nvPr/>
        </p:nvSpPr>
        <p:spPr>
          <a:xfrm>
            <a:off x="4648320" y="3560760"/>
            <a:ext cx="2768400" cy="378000"/>
          </a:xfrm>
          <a:noFill/>
          <a:ln w="9360">
            <a:solidFill>
              <a:srgbClr val="53678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761000" y="4105440"/>
            <a:ext cx="2867040" cy="376200"/>
          </a:xfrm>
          <a:noFill/>
          <a:ln w="9360">
            <a:solidFill>
              <a:srgbClr val="53678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040360" y="5051520"/>
            <a:ext cx="2697120" cy="387360"/>
          </a:xfrm>
          <a:noFill/>
          <a:ln w="9360">
            <a:solidFill>
              <a:srgbClr val="53678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911840" y="4589640"/>
            <a:ext cx="2697120" cy="334800"/>
          </a:xfrm>
          <a:noFill/>
          <a:ln w="9360">
            <a:solidFill>
              <a:srgbClr val="53678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rot="21055800">
            <a:off x="1392120" y="3690720"/>
            <a:ext cx="346320" cy="1690560"/>
          </a:xfrm>
          <a:prstGeom prst="upArrow">
            <a:avLst>
              <a:gd name="adj1" fmla="val 32231"/>
              <a:gd name="adj2" fmla="val 93404"/>
            </a:avLst>
          </a:prstGeom>
          <a:solidFill>
            <a:srgbClr val="ee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1660680" y="1981080"/>
            <a:ext cx="1976400" cy="223056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>
            <a:off x="4648320" y="2268360"/>
            <a:ext cx="335268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a6f3"/>
            </a:gs>
            <a:gs pos="100000">
              <a:srgbClr val="ddf2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2838600" y="1449360"/>
            <a:ext cx="3434760" cy="536400"/>
            <a:chOff x="2838600" y="1449360"/>
            <a:chExt cx="3434760" cy="536400"/>
          </a:xfrm>
        </p:grpSpPr>
        <p:sp>
          <p:nvSpPr>
            <p:cNvPr id="625" name=""/>
            <p:cNvSpPr/>
            <p:nvPr/>
          </p:nvSpPr>
          <p:spPr>
            <a:xfrm>
              <a:off x="2838600" y="1449360"/>
              <a:ext cx="3434760" cy="536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891520" y="1481760"/>
              <a:ext cx="33145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27" name=""/>
          <p:cNvCxnSpPr/>
          <p:nvPr/>
        </p:nvCxnSpPr>
        <p:spPr>
          <a:xfrm flipH="1" rot="16200000">
            <a:off x="1763640" y="4400280"/>
            <a:ext cx="1131120" cy="1048320"/>
          </a:xfrm>
          <a:prstGeom prst="bentConnector2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628" name=""/>
          <p:cNvCxnSpPr/>
          <p:nvPr/>
        </p:nvCxnSpPr>
        <p:spPr>
          <a:xfrm rot="5400000">
            <a:off x="6276240" y="4357800"/>
            <a:ext cx="1131120" cy="1134000"/>
          </a:xfrm>
          <a:prstGeom prst="bentConnector2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629" name=""/>
          <p:cNvCxnSpPr/>
          <p:nvPr/>
        </p:nvCxnSpPr>
        <p:spPr>
          <a:xfrm flipH="1" flipV="1" rot="5400000">
            <a:off x="1793160" y="1713960"/>
            <a:ext cx="1061280" cy="1058040"/>
          </a:xfrm>
          <a:prstGeom prst="bentConnector2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630" name=""/>
          <p:cNvCxnSpPr/>
          <p:nvPr/>
        </p:nvCxnSpPr>
        <p:spPr>
          <a:xfrm flipV="1" rot="16200000">
            <a:off x="6328800" y="1658160"/>
            <a:ext cx="1026360" cy="1134000"/>
          </a:xfrm>
          <a:prstGeom prst="bentConnector2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</p:cxn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6589800" y="2664000"/>
            <a:ext cx="1658880" cy="165888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2"/>
          <a:stretch/>
        </p:blipFill>
        <p:spPr>
          <a:xfrm>
            <a:off x="990720" y="2716200"/>
            <a:ext cx="1658880" cy="1658880"/>
          </a:xfrm>
          <a:prstGeom prst="rect">
            <a:avLst/>
          </a:prstGeom>
          <a:ln w="0">
            <a:noFill/>
          </a:ln>
        </p:spPr>
      </p:pic>
      <p:sp>
        <p:nvSpPr>
          <p:cNvPr id="633" name="未知"/>
          <p:cNvSpPr/>
          <p:nvPr/>
        </p:nvSpPr>
        <p:spPr>
          <a:xfrm>
            <a:off x="2690640" y="3084480"/>
            <a:ext cx="3814920" cy="476280"/>
          </a:xfrm>
          <a:custGeom>
            <a:avLst/>
            <a:gdLst/>
            <a:ahLst/>
            <a:rect l="l" t="t" r="r" b="b"/>
            <a:pathLst>
              <a:path w="2347" h="336">
                <a:moveTo>
                  <a:pt x="0" y="188"/>
                </a:moveTo>
                <a:lnTo>
                  <a:pt x="0" y="336"/>
                </a:lnTo>
                <a:lnTo>
                  <a:pt x="2347" y="336"/>
                </a:lnTo>
                <a:lnTo>
                  <a:pt x="2005" y="0"/>
                </a:lnTo>
                <a:lnTo>
                  <a:pt x="2005" y="189"/>
                </a:lnTo>
                <a:lnTo>
                  <a:pt x="0" y="188"/>
                </a:lnTo>
                <a:close/>
              </a:path>
            </a:pathLst>
          </a:custGeom>
          <a:gradFill rotWithShape="0">
            <a:gsLst>
              <a:gs pos="0">
                <a:srgbClr val="cccc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859200" y="2106720"/>
            <a:ext cx="1442880" cy="768240"/>
          </a:xfrm>
          <a:prstGeom prst="upArrow">
            <a:avLst>
              <a:gd name="adj1" fmla="val 65157"/>
              <a:gd name="adj2" fmla="val 48347"/>
            </a:avLst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3859200" y="4325040"/>
            <a:ext cx="1442880" cy="768600"/>
          </a:xfrm>
          <a:prstGeom prst="upArrow">
            <a:avLst>
              <a:gd name="adj1" fmla="val 65157"/>
              <a:gd name="adj2" fmla="val 48347"/>
            </a:avLst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未知"/>
          <p:cNvSpPr/>
          <p:nvPr/>
        </p:nvSpPr>
        <p:spPr>
          <a:xfrm flipH="1" flipV="1">
            <a:off x="2689920" y="3592440"/>
            <a:ext cx="3814920" cy="478080"/>
          </a:xfrm>
          <a:custGeom>
            <a:avLst/>
            <a:gdLst/>
            <a:ahLst/>
            <a:rect l="l" t="t" r="r" b="b"/>
            <a:pathLst>
              <a:path w="2347" h="336">
                <a:moveTo>
                  <a:pt x="0" y="188"/>
                </a:moveTo>
                <a:lnTo>
                  <a:pt x="0" y="336"/>
                </a:lnTo>
                <a:lnTo>
                  <a:pt x="2347" y="336"/>
                </a:lnTo>
                <a:lnTo>
                  <a:pt x="2005" y="0"/>
                </a:lnTo>
                <a:lnTo>
                  <a:pt x="2005" y="189"/>
                </a:lnTo>
                <a:lnTo>
                  <a:pt x="0" y="188"/>
                </a:lnTo>
                <a:close/>
              </a:path>
            </a:pathLst>
          </a:custGeom>
          <a:gradFill rotWithShape="0">
            <a:gsLst>
              <a:gs pos="0">
                <a:srgbClr val="cccc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023840" y="3125880"/>
            <a:ext cx="152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661080" y="3125880"/>
            <a:ext cx="152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722760" y="3905280"/>
            <a:ext cx="174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722760" y="2970360"/>
            <a:ext cx="174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998800" y="1447920"/>
            <a:ext cx="312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2838600" y="5243400"/>
            <a:ext cx="3434760" cy="536400"/>
            <a:chOff x="2838600" y="5243400"/>
            <a:chExt cx="3434760" cy="536400"/>
          </a:xfrm>
        </p:grpSpPr>
        <p:sp>
          <p:nvSpPr>
            <p:cNvPr id="643" name=""/>
            <p:cNvSpPr/>
            <p:nvPr/>
          </p:nvSpPr>
          <p:spPr>
            <a:xfrm>
              <a:off x="2838600" y="5243400"/>
              <a:ext cx="3434760" cy="536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891520" y="5275800"/>
              <a:ext cx="33145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2998800" y="5241960"/>
            <a:ext cx="312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a6f3"/>
            </a:gs>
            <a:gs pos="100000">
              <a:srgbClr val="ddf2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3886200" y="4027320"/>
            <a:ext cx="1447920" cy="14446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3e2a03"/>
              </a:gs>
              <a:gs pos="50000">
                <a:srgbClr val="926408"/>
              </a:gs>
              <a:gs pos="100000">
                <a:srgbClr val="3e2a03"/>
              </a:gs>
            </a:gsLst>
            <a:lin ang="13500000"/>
          </a:gradFill>
          <a:ln w="57240">
            <a:solidFill>
              <a:srgbClr val="cddce9"/>
            </a:solidFill>
            <a:miter/>
          </a:ln>
          <a:effectLst>
            <a:outerShdw dist="17819" dir="2700000" blurRad="0" rotWithShape="0">
              <a:srgbClr val="7a83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844800" y="1890720"/>
            <a:ext cx="1447920" cy="14479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33e2d"/>
              </a:gs>
              <a:gs pos="50000">
                <a:srgbClr val="08926b"/>
              </a:gs>
              <a:gs pos="100000">
                <a:srgbClr val="033e2d"/>
              </a:gs>
            </a:gsLst>
            <a:lin ang="13500000"/>
          </a:gradFill>
          <a:ln w="57240">
            <a:solidFill>
              <a:srgbClr val="cddce9"/>
            </a:solidFill>
            <a:miter/>
          </a:ln>
          <a:effectLst>
            <a:outerShdw dist="17819" dir="2700000" blurRad="0" rotWithShape="0">
              <a:srgbClr val="7a83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887640" y="2498760"/>
            <a:ext cx="136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774880" y="2951280"/>
            <a:ext cx="1447920" cy="144756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3223e"/>
              </a:gs>
              <a:gs pos="50000">
                <a:srgbClr val="085092"/>
              </a:gs>
              <a:gs pos="100000">
                <a:srgbClr val="03223e"/>
              </a:gs>
            </a:gsLst>
            <a:lin ang="13500000"/>
          </a:gradFill>
          <a:ln w="57240">
            <a:solidFill>
              <a:srgbClr val="cddce9"/>
            </a:solidFill>
            <a:miter/>
          </a:ln>
          <a:effectLst>
            <a:outerShdw dist="17819" dir="2700000" blurRad="0" rotWithShape="0">
              <a:srgbClr val="7a83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959360" y="2960640"/>
            <a:ext cx="1441440" cy="14162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263e03"/>
              </a:gs>
              <a:gs pos="50000">
                <a:srgbClr val="5a9208"/>
              </a:gs>
              <a:gs pos="100000">
                <a:srgbClr val="263e03"/>
              </a:gs>
            </a:gsLst>
            <a:lin ang="13500000"/>
          </a:gradFill>
          <a:ln w="57240">
            <a:solidFill>
              <a:srgbClr val="cddce9"/>
            </a:solidFill>
            <a:miter/>
          </a:ln>
          <a:effectLst>
            <a:outerShdw dist="17819" dir="2700000" blurRad="0" rotWithShape="0">
              <a:srgbClr val="7a83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913120" y="312408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059440" y="3139920"/>
            <a:ext cx="12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065480" y="4676760"/>
            <a:ext cx="109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3340080" y="3886200"/>
            <a:ext cx="393840" cy="396720"/>
            <a:chOff x="3340080" y="3886200"/>
            <a:chExt cx="393840" cy="396720"/>
          </a:xfrm>
        </p:grpSpPr>
        <p:sp>
          <p:nvSpPr>
            <p:cNvPr id="655" name=""/>
            <p:cNvSpPr/>
            <p:nvPr/>
          </p:nvSpPr>
          <p:spPr>
            <a:xfrm>
              <a:off x="3340080" y="3886200"/>
              <a:ext cx="393840" cy="394200"/>
            </a:xfrm>
            <a:prstGeom prst="ellipse">
              <a:avLst/>
            </a:prstGeom>
            <a:noFill/>
            <a:ln w="19080">
              <a:solidFill>
                <a:srgbClr val="ffffff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538440" y="3886200"/>
              <a:ext cx="0" cy="391320"/>
            </a:xfrm>
            <a:prstGeom prst="line">
              <a:avLst/>
            </a:prstGeom>
            <a:ln w="19080">
              <a:solidFill>
                <a:srgbClr val="ffffff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340080" y="4081680"/>
              <a:ext cx="393840" cy="0"/>
            </a:xfrm>
            <a:prstGeom prst="line">
              <a:avLst/>
            </a:prstGeom>
            <a:ln w="19080">
              <a:solidFill>
                <a:srgbClr val="ffffff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未知"/>
            <p:cNvSpPr/>
            <p:nvPr/>
          </p:nvSpPr>
          <p:spPr>
            <a:xfrm>
              <a:off x="3564720" y="3888720"/>
              <a:ext cx="81720" cy="3888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2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未知"/>
            <p:cNvSpPr/>
            <p:nvPr/>
          </p:nvSpPr>
          <p:spPr>
            <a:xfrm>
              <a:off x="3431160" y="3891600"/>
              <a:ext cx="88560" cy="3913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未知"/>
            <p:cNvSpPr/>
            <p:nvPr/>
          </p:nvSpPr>
          <p:spPr>
            <a:xfrm rot="5400000">
              <a:off x="3504240" y="4047840"/>
              <a:ext cx="51120" cy="2937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未知"/>
            <p:cNvSpPr/>
            <p:nvPr/>
          </p:nvSpPr>
          <p:spPr>
            <a:xfrm flipV="1" rot="16200000">
              <a:off x="3507480" y="3822840"/>
              <a:ext cx="51120" cy="2934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5378400" y="3855960"/>
            <a:ext cx="603360" cy="384120"/>
            <a:chOff x="5378400" y="3855960"/>
            <a:chExt cx="603360" cy="384120"/>
          </a:xfrm>
        </p:grpSpPr>
        <p:grpSp>
          <p:nvGrpSpPr>
            <p:cNvPr id="663" name=""/>
            <p:cNvGrpSpPr/>
            <p:nvPr/>
          </p:nvGrpSpPr>
          <p:grpSpPr>
            <a:xfrm>
              <a:off x="5378400" y="3855960"/>
              <a:ext cx="603360" cy="384120"/>
              <a:chOff x="5378400" y="3855960"/>
              <a:chExt cx="603360" cy="384120"/>
            </a:xfrm>
          </p:grpSpPr>
          <p:sp>
            <p:nvSpPr>
              <p:cNvPr id="664" name="未知"/>
              <p:cNvSpPr/>
              <p:nvPr/>
            </p:nvSpPr>
            <p:spPr>
              <a:xfrm>
                <a:off x="5378400" y="3855960"/>
                <a:ext cx="603360" cy="384120"/>
              </a:xfrm>
              <a:custGeom>
                <a:avLst/>
                <a:gdLst/>
                <a:ahLst/>
                <a:rect l="l" t="t" r="r" b="b"/>
                <a:pathLst>
                  <a:path w="491" h="312">
                    <a:moveTo>
                      <a:pt x="9" y="96"/>
                    </a:moveTo>
                    <a:cubicBezTo>
                      <a:pt x="0" y="133"/>
                      <a:pt x="1" y="139"/>
                      <a:pt x="10" y="159"/>
                    </a:cubicBezTo>
                    <a:cubicBezTo>
                      <a:pt x="57" y="195"/>
                      <a:pt x="255" y="300"/>
                      <a:pt x="288" y="312"/>
                    </a:cubicBezTo>
                    <a:cubicBezTo>
                      <a:pt x="346" y="289"/>
                      <a:pt x="457" y="207"/>
                      <a:pt x="486" y="184"/>
                    </a:cubicBezTo>
                    <a:cubicBezTo>
                      <a:pt x="491" y="173"/>
                      <a:pt x="337" y="292"/>
                      <a:pt x="303" y="302"/>
                    </a:cubicBezTo>
                    <a:cubicBezTo>
                      <a:pt x="296" y="310"/>
                      <a:pt x="254" y="274"/>
                      <a:pt x="283" y="246"/>
                    </a:cubicBezTo>
                    <a:cubicBezTo>
                      <a:pt x="338" y="217"/>
                      <a:pt x="378" y="180"/>
                      <a:pt x="480" y="128"/>
                    </a:cubicBezTo>
                    <a:cubicBezTo>
                      <a:pt x="343" y="66"/>
                      <a:pt x="288" y="30"/>
                      <a:pt x="202" y="0"/>
                    </a:cubicBezTo>
                    <a:cubicBezTo>
                      <a:pt x="100" y="33"/>
                      <a:pt x="46" y="75"/>
                      <a:pt x="9" y="96"/>
                    </a:cubicBezTo>
                    <a:close/>
                  </a:path>
                </a:pathLst>
              </a:custGeom>
              <a:noFill/>
              <a:ln w="19080">
                <a:solidFill>
                  <a:srgbClr val="ffffff">
                    <a:alpha val="33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未知"/>
              <p:cNvSpPr/>
              <p:nvPr/>
            </p:nvSpPr>
            <p:spPr>
              <a:xfrm>
                <a:off x="5707800" y="4018320"/>
                <a:ext cx="263880" cy="210240"/>
              </a:xfrm>
              <a:custGeom>
                <a:avLst/>
                <a:gdLst/>
                <a:ahLst/>
                <a:rect l="l" t="t" r="r" b="b"/>
                <a:pathLst>
                  <a:path w="215" h="171">
                    <a:moveTo>
                      <a:pt x="15" y="117"/>
                    </a:moveTo>
                    <a:cubicBezTo>
                      <a:pt x="9" y="129"/>
                      <a:pt x="0" y="154"/>
                      <a:pt x="23" y="171"/>
                    </a:cubicBezTo>
                    <a:cubicBezTo>
                      <a:pt x="45" y="166"/>
                      <a:pt x="185" y="77"/>
                      <a:pt x="215" y="48"/>
                    </a:cubicBezTo>
                    <a:cubicBezTo>
                      <a:pt x="215" y="32"/>
                      <a:pt x="207" y="32"/>
                      <a:pt x="203" y="0"/>
                    </a:cubicBezTo>
                    <a:cubicBezTo>
                      <a:pt x="125" y="42"/>
                      <a:pt x="56" y="87"/>
                      <a:pt x="15" y="117"/>
                    </a:cubicBezTo>
                    <a:close/>
                  </a:path>
                </a:pathLst>
              </a:custGeom>
              <a:noFill/>
              <a:ln w="19080">
                <a:solidFill>
                  <a:srgbClr val="ffffff">
                    <a:alpha val="33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404320" y="3986280"/>
                <a:ext cx="310680" cy="168840"/>
              </a:xfrm>
              <a:prstGeom prst="line">
                <a:avLst/>
              </a:prstGeom>
              <a:ln w="19080">
                <a:solidFill>
                  <a:srgbClr val="ffffff">
                    <a:alpha val="3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7" name="未知"/>
            <p:cNvSpPr/>
            <p:nvPr/>
          </p:nvSpPr>
          <p:spPr>
            <a:xfrm>
              <a:off x="5802120" y="4141440"/>
              <a:ext cx="59040" cy="5400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0" y="14"/>
                  </a:moveTo>
                  <a:lnTo>
                    <a:pt x="18" y="0"/>
                  </a:lnTo>
                  <a:lnTo>
                    <a:pt x="48" y="26"/>
                  </a:lnTo>
                  <a:lnTo>
                    <a:pt x="27" y="44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19080">
              <a:solidFill>
                <a:srgbClr val="ffffff">
                  <a:alpha val="3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4406760" y="4227480"/>
            <a:ext cx="358920" cy="390600"/>
            <a:chOff x="4406760" y="4227480"/>
            <a:chExt cx="358920" cy="390600"/>
          </a:xfrm>
        </p:grpSpPr>
        <p:sp>
          <p:nvSpPr>
            <p:cNvPr id="669" name=""/>
            <p:cNvSpPr/>
            <p:nvPr/>
          </p:nvSpPr>
          <p:spPr>
            <a:xfrm>
              <a:off x="4549320" y="4227480"/>
              <a:ext cx="58680" cy="56160"/>
            </a:xfrm>
            <a:prstGeom prst="ellipse">
              <a:avLst/>
            </a:prstGeom>
            <a:noFill/>
            <a:ln w="9360">
              <a:solidFill>
                <a:srgbClr val="ffffff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461120" y="4382280"/>
              <a:ext cx="83160" cy="79920"/>
            </a:xfrm>
            <a:prstGeom prst="ellipse">
              <a:avLst/>
            </a:prstGeom>
            <a:noFill/>
            <a:ln w="9360">
              <a:solidFill>
                <a:srgbClr val="ffffff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17720" y="4321440"/>
              <a:ext cx="61920" cy="59400"/>
            </a:xfrm>
            <a:prstGeom prst="ellipse">
              <a:avLst/>
            </a:prstGeom>
            <a:noFill/>
            <a:ln w="9360">
              <a:solidFill>
                <a:srgbClr val="ffffff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85600" y="4576320"/>
              <a:ext cx="43560" cy="41760"/>
            </a:xfrm>
            <a:prstGeom prst="ellipse">
              <a:avLst/>
            </a:prstGeom>
            <a:noFill/>
            <a:ln w="9360">
              <a:solidFill>
                <a:srgbClr val="ffffff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503240" y="4461840"/>
              <a:ext cx="0" cy="115560"/>
            </a:xfrm>
            <a:prstGeom prst="line">
              <a:avLst/>
            </a:prstGeom>
            <a:ln w="12600">
              <a:solidFill>
                <a:srgbClr val="ffffff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4534200" y="4364640"/>
              <a:ext cx="92880" cy="27720"/>
            </a:xfrm>
            <a:prstGeom prst="line">
              <a:avLst/>
            </a:prstGeom>
            <a:ln w="9360">
              <a:solidFill>
                <a:srgbClr val="ffffff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 flipV="1">
              <a:off x="4592880" y="4274280"/>
              <a:ext cx="36360" cy="49680"/>
            </a:xfrm>
            <a:prstGeom prst="line">
              <a:avLst/>
            </a:prstGeom>
            <a:ln w="9360">
              <a:solidFill>
                <a:srgbClr val="ffffff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722120" y="4280400"/>
              <a:ext cx="43560" cy="41760"/>
            </a:xfrm>
            <a:prstGeom prst="ellipse">
              <a:avLst/>
            </a:prstGeom>
            <a:noFill/>
            <a:ln w="9360">
              <a:solidFill>
                <a:srgbClr val="ffffff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661640" y="4441680"/>
              <a:ext cx="49680" cy="47880"/>
            </a:xfrm>
            <a:prstGeom prst="ellipse">
              <a:avLst/>
            </a:prstGeom>
            <a:noFill/>
            <a:ln w="9360">
              <a:solidFill>
                <a:srgbClr val="ffffff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660920" y="4380480"/>
              <a:ext cx="15120" cy="72000"/>
            </a:xfrm>
            <a:prstGeom prst="line">
              <a:avLst/>
            </a:prstGeom>
            <a:ln w="9360">
              <a:solidFill>
                <a:srgbClr val="ffffff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4679640" y="4299480"/>
              <a:ext cx="46080" cy="40320"/>
            </a:xfrm>
            <a:prstGeom prst="line">
              <a:avLst/>
            </a:prstGeom>
            <a:ln w="9360">
              <a:solidFill>
                <a:srgbClr val="ffffff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06760" y="4318200"/>
              <a:ext cx="43560" cy="41760"/>
            </a:xfrm>
            <a:prstGeom prst="ellipse">
              <a:avLst/>
            </a:prstGeom>
            <a:noFill/>
            <a:ln w="9360">
              <a:solidFill>
                <a:srgbClr val="ffffff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31960" y="4355280"/>
              <a:ext cx="37080" cy="37440"/>
            </a:xfrm>
            <a:prstGeom prst="line">
              <a:avLst/>
            </a:prstGeom>
            <a:ln w="9360">
              <a:solidFill>
                <a:srgbClr val="ffffff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4606560" y="4475520"/>
              <a:ext cx="67320" cy="19080"/>
            </a:xfrm>
            <a:prstGeom prst="line">
              <a:avLst/>
            </a:prstGeom>
            <a:ln w="9360">
              <a:solidFill>
                <a:srgbClr val="ffffff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576680" y="4477320"/>
              <a:ext cx="43560" cy="41760"/>
            </a:xfrm>
            <a:prstGeom prst="ellipse">
              <a:avLst/>
            </a:prstGeom>
            <a:noFill/>
            <a:ln w="9360">
              <a:solidFill>
                <a:srgbClr val="ffffff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700880" y="4483800"/>
              <a:ext cx="15120" cy="18720"/>
            </a:xfrm>
            <a:prstGeom prst="line">
              <a:avLst/>
            </a:prstGeom>
            <a:ln w="9360">
              <a:solidFill>
                <a:srgbClr val="ffffff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707720" y="4506840"/>
              <a:ext cx="43560" cy="41760"/>
            </a:xfrm>
            <a:prstGeom prst="ellipse">
              <a:avLst/>
            </a:prstGeom>
            <a:noFill/>
            <a:ln w="9360">
              <a:solidFill>
                <a:srgbClr val="ffffff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2973960" y="1371600"/>
            <a:ext cx="31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urrent Contents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62120" y="4446720"/>
            <a:ext cx="2514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943600" y="4484520"/>
            <a:ext cx="2514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305000" y="2960640"/>
            <a:ext cx="1361880" cy="13590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18033e"/>
              </a:gs>
              <a:gs pos="50000">
                <a:srgbClr val="390892"/>
              </a:gs>
              <a:gs pos="100000">
                <a:srgbClr val="18033e"/>
              </a:gs>
            </a:gsLst>
            <a:lin ang="13500000"/>
          </a:gradFill>
          <a:ln w="57240">
            <a:solidFill>
              <a:srgbClr val="cddce9"/>
            </a:solidFill>
            <a:miter/>
          </a:ln>
          <a:effectLst>
            <a:outerShdw dist="17819" dir="2700000" blurRad="0" rotWithShape="0">
              <a:srgbClr val="7a83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499080" y="3003480"/>
            <a:ext cx="1368720" cy="13654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403e03"/>
              </a:gs>
              <a:gs pos="50000">
                <a:srgbClr val="959208"/>
              </a:gs>
              <a:gs pos="100000">
                <a:srgbClr val="403e03"/>
              </a:gs>
            </a:gsLst>
            <a:lin ang="13500000"/>
          </a:gradFill>
          <a:ln w="57240">
            <a:solidFill>
              <a:srgbClr val="cddce9"/>
            </a:solidFill>
            <a:miter/>
          </a:ln>
          <a:effectLst>
            <a:outerShdw dist="17819" dir="2700000" blurRad="0" rotWithShape="0">
              <a:srgbClr val="7a83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1776240" y="3870360"/>
            <a:ext cx="412920" cy="320400"/>
            <a:chOff x="1776240" y="3870360"/>
            <a:chExt cx="412920" cy="320400"/>
          </a:xfrm>
        </p:grpSpPr>
        <p:sp>
          <p:nvSpPr>
            <p:cNvPr id="692" name=""/>
            <p:cNvSpPr/>
            <p:nvPr/>
          </p:nvSpPr>
          <p:spPr>
            <a:xfrm flipV="1">
              <a:off x="2085840" y="3870360"/>
              <a:ext cx="0" cy="82080"/>
            </a:xfrm>
            <a:prstGeom prst="line">
              <a:avLst/>
            </a:prstGeom>
            <a:ln w="57240">
              <a:solidFill>
                <a:srgbClr val="fefefe">
                  <a:alpha val="3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954800" y="4101840"/>
              <a:ext cx="59040" cy="7812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894320" y="4029480"/>
              <a:ext cx="39600" cy="3924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fefefe">
                  <a:alpha val="3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037600" y="4029480"/>
              <a:ext cx="39600" cy="3924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fefefe">
                  <a:alpha val="3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776240" y="3883680"/>
              <a:ext cx="412920" cy="307080"/>
            </a:xfrm>
            <a:prstGeom prst="upArrow">
              <a:avLst>
                <a:gd name="adj1" fmla="val 63676"/>
                <a:gd name="adj2" fmla="val 44657"/>
              </a:avLst>
            </a:prstGeom>
            <a:noFill/>
            <a:ln w="28440">
              <a:solidFill>
                <a:srgbClr val="fefefe">
                  <a:alpha val="3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6955560" y="3914640"/>
            <a:ext cx="483120" cy="378000"/>
            <a:chOff x="6955560" y="3914640"/>
            <a:chExt cx="483120" cy="378000"/>
          </a:xfrm>
        </p:grpSpPr>
        <p:sp>
          <p:nvSpPr>
            <p:cNvPr id="698" name="未知"/>
            <p:cNvSpPr/>
            <p:nvPr/>
          </p:nvSpPr>
          <p:spPr>
            <a:xfrm rot="1584000">
              <a:off x="7009920" y="3978720"/>
              <a:ext cx="182520" cy="288000"/>
            </a:xfrm>
            <a:custGeom>
              <a:avLst/>
              <a:gdLst/>
              <a:ahLst/>
              <a:rect l="l" t="t" r="r" b="b"/>
              <a:pathLst>
                <a:path w="688" h="1090">
                  <a:moveTo>
                    <a:pt x="0" y="190"/>
                  </a:moveTo>
                  <a:cubicBezTo>
                    <a:pt x="6" y="34"/>
                    <a:pt x="235" y="0"/>
                    <a:pt x="341" y="0"/>
                  </a:cubicBezTo>
                  <a:cubicBezTo>
                    <a:pt x="447" y="0"/>
                    <a:pt x="677" y="34"/>
                    <a:pt x="688" y="185"/>
                  </a:cubicBezTo>
                  <a:cubicBezTo>
                    <a:pt x="688" y="185"/>
                    <a:pt x="687" y="448"/>
                    <a:pt x="686" y="711"/>
                  </a:cubicBezTo>
                  <a:cubicBezTo>
                    <a:pt x="688" y="912"/>
                    <a:pt x="531" y="1080"/>
                    <a:pt x="347" y="1085"/>
                  </a:cubicBezTo>
                  <a:cubicBezTo>
                    <a:pt x="163" y="1090"/>
                    <a:pt x="8" y="885"/>
                    <a:pt x="6" y="699"/>
                  </a:cubicBezTo>
                  <a:cubicBezTo>
                    <a:pt x="1" y="450"/>
                    <a:pt x="0" y="190"/>
                    <a:pt x="0" y="190"/>
                  </a:cubicBezTo>
                  <a:close/>
                </a:path>
              </a:pathLst>
            </a:custGeom>
            <a:noFill/>
            <a:ln w="19080">
              <a:solidFill>
                <a:srgbClr val="ffffff">
                  <a:alpha val="5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050960" y="4019760"/>
              <a:ext cx="163800" cy="81000"/>
            </a:xfrm>
            <a:prstGeom prst="line">
              <a:avLst/>
            </a:prstGeom>
            <a:ln w="19080">
              <a:solidFill>
                <a:srgbClr val="fefefe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7134120" y="3994920"/>
              <a:ext cx="33120" cy="66240"/>
            </a:xfrm>
            <a:prstGeom prst="line">
              <a:avLst/>
            </a:prstGeom>
            <a:ln w="19080">
              <a:solidFill>
                <a:srgbClr val="fefefe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未知"/>
            <p:cNvSpPr/>
            <p:nvPr/>
          </p:nvSpPr>
          <p:spPr>
            <a:xfrm>
              <a:off x="7165080" y="3914640"/>
              <a:ext cx="273600" cy="196920"/>
            </a:xfrm>
            <a:custGeom>
              <a:avLst/>
              <a:gdLst/>
              <a:ahLst/>
              <a:rect l="l" t="t" r="r" b="b"/>
              <a:pathLst>
                <a:path w="228" h="165">
                  <a:moveTo>
                    <a:pt x="0" y="68"/>
                  </a:moveTo>
                  <a:cubicBezTo>
                    <a:pt x="4" y="25"/>
                    <a:pt x="68" y="0"/>
                    <a:pt x="88" y="8"/>
                  </a:cubicBezTo>
                  <a:cubicBezTo>
                    <a:pt x="138" y="53"/>
                    <a:pt x="82" y="65"/>
                    <a:pt x="121" y="115"/>
                  </a:cubicBezTo>
                  <a:cubicBezTo>
                    <a:pt x="160" y="165"/>
                    <a:pt x="206" y="124"/>
                    <a:pt x="228" y="126"/>
                  </a:cubicBezTo>
                </a:path>
              </a:pathLst>
            </a:custGeom>
            <a:noFill/>
            <a:ln w="19080">
              <a:solidFill>
                <a:srgbClr val="fefefe">
                  <a:alpha val="5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1801800" y="5624640"/>
            <a:ext cx="555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4341960" y="2057400"/>
            <a:ext cx="419040" cy="358560"/>
            <a:chOff x="4341960" y="2057400"/>
            <a:chExt cx="419040" cy="358560"/>
          </a:xfrm>
        </p:grpSpPr>
        <p:sp>
          <p:nvSpPr>
            <p:cNvPr id="705" name=""/>
            <p:cNvSpPr/>
            <p:nvPr/>
          </p:nvSpPr>
          <p:spPr>
            <a:xfrm>
              <a:off x="4427640" y="2057400"/>
              <a:ext cx="250920" cy="250560"/>
            </a:xfrm>
            <a:prstGeom prst="roundRect">
              <a:avLst>
                <a:gd name="adj" fmla="val 6250"/>
              </a:avLst>
            </a:prstGeom>
            <a:noFill/>
            <a:ln w="19080">
              <a:solidFill>
                <a:srgbClr val="ffffff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341960" y="2305080"/>
              <a:ext cx="419040" cy="11088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ffff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4636800" y="2360520"/>
              <a:ext cx="63720" cy="0"/>
            </a:xfrm>
            <a:prstGeom prst="line">
              <a:avLst/>
            </a:prstGeom>
            <a:ln w="19080">
              <a:solidFill>
                <a:srgbClr val="ffffff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4511160" y="2135880"/>
              <a:ext cx="104040" cy="0"/>
            </a:xfrm>
            <a:prstGeom prst="line">
              <a:avLst/>
            </a:prstGeom>
            <a:ln w="19080">
              <a:solidFill>
                <a:srgbClr val="ffffff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4551480" y="2172600"/>
              <a:ext cx="64080" cy="0"/>
            </a:xfrm>
            <a:prstGeom prst="line">
              <a:avLst/>
            </a:prstGeom>
            <a:ln w="19080">
              <a:solidFill>
                <a:srgbClr val="ffffff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4570200" y="2242440"/>
              <a:ext cx="45360" cy="0"/>
            </a:xfrm>
            <a:prstGeom prst="line">
              <a:avLst/>
            </a:prstGeom>
            <a:ln w="19080">
              <a:solidFill>
                <a:srgbClr val="ffffff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1393920" y="312408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567480" y="3139920"/>
            <a:ext cx="12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a6f3"/>
            </a:gs>
            <a:gs pos="100000">
              <a:srgbClr val="ddf2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3357720" y="2665440"/>
            <a:ext cx="2211120" cy="2211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666960" y="2967120"/>
            <a:ext cx="1624320" cy="1622520"/>
          </a:xfrm>
          <a:prstGeom prst="ellipse">
            <a:avLst/>
          </a:prstGeom>
          <a:gradFill rotWithShape="0">
            <a:gsLst>
              <a:gs pos="0">
                <a:srgbClr val="a0a0a0"/>
              </a:gs>
              <a:gs pos="50000">
                <a:srgbClr val="ffffff"/>
              </a:gs>
              <a:gs pos="100000">
                <a:srgbClr val="a0a0a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637080" y="3314880"/>
            <a:ext cx="16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058080" y="4383000"/>
            <a:ext cx="1439640" cy="1425600"/>
          </a:xfrm>
          <a:prstGeom prst="ellipse">
            <a:avLst/>
          </a:prstGeom>
          <a:gradFill rotWithShape="0">
            <a:gsLst>
              <a:gs pos="0">
                <a:srgbClr val="53aadb"/>
              </a:gs>
              <a:gs pos="100000">
                <a:srgbClr val="1a3545"/>
              </a:gs>
            </a:gsLst>
            <a:lin ang="5400000"/>
          </a:gradFill>
          <a:ln w="38160">
            <a:solidFill>
              <a:srgbClr val="f8f8f8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6016680" y="4317840"/>
            <a:ext cx="1511280" cy="129564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6040440" y="4775040"/>
            <a:ext cx="149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954760" y="4265640"/>
            <a:ext cx="1649520" cy="1647720"/>
          </a:xfrm>
          <a:prstGeom prst="ellipse">
            <a:avLst/>
          </a:prstGeom>
          <a:noFill/>
          <a:ln w="127080">
            <a:solidFill>
              <a:srgbClr val="eaeaea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214800" y="2525760"/>
            <a:ext cx="2481120" cy="2482920"/>
          </a:xfrm>
          <a:prstGeom prst="ellipse">
            <a:avLst/>
          </a:prstGeom>
          <a:noFill/>
          <a:ln w="127080">
            <a:solidFill>
              <a:srgbClr val="eaeaea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2960640" y="4492800"/>
            <a:ext cx="487440" cy="304560"/>
          </a:xfrm>
          <a:prstGeom prst="line">
            <a:avLst/>
          </a:prstGeom>
          <a:ln w="127080">
            <a:solidFill>
              <a:srgbClr val="eaeaea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2876400" y="4341960"/>
            <a:ext cx="486000" cy="304560"/>
          </a:xfrm>
          <a:prstGeom prst="line">
            <a:avLst/>
          </a:prstGeom>
          <a:ln w="127080">
            <a:solidFill>
              <a:srgbClr val="eaeaea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5527800" y="2852280"/>
            <a:ext cx="487080" cy="304920"/>
          </a:xfrm>
          <a:prstGeom prst="line">
            <a:avLst/>
          </a:prstGeom>
          <a:ln w="127080">
            <a:solidFill>
              <a:srgbClr val="eaeaea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5442120" y="2701440"/>
            <a:ext cx="488880" cy="304920"/>
          </a:xfrm>
          <a:prstGeom prst="line">
            <a:avLst/>
          </a:prstGeom>
          <a:ln w="127080">
            <a:solidFill>
              <a:srgbClr val="eaeaea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484280" y="4506840"/>
            <a:ext cx="1441440" cy="1425600"/>
          </a:xfrm>
          <a:prstGeom prst="ellipse">
            <a:avLst/>
          </a:prstGeom>
          <a:gradFill rotWithShape="0">
            <a:gsLst>
              <a:gs pos="0">
                <a:srgbClr val="eec100"/>
              </a:gs>
              <a:gs pos="100000">
                <a:srgbClr val="4b3d00"/>
              </a:gs>
            </a:gsLst>
            <a:lin ang="5400000"/>
          </a:gradFill>
          <a:ln w="38160">
            <a:solidFill>
              <a:srgbClr val="f8f8f8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1444680" y="4441680"/>
            <a:ext cx="1511280" cy="1295640"/>
          </a:xfrm>
          <a:prstGeom prst="rect">
            <a:avLst/>
          </a:prstGeom>
          <a:ln w="0">
            <a:noFill/>
          </a:ln>
        </p:spPr>
      </p:pic>
      <p:sp>
        <p:nvSpPr>
          <p:cNvPr id="727" name=""/>
          <p:cNvSpPr/>
          <p:nvPr/>
        </p:nvSpPr>
        <p:spPr>
          <a:xfrm>
            <a:off x="1467000" y="4876920"/>
            <a:ext cx="149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382760" y="4389480"/>
            <a:ext cx="1647720" cy="1646280"/>
          </a:xfrm>
          <a:prstGeom prst="ellipse">
            <a:avLst/>
          </a:prstGeom>
          <a:noFill/>
          <a:ln w="127080">
            <a:solidFill>
              <a:srgbClr val="eaeaea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427040" y="1643040"/>
            <a:ext cx="1440000" cy="1424160"/>
          </a:xfrm>
          <a:prstGeom prst="ellipse">
            <a:avLst/>
          </a:prstGeom>
          <a:gradFill rotWithShape="0">
            <a:gsLst>
              <a:gs pos="0">
                <a:srgbClr val="669900"/>
              </a:gs>
              <a:gs pos="100000">
                <a:srgbClr val="203000"/>
              </a:gs>
            </a:gsLst>
            <a:lin ang="5400000"/>
          </a:gradFill>
          <a:ln w="38160">
            <a:solidFill>
              <a:srgbClr val="f8f8f8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3"/>
          <a:stretch/>
        </p:blipFill>
        <p:spPr>
          <a:xfrm>
            <a:off x="1386000" y="1577880"/>
            <a:ext cx="1511280" cy="129384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/>
          <p:nvPr/>
        </p:nvSpPr>
        <p:spPr>
          <a:xfrm>
            <a:off x="1409760" y="1992240"/>
            <a:ext cx="149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324080" y="1523880"/>
            <a:ext cx="1649160" cy="1646280"/>
          </a:xfrm>
          <a:prstGeom prst="ellipse">
            <a:avLst/>
          </a:prstGeom>
          <a:noFill/>
          <a:ln w="127080">
            <a:solidFill>
              <a:srgbClr val="eaeaea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847960" y="2744640"/>
            <a:ext cx="561960" cy="343080"/>
          </a:xfrm>
          <a:prstGeom prst="line">
            <a:avLst/>
          </a:prstGeom>
          <a:ln w="127080">
            <a:solidFill>
              <a:srgbClr val="eaeaea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762280" y="2889360"/>
            <a:ext cx="563400" cy="342720"/>
          </a:xfrm>
          <a:prstGeom prst="line">
            <a:avLst/>
          </a:prstGeom>
          <a:ln w="127080">
            <a:solidFill>
              <a:srgbClr val="eaeaea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934240" y="1643040"/>
            <a:ext cx="1439640" cy="1424160"/>
          </a:xfrm>
          <a:prstGeom prst="ellipse">
            <a:avLst/>
          </a:prstGeom>
          <a:gradFill rotWithShape="0">
            <a:gsLst>
              <a:gs pos="0">
                <a:srgbClr val="f29000"/>
              </a:gs>
              <a:gs pos="100000">
                <a:srgbClr val="4c2d00"/>
              </a:gs>
            </a:gsLst>
            <a:lin ang="5400000"/>
          </a:gradFill>
          <a:ln w="38160">
            <a:solidFill>
              <a:srgbClr val="f8f8f8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4"/>
          <a:stretch/>
        </p:blipFill>
        <p:spPr>
          <a:xfrm>
            <a:off x="5892840" y="1577880"/>
            <a:ext cx="1511280" cy="129384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5916600" y="1981080"/>
            <a:ext cx="149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830920" y="1523880"/>
            <a:ext cx="1647720" cy="1646280"/>
          </a:xfrm>
          <a:prstGeom prst="ellipse">
            <a:avLst/>
          </a:prstGeom>
          <a:noFill/>
          <a:ln w="127080">
            <a:solidFill>
              <a:srgbClr val="eaeaea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611680" y="4206960"/>
            <a:ext cx="561960" cy="342720"/>
          </a:xfrm>
          <a:prstGeom prst="line">
            <a:avLst/>
          </a:prstGeom>
          <a:ln w="127080">
            <a:solidFill>
              <a:srgbClr val="eaeaea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526000" y="4351320"/>
            <a:ext cx="563760" cy="344520"/>
          </a:xfrm>
          <a:prstGeom prst="line">
            <a:avLst/>
          </a:prstGeom>
          <a:ln w="127080">
            <a:solidFill>
              <a:srgbClr val="eaeaea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527280" y="180972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187280" y="357984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040440" y="357984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27280" y="549288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6" name=""/>
          <p:cNvSpPr/>
          <p:nvPr/>
        </p:nvSpPr>
        <p:spPr>
          <a:xfrm>
            <a:off x="716184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a6f3"/>
            </a:gs>
            <a:gs pos="100000">
              <a:srgbClr val="ddf2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2"/>
          <p:cNvSpPr/>
          <p:nvPr/>
        </p:nvSpPr>
        <p:spPr>
          <a:xfrm>
            <a:off x="2205000" y="5253120"/>
            <a:ext cx="6607080" cy="368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3"/>
          <p:cNvSpPr/>
          <p:nvPr/>
        </p:nvSpPr>
        <p:spPr>
          <a:xfrm>
            <a:off x="2905200" y="2147760"/>
            <a:ext cx="5240160" cy="3011760"/>
          </a:xfrm>
          <a:prstGeom prst="pie">
            <a:avLst/>
          </a:prstGeom>
          <a:gradFill rotWithShape="0">
            <a:gsLst>
              <a:gs pos="0">
                <a:srgbClr val="eef3f9">
                  <a:alpha val="80000"/>
                </a:srgbClr>
              </a:gs>
              <a:gs pos="100000">
                <a:srgbClr val="f29000">
                  <a:alpha val="80000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4"/>
          <p:cNvSpPr/>
          <p:nvPr/>
        </p:nvSpPr>
        <p:spPr>
          <a:xfrm>
            <a:off x="3019320" y="527364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0       01       02      03       04       05       06        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5"/>
          <p:cNvSpPr/>
          <p:nvPr/>
        </p:nvSpPr>
        <p:spPr>
          <a:xfrm>
            <a:off x="3183840" y="43434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6"/>
          <p:cNvSpPr/>
          <p:nvPr/>
        </p:nvSpPr>
        <p:spPr>
          <a:xfrm>
            <a:off x="3855600" y="42260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7"/>
          <p:cNvSpPr/>
          <p:nvPr/>
        </p:nvSpPr>
        <p:spPr>
          <a:xfrm>
            <a:off x="4317120" y="34815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8"/>
          <p:cNvSpPr/>
          <p:nvPr/>
        </p:nvSpPr>
        <p:spPr>
          <a:xfrm>
            <a:off x="5085360" y="27716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9"/>
          <p:cNvSpPr/>
          <p:nvPr/>
        </p:nvSpPr>
        <p:spPr>
          <a:xfrm>
            <a:off x="5715720" y="42926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10"/>
          <p:cNvSpPr/>
          <p:nvPr/>
        </p:nvSpPr>
        <p:spPr>
          <a:xfrm>
            <a:off x="6198480" y="33940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11"/>
          <p:cNvSpPr/>
          <p:nvPr/>
        </p:nvSpPr>
        <p:spPr>
          <a:xfrm>
            <a:off x="6943320" y="172728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12"/>
          <p:cNvSpPr/>
          <p:nvPr/>
        </p:nvSpPr>
        <p:spPr>
          <a:xfrm>
            <a:off x="7977960" y="24512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13"/>
          <p:cNvSpPr/>
          <p:nvPr/>
        </p:nvSpPr>
        <p:spPr>
          <a:xfrm>
            <a:off x="2193840" y="5683320"/>
            <a:ext cx="2095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  (unit: 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14"/>
          <p:cNvSpPr/>
          <p:nvPr/>
        </p:nvSpPr>
        <p:spPr>
          <a:xfrm>
            <a:off x="2262240" y="533556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6"/>
          <p:cNvSpPr/>
          <p:nvPr/>
        </p:nvSpPr>
        <p:spPr>
          <a:xfrm>
            <a:off x="480960" y="243828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29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29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29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7"/>
          <p:cNvSpPr/>
          <p:nvPr/>
        </p:nvSpPr>
        <p:spPr>
          <a:xfrm>
            <a:off x="355680" y="2289240"/>
            <a:ext cx="38703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18"/>
          <p:cNvSpPr/>
          <p:nvPr/>
        </p:nvSpPr>
        <p:spPr>
          <a:xfrm>
            <a:off x="3338640" y="4603680"/>
            <a:ext cx="193680" cy="193680"/>
          </a:xfrm>
          <a:prstGeom prst="ellipse">
            <a:avLst/>
          </a:prstGeom>
          <a:gradFill rotWithShape="0">
            <a:gsLst>
              <a:gs pos="0">
                <a:srgbClr val="592524"/>
              </a:gs>
              <a:gs pos="100000">
                <a:srgbClr val="98c63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19"/>
          <p:cNvSpPr/>
          <p:nvPr/>
        </p:nvSpPr>
        <p:spPr>
          <a:xfrm>
            <a:off x="3997440" y="4527720"/>
            <a:ext cx="193680" cy="193680"/>
          </a:xfrm>
          <a:prstGeom prst="ellipse">
            <a:avLst/>
          </a:prstGeom>
          <a:gradFill rotWithShape="0">
            <a:gsLst>
              <a:gs pos="0">
                <a:srgbClr val="592524"/>
              </a:gs>
              <a:gs pos="100000">
                <a:srgbClr val="98c63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20"/>
          <p:cNvSpPr/>
          <p:nvPr/>
        </p:nvSpPr>
        <p:spPr>
          <a:xfrm>
            <a:off x="4621320" y="3822840"/>
            <a:ext cx="193680" cy="193680"/>
          </a:xfrm>
          <a:prstGeom prst="ellipse">
            <a:avLst/>
          </a:prstGeom>
          <a:gradFill rotWithShape="0">
            <a:gsLst>
              <a:gs pos="0">
                <a:srgbClr val="592524"/>
              </a:gs>
              <a:gs pos="100000">
                <a:srgbClr val="98c63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1"/>
          <p:cNvSpPr/>
          <p:nvPr/>
        </p:nvSpPr>
        <p:spPr>
          <a:xfrm>
            <a:off x="5254560" y="3049560"/>
            <a:ext cx="193680" cy="193680"/>
          </a:xfrm>
          <a:prstGeom prst="ellipse">
            <a:avLst/>
          </a:prstGeom>
          <a:gradFill rotWithShape="0">
            <a:gsLst>
              <a:gs pos="0">
                <a:srgbClr val="592524"/>
              </a:gs>
              <a:gs pos="100000">
                <a:srgbClr val="98c63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22"/>
          <p:cNvSpPr/>
          <p:nvPr/>
        </p:nvSpPr>
        <p:spPr>
          <a:xfrm>
            <a:off x="5935680" y="4106880"/>
            <a:ext cx="193680" cy="193680"/>
          </a:xfrm>
          <a:prstGeom prst="ellipse">
            <a:avLst/>
          </a:prstGeom>
          <a:gradFill rotWithShape="0">
            <a:gsLst>
              <a:gs pos="0">
                <a:srgbClr val="592524"/>
              </a:gs>
              <a:gs pos="100000">
                <a:srgbClr val="98c63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23"/>
          <p:cNvSpPr/>
          <p:nvPr/>
        </p:nvSpPr>
        <p:spPr>
          <a:xfrm>
            <a:off x="6551640" y="3701880"/>
            <a:ext cx="193680" cy="193680"/>
          </a:xfrm>
          <a:prstGeom prst="ellipse">
            <a:avLst/>
          </a:prstGeom>
          <a:gradFill rotWithShape="0">
            <a:gsLst>
              <a:gs pos="0">
                <a:srgbClr val="592524"/>
              </a:gs>
              <a:gs pos="100000">
                <a:srgbClr val="98c63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24"/>
          <p:cNvSpPr/>
          <p:nvPr/>
        </p:nvSpPr>
        <p:spPr>
          <a:xfrm>
            <a:off x="7319880" y="2131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592524"/>
              </a:gs>
              <a:gs pos="100000">
                <a:srgbClr val="98c63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25"/>
          <p:cNvSpPr/>
          <p:nvPr/>
        </p:nvSpPr>
        <p:spPr>
          <a:xfrm>
            <a:off x="8012160" y="2717640"/>
            <a:ext cx="193680" cy="193680"/>
          </a:xfrm>
          <a:prstGeom prst="ellipse">
            <a:avLst/>
          </a:prstGeom>
          <a:gradFill rotWithShape="0">
            <a:gsLst>
              <a:gs pos="0">
                <a:srgbClr val="592524"/>
              </a:gs>
              <a:gs pos="100000">
                <a:srgbClr val="98c63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26"/>
          <p:cNvSpPr/>
          <p:nvPr/>
        </p:nvSpPr>
        <p:spPr>
          <a:xfrm>
            <a:off x="2276640" y="2438280"/>
            <a:ext cx="17269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29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29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29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27"/>
          <p:cNvSpPr/>
          <p:nvPr/>
        </p:nvSpPr>
        <p:spPr>
          <a:xfrm>
            <a:off x="681840" y="183816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a6f3"/>
            </a:gs>
            <a:gs pos="100000">
              <a:srgbClr val="ddf2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077320" cy="4495680"/>
          </a:xfrm>
          <a:prstGeom prst="rect">
            <a:avLst/>
          </a:prstGeom>
          <a:ln w="0">
            <a:noFill/>
          </a:ln>
        </p:spPr>
      </p:pic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a6f3"/>
            </a:gs>
            <a:gs pos="100000">
              <a:srgbClr val="ddf2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 flipH="1">
            <a:off x="609480" y="1368360"/>
            <a:ext cx="1425600" cy="4038840"/>
          </a:xfrm>
          <a:custGeom>
            <a:avLst/>
            <a:gdLst>
              <a:gd name="textAreaLeft" fmla="*/ 47160 w 1425600"/>
              <a:gd name="textAreaRight" fmla="*/ 1378440 w 1425600"/>
              <a:gd name="textAreaTop" fmla="*/ 47160 h 4038840"/>
              <a:gd name="textAreaBottom" fmla="*/ 3991680 h 4038840"/>
            </a:gdLst>
            <a:ahLst/>
            <a:rect l="textAreaLeft" t="textAreaTop" r="textAreaRight" b="textAreaBottom"/>
            <a:pathLst>
              <a:path w="21600" h="61185">
                <a:moveTo>
                  <a:pt x="2457" y="0"/>
                </a:moveTo>
                <a:arcTo wR="2457" hR="2457" stAng="16200000" swAng="-5400000"/>
                <a:lnTo>
                  <a:pt x="0" y="58728"/>
                </a:lnTo>
                <a:arcTo wR="2457" hR="2457" stAng="10800000" swAng="-5400000"/>
                <a:lnTo>
                  <a:pt x="19143" y="61185"/>
                </a:lnTo>
                <a:arcTo wR="2457" hR="2457" stAng="5400000" swAng="-5400000"/>
                <a:lnTo>
                  <a:pt x="21600" y="2457"/>
                </a:lnTo>
                <a:arcTo wR="2457" hR="2457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eec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33720" y="1371600"/>
            <a:ext cx="6595920" cy="4038480"/>
          </a:xfrm>
          <a:prstGeom prst="roundRect">
            <a:avLst>
              <a:gd name="adj" fmla="val 2454"/>
            </a:avLst>
          </a:prstGeom>
          <a:solidFill>
            <a:srgbClr val="eec100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62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w Cen MT"/>
                <a:ea typeface="宋体"/>
              </a:rPr>
              <a:t>Click to add contents</a:t>
            </a:r>
            <a:endParaRPr b="1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5" name="未知"/>
          <p:cNvSpPr/>
          <p:nvPr/>
        </p:nvSpPr>
        <p:spPr>
          <a:xfrm flipH="1">
            <a:off x="8128800" y="1415880"/>
            <a:ext cx="515880" cy="46548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fafafa"/>
              </a:gs>
              <a:gs pos="50000">
                <a:srgbClr val="f8f8f8">
                  <a:alpha val="0"/>
                </a:srgbClr>
              </a:gs>
              <a:gs pos="100000">
                <a:srgbClr val="fafaf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752480" y="1600200"/>
            <a:ext cx="666720" cy="495360"/>
            <a:chOff x="1752480" y="1600200"/>
            <a:chExt cx="666720" cy="495360"/>
          </a:xfrm>
        </p:grpSpPr>
        <p:grpSp>
          <p:nvGrpSpPr>
            <p:cNvPr id="227" name=""/>
            <p:cNvGrpSpPr/>
            <p:nvPr/>
          </p:nvGrpSpPr>
          <p:grpSpPr>
            <a:xfrm>
              <a:off x="1752480" y="1889280"/>
              <a:ext cx="663480" cy="206280"/>
              <a:chOff x="1752480" y="1889280"/>
              <a:chExt cx="663480" cy="206280"/>
            </a:xfrm>
          </p:grpSpPr>
          <p:sp>
            <p:nvSpPr>
              <p:cNvPr id="228" name=""/>
              <p:cNvSpPr/>
              <p:nvPr/>
            </p:nvSpPr>
            <p:spPr>
              <a:xfrm rot="5400000">
                <a:off x="2220480" y="1893960"/>
                <a:ext cx="200160" cy="190440"/>
              </a:xfrm>
              <a:prstGeom prst="ellipse">
                <a:avLst/>
              </a:prstGeom>
              <a:solidFill>
                <a:srgbClr val="000000">
                  <a:alpha val="20000"/>
                </a:srgbClr>
              </a:solidFill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5400000">
                <a:off x="1747800" y="1900440"/>
                <a:ext cx="199800" cy="190440"/>
              </a:xfrm>
              <a:prstGeom prst="ellipse">
                <a:avLst/>
              </a:prstGeom>
              <a:solidFill>
                <a:srgbClr val="000000">
                  <a:alpha val="30000"/>
                </a:srgbClr>
              </a:solidFill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2014200" y="1757520"/>
                <a:ext cx="98280" cy="475920"/>
              </a:xfrm>
              <a:custGeom>
                <a:avLst/>
                <a:gdLst>
                  <a:gd name="textAreaLeft" fmla="*/ 14400 w 98280"/>
                  <a:gd name="textAreaRight" fmla="*/ 83880 w 98280"/>
                  <a:gd name="textAreaTop" fmla="*/ 14400 h 475920"/>
                  <a:gd name="textAreaBottom" fmla="*/ 461520 h 475920"/>
                </a:gdLst>
                <a:ahLst/>
                <a:rect l="textAreaLeft" t="textAreaTop" r="textAreaRight" b="textAreaBottom"/>
                <a:pathLst>
                  <a:path w="21600" h="104295">
                    <a:moveTo>
                      <a:pt x="10800" y="0"/>
                    </a:moveTo>
                    <a:arcTo wR="10800" hR="10800" stAng="16200000" swAng="-5400000"/>
                    <a:lnTo>
                      <a:pt x="0" y="93495"/>
                    </a:lnTo>
                    <a:arcTo wR="10800" hR="10800" stAng="10800000" swAng="-5400000"/>
                    <a:lnTo>
                      <a:pt x="10800" y="104295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e8e8e8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1755720" y="1600200"/>
              <a:ext cx="663480" cy="206280"/>
              <a:chOff x="1755720" y="1600200"/>
              <a:chExt cx="663480" cy="206280"/>
            </a:xfrm>
          </p:grpSpPr>
          <p:sp>
            <p:nvSpPr>
              <p:cNvPr id="232" name=""/>
              <p:cNvSpPr/>
              <p:nvPr/>
            </p:nvSpPr>
            <p:spPr>
              <a:xfrm rot="5400000">
                <a:off x="2223720" y="1604880"/>
                <a:ext cx="200160" cy="190440"/>
              </a:xfrm>
              <a:prstGeom prst="ellipse">
                <a:avLst/>
              </a:prstGeom>
              <a:solidFill>
                <a:srgbClr val="000000">
                  <a:alpha val="20000"/>
                </a:srgbClr>
              </a:solidFill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5400000">
                <a:off x="1751040" y="1611360"/>
                <a:ext cx="199800" cy="190440"/>
              </a:xfrm>
              <a:prstGeom prst="ellipse">
                <a:avLst/>
              </a:prstGeom>
              <a:solidFill>
                <a:srgbClr val="000000">
                  <a:alpha val="30000"/>
                </a:srgbClr>
              </a:solidFill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5400000">
                <a:off x="2017440" y="1468440"/>
                <a:ext cx="98280" cy="475920"/>
              </a:xfrm>
              <a:custGeom>
                <a:avLst/>
                <a:gdLst>
                  <a:gd name="textAreaLeft" fmla="*/ 14400 w 98280"/>
                  <a:gd name="textAreaRight" fmla="*/ 83880 w 98280"/>
                  <a:gd name="textAreaTop" fmla="*/ 14400 h 475920"/>
                  <a:gd name="textAreaBottom" fmla="*/ 461520 h 475920"/>
                </a:gdLst>
                <a:ahLst/>
                <a:rect l="textAreaLeft" t="textAreaTop" r="textAreaRight" b="textAreaBottom"/>
                <a:pathLst>
                  <a:path w="21600" h="104295">
                    <a:moveTo>
                      <a:pt x="10800" y="0"/>
                    </a:moveTo>
                    <a:arcTo wR="10800" hR="10800" stAng="16200000" swAng="-5400000"/>
                    <a:lnTo>
                      <a:pt x="0" y="93495"/>
                    </a:lnTo>
                    <a:arcTo wR="10800" hR="10800" stAng="10800000" swAng="-5400000"/>
                    <a:lnTo>
                      <a:pt x="10800" y="104295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fefefe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"/>
          <p:cNvGrpSpPr/>
          <p:nvPr/>
        </p:nvGrpSpPr>
        <p:grpSpPr>
          <a:xfrm>
            <a:off x="1752480" y="4724280"/>
            <a:ext cx="666720" cy="495360"/>
            <a:chOff x="1752480" y="4724280"/>
            <a:chExt cx="666720" cy="495360"/>
          </a:xfrm>
        </p:grpSpPr>
        <p:grpSp>
          <p:nvGrpSpPr>
            <p:cNvPr id="236" name=""/>
            <p:cNvGrpSpPr/>
            <p:nvPr/>
          </p:nvGrpSpPr>
          <p:grpSpPr>
            <a:xfrm>
              <a:off x="1752480" y="5013360"/>
              <a:ext cx="663480" cy="206280"/>
              <a:chOff x="1752480" y="5013360"/>
              <a:chExt cx="663480" cy="206280"/>
            </a:xfrm>
          </p:grpSpPr>
          <p:sp>
            <p:nvSpPr>
              <p:cNvPr id="237" name=""/>
              <p:cNvSpPr/>
              <p:nvPr/>
            </p:nvSpPr>
            <p:spPr>
              <a:xfrm rot="5400000">
                <a:off x="2220480" y="5018040"/>
                <a:ext cx="200160" cy="190440"/>
              </a:xfrm>
              <a:prstGeom prst="ellipse">
                <a:avLst/>
              </a:prstGeom>
              <a:solidFill>
                <a:srgbClr val="000000">
                  <a:alpha val="20000"/>
                </a:srgbClr>
              </a:solidFill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5400000">
                <a:off x="1747800" y="5024520"/>
                <a:ext cx="199800" cy="190440"/>
              </a:xfrm>
              <a:prstGeom prst="ellipse">
                <a:avLst/>
              </a:prstGeom>
              <a:solidFill>
                <a:srgbClr val="000000">
                  <a:alpha val="30000"/>
                </a:srgbClr>
              </a:solidFill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5400000">
                <a:off x="2014200" y="4881600"/>
                <a:ext cx="98280" cy="475920"/>
              </a:xfrm>
              <a:custGeom>
                <a:avLst/>
                <a:gdLst>
                  <a:gd name="textAreaLeft" fmla="*/ 14400 w 98280"/>
                  <a:gd name="textAreaRight" fmla="*/ 83880 w 98280"/>
                  <a:gd name="textAreaTop" fmla="*/ 14400 h 475920"/>
                  <a:gd name="textAreaBottom" fmla="*/ 461520 h 475920"/>
                </a:gdLst>
                <a:ahLst/>
                <a:rect l="textAreaLeft" t="textAreaTop" r="textAreaRight" b="textAreaBottom"/>
                <a:pathLst>
                  <a:path w="21600" h="104295">
                    <a:moveTo>
                      <a:pt x="10800" y="0"/>
                    </a:moveTo>
                    <a:arcTo wR="10800" hR="10800" stAng="16200000" swAng="-5400000"/>
                    <a:lnTo>
                      <a:pt x="0" y="93495"/>
                    </a:lnTo>
                    <a:arcTo wR="10800" hR="10800" stAng="10800000" swAng="-5400000"/>
                    <a:lnTo>
                      <a:pt x="10800" y="104295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e8e8e8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1755720" y="4724280"/>
              <a:ext cx="663480" cy="206280"/>
              <a:chOff x="1755720" y="4724280"/>
              <a:chExt cx="663480" cy="206280"/>
            </a:xfrm>
          </p:grpSpPr>
          <p:sp>
            <p:nvSpPr>
              <p:cNvPr id="241" name=""/>
              <p:cNvSpPr/>
              <p:nvPr/>
            </p:nvSpPr>
            <p:spPr>
              <a:xfrm rot="5400000">
                <a:off x="2223720" y="4728960"/>
                <a:ext cx="200160" cy="190440"/>
              </a:xfrm>
              <a:prstGeom prst="ellipse">
                <a:avLst/>
              </a:prstGeom>
              <a:solidFill>
                <a:srgbClr val="000000">
                  <a:alpha val="20000"/>
                </a:srgbClr>
              </a:solidFill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5400000">
                <a:off x="1751040" y="4735440"/>
                <a:ext cx="199800" cy="190440"/>
              </a:xfrm>
              <a:prstGeom prst="ellipse">
                <a:avLst/>
              </a:prstGeom>
              <a:solidFill>
                <a:srgbClr val="000000">
                  <a:alpha val="30000"/>
                </a:srgbClr>
              </a:solidFill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5400000">
                <a:off x="2017440" y="4592520"/>
                <a:ext cx="98280" cy="475920"/>
              </a:xfrm>
              <a:custGeom>
                <a:avLst/>
                <a:gdLst>
                  <a:gd name="textAreaLeft" fmla="*/ 14400 w 98280"/>
                  <a:gd name="textAreaRight" fmla="*/ 83880 w 98280"/>
                  <a:gd name="textAreaTop" fmla="*/ 14400 h 475920"/>
                  <a:gd name="textAreaBottom" fmla="*/ 461520 h 475920"/>
                </a:gdLst>
                <a:ahLst/>
                <a:rect l="textAreaLeft" t="textAreaTop" r="textAreaRight" b="textAreaBottom"/>
                <a:pathLst>
                  <a:path w="21600" h="104295">
                    <a:moveTo>
                      <a:pt x="10800" y="0"/>
                    </a:moveTo>
                    <a:arcTo wR="10800" hR="10800" stAng="16200000" swAng="-5400000"/>
                    <a:lnTo>
                      <a:pt x="0" y="93495"/>
                    </a:lnTo>
                    <a:arcTo wR="10800" hR="10800" stAng="10800000" swAng="-5400000"/>
                    <a:lnTo>
                      <a:pt x="10800" y="104295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fefefe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4" name=""/>
          <p:cNvSpPr/>
          <p:nvPr/>
        </p:nvSpPr>
        <p:spPr>
          <a:xfrm>
            <a:off x="2644920" y="1644480"/>
            <a:ext cx="58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2666880"/>
            <a:ext cx="50292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90920" y="243828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2743200"/>
            <a:ext cx="1447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a6f3"/>
            </a:gs>
            <a:gs pos="100000">
              <a:srgbClr val="ddf2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0" y="6400800"/>
            <a:ext cx="2819520" cy="228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-360" y="3962520"/>
            <a:ext cx="609480" cy="2666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614600" y="3543480"/>
            <a:ext cx="22860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f29000"/>
              </a:gs>
              <a:gs pos="100000">
                <a:srgbClr val="af6800"/>
              </a:gs>
            </a:gsLst>
            <a:lin ang="5400000"/>
          </a:gradFill>
          <a:ln w="9360">
            <a:solidFill>
              <a:srgbClr val="f29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438280" y="4267080"/>
            <a:ext cx="22860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f29000"/>
              </a:gs>
              <a:gs pos="100000">
                <a:srgbClr val="824d00"/>
              </a:gs>
            </a:gsLst>
            <a:lin ang="5400000"/>
          </a:gradFill>
          <a:ln w="9360">
            <a:solidFill>
              <a:srgbClr val="f29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908440" y="5330880"/>
            <a:ext cx="22860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f29000"/>
              </a:gs>
              <a:gs pos="100000">
                <a:srgbClr val="2e1b00"/>
              </a:gs>
            </a:gsLst>
            <a:lin ang="5400000"/>
          </a:gradFill>
          <a:ln w="9360">
            <a:solidFill>
              <a:srgbClr val="f29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0" y="3751200"/>
            <a:ext cx="1665360" cy="2878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-360" y="5481720"/>
            <a:ext cx="2895480" cy="11476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0" y="2243160"/>
            <a:ext cx="1866960" cy="43862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0" y="3570120"/>
            <a:ext cx="2309760" cy="30592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-360" y="4836960"/>
            <a:ext cx="2846520" cy="17924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0" y="5883120"/>
            <a:ext cx="3867120" cy="7462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-2274120" y="4495680"/>
            <a:ext cx="4788360" cy="4601160"/>
            <a:chOff x="-2274120" y="4495680"/>
            <a:chExt cx="4788360" cy="4601160"/>
          </a:xfrm>
        </p:grpSpPr>
        <p:sp>
          <p:nvSpPr>
            <p:cNvPr id="788" name=""/>
            <p:cNvSpPr/>
            <p:nvPr/>
          </p:nvSpPr>
          <p:spPr>
            <a:xfrm>
              <a:off x="-2274120" y="4618080"/>
              <a:ext cx="4548240" cy="447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8080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-360" y="4495680"/>
              <a:ext cx="2514600" cy="23623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-2182320" y="4716000"/>
              <a:ext cx="4364640" cy="428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cbbc63"/>
                </a:gs>
                <a:gs pos="100000">
                  <a:srgbClr val="93884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-2105280" y="4748400"/>
              <a:ext cx="4254480" cy="41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ddd39b"/>
                </a:gs>
                <a:gs pos="100000">
                  <a:srgbClr val="cbbc63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2360" y="5611680"/>
              <a:ext cx="16362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Compa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LOG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2368440" y="1371600"/>
            <a:ext cx="14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Verdana"/>
                <a:ea typeface="宋体"/>
              </a:rPr>
              <a:t>2007.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908440" y="274320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29000"/>
                </a:solidFill>
                <a:latin typeface="Verdana"/>
                <a:ea typeface="宋体"/>
              </a:rPr>
              <a:t>2006 ~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424320" y="396252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aadb"/>
                </a:solidFill>
                <a:latin typeface="Verdana"/>
                <a:ea typeface="宋体"/>
              </a:rPr>
              <a:t>2004 ~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4479840" y="5105520"/>
            <a:ext cx="189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8c630"/>
                </a:solidFill>
                <a:latin typeface="Verdana"/>
                <a:ea typeface="宋体"/>
              </a:rPr>
              <a:t>2002 ~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825720" y="5492880"/>
            <a:ext cx="657360" cy="6570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98c630"/>
              </a:gs>
              <a:gs pos="100000">
                <a:srgbClr val="4d6418"/>
              </a:gs>
            </a:gsLst>
            <a:lin ang="5400000"/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774880" y="1685880"/>
            <a:ext cx="398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411360" y="3046320"/>
            <a:ext cx="398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995640" y="4268880"/>
            <a:ext cx="398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648320" y="5413320"/>
            <a:ext cx="398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695600" y="1706400"/>
            <a:ext cx="657000" cy="65736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faf1cb"/>
              </a:gs>
              <a:gs pos="100000">
                <a:srgbClr val="eec100"/>
              </a:gs>
            </a:gsLst>
            <a:lin ang="5400000"/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181240" y="3071880"/>
            <a:ext cx="657360" cy="6570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fadeb5"/>
              </a:gs>
              <a:gs pos="100000">
                <a:srgbClr val="f29000"/>
              </a:gs>
            </a:gsLst>
            <a:lin ang="5400000"/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776680" y="4383000"/>
            <a:ext cx="657000" cy="65736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53aadb"/>
              </a:gs>
              <a:gs pos="100000">
                <a:srgbClr val="4186ac"/>
              </a:gs>
            </a:gsLst>
            <a:lin ang="5400000"/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34960" y="3732120"/>
            <a:ext cx="22860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f29000"/>
              </a:gs>
              <a:gs pos="100000">
                <a:srgbClr val="af6800"/>
              </a:gs>
            </a:gsLst>
            <a:lin ang="5400000"/>
          </a:gradFill>
          <a:ln w="9360">
            <a:solidFill>
              <a:srgbClr val="f29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843280" y="6299280"/>
            <a:ext cx="22860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f29000"/>
              </a:gs>
              <a:gs pos="100000">
                <a:srgbClr val="2e1b00"/>
              </a:gs>
            </a:gsLst>
            <a:lin ang="5400000"/>
          </a:gradFill>
          <a:ln w="9360">
            <a:solidFill>
              <a:srgbClr val="f29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a6f3"/>
            </a:gs>
            <a:gs pos="100000">
              <a:srgbClr val="ddf2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Oval 2"/>
          <p:cNvSpPr/>
          <p:nvPr/>
        </p:nvSpPr>
        <p:spPr>
          <a:xfrm>
            <a:off x="2610000" y="2271600"/>
            <a:ext cx="2743200" cy="2743200"/>
          </a:xfrm>
          <a:prstGeom prst="ellipse">
            <a:avLst/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3"/>
          <p:cNvSpPr/>
          <p:nvPr/>
        </p:nvSpPr>
        <p:spPr>
          <a:xfrm>
            <a:off x="3753000" y="2786040"/>
            <a:ext cx="1619280" cy="1619280"/>
          </a:xfrm>
          <a:prstGeom prst="ellipse">
            <a:avLst/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4"/>
          <p:cNvSpPr/>
          <p:nvPr/>
        </p:nvSpPr>
        <p:spPr>
          <a:xfrm>
            <a:off x="2990880" y="3567240"/>
            <a:ext cx="15238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5"/>
          <p:cNvSpPr/>
          <p:nvPr/>
        </p:nvSpPr>
        <p:spPr>
          <a:xfrm>
            <a:off x="3828960" y="242424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6"/>
          <p:cNvSpPr/>
          <p:nvPr/>
        </p:nvSpPr>
        <p:spPr>
          <a:xfrm flipH="1">
            <a:off x="3924000" y="3948120"/>
            <a:ext cx="819000" cy="14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7"/>
          <p:cNvSpPr/>
          <p:nvPr/>
        </p:nvSpPr>
        <p:spPr>
          <a:xfrm>
            <a:off x="5124600" y="387180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8"/>
          <p:cNvSpPr/>
          <p:nvPr/>
        </p:nvSpPr>
        <p:spPr>
          <a:xfrm flipV="1">
            <a:off x="5124600" y="2576520"/>
            <a:ext cx="5331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9"/>
          <p:cNvSpPr/>
          <p:nvPr/>
        </p:nvSpPr>
        <p:spPr>
          <a:xfrm>
            <a:off x="4390920" y="3176640"/>
            <a:ext cx="895320" cy="895320"/>
          </a:xfrm>
          <a:prstGeom prst="ellipse">
            <a:avLst/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3009960" y="1547640"/>
            <a:ext cx="1167840" cy="1175400"/>
            <a:chOff x="3009960" y="1547640"/>
            <a:chExt cx="1167840" cy="1175400"/>
          </a:xfrm>
        </p:grpSpPr>
        <p:sp>
          <p:nvSpPr>
            <p:cNvPr id="816" name="Oval 12"/>
            <p:cNvSpPr/>
            <p:nvPr/>
          </p:nvSpPr>
          <p:spPr>
            <a:xfrm>
              <a:off x="3009960" y="154764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7" name=""/>
            <p:cNvGrpSpPr/>
            <p:nvPr/>
          </p:nvGrpSpPr>
          <p:grpSpPr>
            <a:xfrm>
              <a:off x="3044880" y="1584000"/>
              <a:ext cx="1118520" cy="1139040"/>
              <a:chOff x="3044880" y="1584000"/>
              <a:chExt cx="1118520" cy="1139040"/>
            </a:xfrm>
          </p:grpSpPr>
          <p:pic>
            <p:nvPicPr>
              <p:cNvPr id="818" name="Picture 14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3044880" y="158400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9" name="Oval 15"/>
              <p:cNvSpPr/>
              <p:nvPr/>
            </p:nvSpPr>
            <p:spPr>
              <a:xfrm>
                <a:off x="3044880" y="1584000"/>
                <a:ext cx="1079640" cy="1085760"/>
              </a:xfrm>
              <a:prstGeom prst="ellipse">
                <a:avLst/>
              </a:prstGeom>
              <a:solidFill>
                <a:srgbClr val="eec1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20" name="Picture 16" descr="light_shadow1"/>
              <p:cNvPicPr/>
              <p:nvPr/>
            </p:nvPicPr>
            <p:blipFill>
              <a:blip r:embed="rId2"/>
              <a:srcRect l="0" t="14273" r="0" b="0"/>
              <a:stretch/>
            </p:blipFill>
            <p:spPr>
              <a:xfrm>
                <a:off x="3055320" y="162900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21" name=""/>
              <p:cNvGrpSpPr/>
              <p:nvPr/>
            </p:nvGrpSpPr>
            <p:grpSpPr>
              <a:xfrm>
                <a:off x="3395160" y="2021400"/>
                <a:ext cx="768240" cy="701640"/>
                <a:chOff x="3395160" y="2021400"/>
                <a:chExt cx="768240" cy="701640"/>
              </a:xfrm>
            </p:grpSpPr>
            <p:grpSp>
              <p:nvGrpSpPr>
                <p:cNvPr id="822" name=""/>
                <p:cNvGrpSpPr/>
                <p:nvPr/>
              </p:nvGrpSpPr>
              <p:grpSpPr>
                <a:xfrm>
                  <a:off x="3571920" y="2021400"/>
                  <a:ext cx="591480" cy="694440"/>
                  <a:chOff x="3571920" y="2021400"/>
                  <a:chExt cx="591480" cy="694440"/>
                </a:xfrm>
              </p:grpSpPr>
              <p:sp>
                <p:nvSpPr>
                  <p:cNvPr id="823" name="AutoShape 19"/>
                  <p:cNvSpPr/>
                  <p:nvPr/>
                </p:nvSpPr>
                <p:spPr>
                  <a:xfrm flipH="1" flipV="1" rot="1528800">
                    <a:off x="3902040" y="2023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AutoShape 20"/>
                  <p:cNvSpPr/>
                  <p:nvPr/>
                </p:nvSpPr>
                <p:spPr>
                  <a:xfrm flipH="1" flipV="1" rot="2344200">
                    <a:off x="3856320" y="21078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AutoShape 21"/>
                  <p:cNvSpPr/>
                  <p:nvPr/>
                </p:nvSpPr>
                <p:spPr>
                  <a:xfrm flipH="1" flipV="1" rot="2640000">
                    <a:off x="3819240" y="21495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AutoShape 22"/>
                  <p:cNvSpPr/>
                  <p:nvPr/>
                </p:nvSpPr>
                <p:spPr>
                  <a:xfrm flipH="1" flipV="1" rot="3172200">
                    <a:off x="3773520" y="21970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7" name=""/>
                <p:cNvGrpSpPr/>
                <p:nvPr/>
              </p:nvGrpSpPr>
              <p:grpSpPr>
                <a:xfrm>
                  <a:off x="3395160" y="2213280"/>
                  <a:ext cx="743760" cy="509760"/>
                  <a:chOff x="3395160" y="2213280"/>
                  <a:chExt cx="743760" cy="509760"/>
                </a:xfrm>
              </p:grpSpPr>
              <p:sp>
                <p:nvSpPr>
                  <p:cNvPr id="828" name="AutoShape 24"/>
                  <p:cNvSpPr/>
                  <p:nvPr/>
                </p:nvSpPr>
                <p:spPr>
                  <a:xfrm flipH="1" flipV="1" rot="2881800">
                    <a:off x="3806640" y="21693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AutoShape 25"/>
                  <p:cNvSpPr/>
                  <p:nvPr/>
                </p:nvSpPr>
                <p:spPr>
                  <a:xfrm flipH="1" flipV="1" rot="3697200">
                    <a:off x="3732480" y="222984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AutoShape 26"/>
                  <p:cNvSpPr/>
                  <p:nvPr/>
                </p:nvSpPr>
                <p:spPr>
                  <a:xfrm flipH="1" flipV="1" rot="3993000">
                    <a:off x="3682080" y="22546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AutoShape 27"/>
                  <p:cNvSpPr/>
                  <p:nvPr/>
                </p:nvSpPr>
                <p:spPr>
                  <a:xfrm flipH="1" flipV="1" rot="4525200">
                    <a:off x="3621960" y="22813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32" name=""/>
            <p:cNvGrpSpPr/>
            <p:nvPr/>
          </p:nvGrpSpPr>
          <p:grpSpPr>
            <a:xfrm>
              <a:off x="3500640" y="2049480"/>
              <a:ext cx="677160" cy="617400"/>
              <a:chOff x="3500640" y="2049480"/>
              <a:chExt cx="677160" cy="617400"/>
            </a:xfrm>
          </p:grpSpPr>
          <p:grpSp>
            <p:nvGrpSpPr>
              <p:cNvPr id="833" name=""/>
              <p:cNvGrpSpPr/>
              <p:nvPr/>
            </p:nvGrpSpPr>
            <p:grpSpPr>
              <a:xfrm>
                <a:off x="3656520" y="2049480"/>
                <a:ext cx="521280" cy="611280"/>
                <a:chOff x="3656520" y="2049480"/>
                <a:chExt cx="521280" cy="611280"/>
              </a:xfrm>
            </p:grpSpPr>
            <p:sp>
              <p:nvSpPr>
                <p:cNvPr id="834" name="AutoShape 30"/>
                <p:cNvSpPr/>
                <p:nvPr/>
              </p:nvSpPr>
              <p:spPr>
                <a:xfrm flipH="1" flipV="1" rot="1528800">
                  <a:off x="3946320" y="205128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AutoShape 31"/>
                <p:cNvSpPr/>
                <p:nvPr/>
              </p:nvSpPr>
              <p:spPr>
                <a:xfrm flipH="1" flipV="1" rot="2344200">
                  <a:off x="3907440" y="21254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AutoShape 32"/>
                <p:cNvSpPr/>
                <p:nvPr/>
              </p:nvSpPr>
              <p:spPr>
                <a:xfrm flipH="1" flipV="1" rot="2640000">
                  <a:off x="3874320" y="21621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AutoShape 33"/>
                <p:cNvSpPr/>
                <p:nvPr/>
              </p:nvSpPr>
              <p:spPr>
                <a:xfrm flipH="1" flipV="1" rot="3172200">
                  <a:off x="3833640" y="22039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3500640" y="2217600"/>
                <a:ext cx="654480" cy="449280"/>
                <a:chOff x="3500640" y="2217600"/>
                <a:chExt cx="654480" cy="449280"/>
              </a:xfrm>
            </p:grpSpPr>
            <p:sp>
              <p:nvSpPr>
                <p:cNvPr id="839" name="AutoShape 35"/>
                <p:cNvSpPr/>
                <p:nvPr/>
              </p:nvSpPr>
              <p:spPr>
                <a:xfrm flipH="1" flipV="1" rot="2881800">
                  <a:off x="3861360" y="217944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AutoShape 36"/>
                <p:cNvSpPr/>
                <p:nvPr/>
              </p:nvSpPr>
              <p:spPr>
                <a:xfrm flipH="1" flipV="1" rot="3697200">
                  <a:off x="3796560" y="223344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AutoShape 37"/>
                <p:cNvSpPr/>
                <p:nvPr/>
              </p:nvSpPr>
              <p:spPr>
                <a:xfrm flipH="1" flipV="1" rot="3993000">
                  <a:off x="3753360" y="225432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AutoShape 38"/>
                <p:cNvSpPr/>
                <p:nvPr/>
              </p:nvSpPr>
              <p:spPr>
                <a:xfrm flipH="1" flipV="1" rot="4525200">
                  <a:off x="3699360" y="2278080"/>
                  <a:ext cx="12492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3" name="Rectangle 39"/>
            <p:cNvSpPr/>
            <p:nvPr/>
          </p:nvSpPr>
          <p:spPr>
            <a:xfrm>
              <a:off x="3294720" y="19666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1925640" y="2830680"/>
            <a:ext cx="1167840" cy="1175400"/>
            <a:chOff x="1925640" y="2830680"/>
            <a:chExt cx="1167840" cy="1175400"/>
          </a:xfrm>
        </p:grpSpPr>
        <p:sp>
          <p:nvSpPr>
            <p:cNvPr id="845" name="Oval 41"/>
            <p:cNvSpPr/>
            <p:nvPr/>
          </p:nvSpPr>
          <p:spPr>
            <a:xfrm>
              <a:off x="1925640" y="283068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6" name=""/>
            <p:cNvGrpSpPr/>
            <p:nvPr/>
          </p:nvGrpSpPr>
          <p:grpSpPr>
            <a:xfrm>
              <a:off x="1960560" y="2867040"/>
              <a:ext cx="1118520" cy="1139040"/>
              <a:chOff x="1960560" y="2867040"/>
              <a:chExt cx="1118520" cy="1139040"/>
            </a:xfrm>
          </p:grpSpPr>
          <p:pic>
            <p:nvPicPr>
              <p:cNvPr id="847" name="Picture 43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960560" y="286704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8" name="Oval 44"/>
              <p:cNvSpPr/>
              <p:nvPr/>
            </p:nvSpPr>
            <p:spPr>
              <a:xfrm>
                <a:off x="1960560" y="2867040"/>
                <a:ext cx="1079640" cy="1085760"/>
              </a:xfrm>
              <a:prstGeom prst="ellipse">
                <a:avLst/>
              </a:prstGeom>
              <a:solidFill>
                <a:srgbClr val="98c63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49" name="Picture 45" descr="light_shadow1"/>
              <p:cNvPicPr/>
              <p:nvPr/>
            </p:nvPicPr>
            <p:blipFill>
              <a:blip r:embed="rId4"/>
              <a:srcRect l="0" t="14273" r="0" b="0"/>
              <a:stretch/>
            </p:blipFill>
            <p:spPr>
              <a:xfrm>
                <a:off x="1971000" y="29120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50" name=""/>
              <p:cNvGrpSpPr/>
              <p:nvPr/>
            </p:nvGrpSpPr>
            <p:grpSpPr>
              <a:xfrm>
                <a:off x="2310840" y="3304440"/>
                <a:ext cx="768240" cy="701640"/>
                <a:chOff x="2310840" y="3304440"/>
                <a:chExt cx="768240" cy="701640"/>
              </a:xfrm>
            </p:grpSpPr>
            <p:grpSp>
              <p:nvGrpSpPr>
                <p:cNvPr id="851" name=""/>
                <p:cNvGrpSpPr/>
                <p:nvPr/>
              </p:nvGrpSpPr>
              <p:grpSpPr>
                <a:xfrm>
                  <a:off x="2487600" y="3304440"/>
                  <a:ext cx="591480" cy="694440"/>
                  <a:chOff x="2487600" y="3304440"/>
                  <a:chExt cx="591480" cy="694440"/>
                </a:xfrm>
              </p:grpSpPr>
              <p:sp>
                <p:nvSpPr>
                  <p:cNvPr id="852" name="AutoShape 48"/>
                  <p:cNvSpPr/>
                  <p:nvPr/>
                </p:nvSpPr>
                <p:spPr>
                  <a:xfrm flipH="1" flipV="1" rot="1528800">
                    <a:off x="2817720" y="33062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AutoShape 49"/>
                  <p:cNvSpPr/>
                  <p:nvPr/>
                </p:nvSpPr>
                <p:spPr>
                  <a:xfrm flipH="1" flipV="1" rot="2344200">
                    <a:off x="2772000" y="33908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AutoShape 50"/>
                  <p:cNvSpPr/>
                  <p:nvPr/>
                </p:nvSpPr>
                <p:spPr>
                  <a:xfrm flipH="1" flipV="1" rot="2640000">
                    <a:off x="2734920" y="34326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AutoShape 51"/>
                  <p:cNvSpPr/>
                  <p:nvPr/>
                </p:nvSpPr>
                <p:spPr>
                  <a:xfrm flipH="1" flipV="1" rot="3172200">
                    <a:off x="2689200" y="34801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6" name=""/>
                <p:cNvGrpSpPr/>
                <p:nvPr/>
              </p:nvGrpSpPr>
              <p:grpSpPr>
                <a:xfrm>
                  <a:off x="2310840" y="3496320"/>
                  <a:ext cx="743760" cy="509760"/>
                  <a:chOff x="2310840" y="3496320"/>
                  <a:chExt cx="743760" cy="509760"/>
                </a:xfrm>
              </p:grpSpPr>
              <p:sp>
                <p:nvSpPr>
                  <p:cNvPr id="857" name="AutoShape 53"/>
                  <p:cNvSpPr/>
                  <p:nvPr/>
                </p:nvSpPr>
                <p:spPr>
                  <a:xfrm flipH="1" flipV="1" rot="2881800">
                    <a:off x="2722320" y="3452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AutoShape 54"/>
                  <p:cNvSpPr/>
                  <p:nvPr/>
                </p:nvSpPr>
                <p:spPr>
                  <a:xfrm flipH="1" flipV="1" rot="3697200">
                    <a:off x="2648160" y="351288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AutoShape 55"/>
                  <p:cNvSpPr/>
                  <p:nvPr/>
                </p:nvSpPr>
                <p:spPr>
                  <a:xfrm flipH="1" flipV="1" rot="3993000">
                    <a:off x="2597760" y="35377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AutoShape 56"/>
                  <p:cNvSpPr/>
                  <p:nvPr/>
                </p:nvSpPr>
                <p:spPr>
                  <a:xfrm flipH="1" flipV="1" rot="4525200">
                    <a:off x="2537640" y="35643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61" name=""/>
            <p:cNvGrpSpPr/>
            <p:nvPr/>
          </p:nvGrpSpPr>
          <p:grpSpPr>
            <a:xfrm>
              <a:off x="2416320" y="3332520"/>
              <a:ext cx="677160" cy="617400"/>
              <a:chOff x="2416320" y="3332520"/>
              <a:chExt cx="677160" cy="617400"/>
            </a:xfrm>
          </p:grpSpPr>
          <p:grpSp>
            <p:nvGrpSpPr>
              <p:cNvPr id="862" name=""/>
              <p:cNvGrpSpPr/>
              <p:nvPr/>
            </p:nvGrpSpPr>
            <p:grpSpPr>
              <a:xfrm>
                <a:off x="2572200" y="3332520"/>
                <a:ext cx="521280" cy="611280"/>
                <a:chOff x="2572200" y="3332520"/>
                <a:chExt cx="521280" cy="611280"/>
              </a:xfrm>
            </p:grpSpPr>
            <p:sp>
              <p:nvSpPr>
                <p:cNvPr id="863" name="AutoShape 59"/>
                <p:cNvSpPr/>
                <p:nvPr/>
              </p:nvSpPr>
              <p:spPr>
                <a:xfrm flipH="1" flipV="1" rot="1528800">
                  <a:off x="2862000" y="33343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AutoShape 60"/>
                <p:cNvSpPr/>
                <p:nvPr/>
              </p:nvSpPr>
              <p:spPr>
                <a:xfrm flipH="1" flipV="1" rot="2344200">
                  <a:off x="2823120" y="34084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AutoShape 61"/>
                <p:cNvSpPr/>
                <p:nvPr/>
              </p:nvSpPr>
              <p:spPr>
                <a:xfrm flipH="1" flipV="1" rot="2640000">
                  <a:off x="2790000" y="34452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AutoShape 62"/>
                <p:cNvSpPr/>
                <p:nvPr/>
              </p:nvSpPr>
              <p:spPr>
                <a:xfrm flipH="1" flipV="1" rot="3172200">
                  <a:off x="2749320" y="34869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7" name=""/>
              <p:cNvGrpSpPr/>
              <p:nvPr/>
            </p:nvGrpSpPr>
            <p:grpSpPr>
              <a:xfrm>
                <a:off x="2416320" y="3500640"/>
                <a:ext cx="654480" cy="449280"/>
                <a:chOff x="2416320" y="3500640"/>
                <a:chExt cx="654480" cy="449280"/>
              </a:xfrm>
            </p:grpSpPr>
            <p:sp>
              <p:nvSpPr>
                <p:cNvPr id="868" name="AutoShape 64"/>
                <p:cNvSpPr/>
                <p:nvPr/>
              </p:nvSpPr>
              <p:spPr>
                <a:xfrm flipH="1" flipV="1" rot="2881800">
                  <a:off x="2777040" y="346248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AutoShape 65"/>
                <p:cNvSpPr/>
                <p:nvPr/>
              </p:nvSpPr>
              <p:spPr>
                <a:xfrm flipH="1" flipV="1" rot="3697200">
                  <a:off x="2712240" y="351648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AutoShape 66"/>
                <p:cNvSpPr/>
                <p:nvPr/>
              </p:nvSpPr>
              <p:spPr>
                <a:xfrm flipH="1" flipV="1" rot="3993000">
                  <a:off x="2669040" y="353736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AutoShape 67"/>
                <p:cNvSpPr/>
                <p:nvPr/>
              </p:nvSpPr>
              <p:spPr>
                <a:xfrm flipH="1" flipV="1" rot="4525200">
                  <a:off x="2615040" y="3561120"/>
                  <a:ext cx="12492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2" name="Rectangle 68"/>
            <p:cNvSpPr/>
            <p:nvPr/>
          </p:nvSpPr>
          <p:spPr>
            <a:xfrm>
              <a:off x="2210400" y="32497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3038400" y="5178600"/>
            <a:ext cx="1167840" cy="1175400"/>
            <a:chOff x="3038400" y="5178600"/>
            <a:chExt cx="1167840" cy="1175400"/>
          </a:xfrm>
        </p:grpSpPr>
        <p:sp>
          <p:nvSpPr>
            <p:cNvPr id="874" name="Oval 70"/>
            <p:cNvSpPr/>
            <p:nvPr/>
          </p:nvSpPr>
          <p:spPr>
            <a:xfrm>
              <a:off x="3038400" y="517860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5" name=""/>
            <p:cNvGrpSpPr/>
            <p:nvPr/>
          </p:nvGrpSpPr>
          <p:grpSpPr>
            <a:xfrm>
              <a:off x="3073320" y="5214960"/>
              <a:ext cx="1118520" cy="1139040"/>
              <a:chOff x="3073320" y="5214960"/>
              <a:chExt cx="1118520" cy="1139040"/>
            </a:xfrm>
          </p:grpSpPr>
          <p:pic>
            <p:nvPicPr>
              <p:cNvPr id="876" name="Picture 7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3073320" y="521496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Oval 73"/>
              <p:cNvSpPr/>
              <p:nvPr/>
            </p:nvSpPr>
            <p:spPr>
              <a:xfrm>
                <a:off x="3073320" y="5214960"/>
                <a:ext cx="1079640" cy="1085760"/>
              </a:xfrm>
              <a:prstGeom prst="ellipse">
                <a:avLst/>
              </a:prstGeom>
              <a:solidFill>
                <a:srgbClr val="f29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78" name="Picture 74" descr="light_shadow1"/>
              <p:cNvPicPr/>
              <p:nvPr/>
            </p:nvPicPr>
            <p:blipFill>
              <a:blip r:embed="rId6"/>
              <a:srcRect l="0" t="14273" r="0" b="0"/>
              <a:stretch/>
            </p:blipFill>
            <p:spPr>
              <a:xfrm>
                <a:off x="3083760" y="52599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79" name=""/>
              <p:cNvGrpSpPr/>
              <p:nvPr/>
            </p:nvGrpSpPr>
            <p:grpSpPr>
              <a:xfrm>
                <a:off x="3423600" y="5652360"/>
                <a:ext cx="768240" cy="701640"/>
                <a:chOff x="3423600" y="5652360"/>
                <a:chExt cx="768240" cy="701640"/>
              </a:xfrm>
            </p:grpSpPr>
            <p:grpSp>
              <p:nvGrpSpPr>
                <p:cNvPr id="880" name=""/>
                <p:cNvGrpSpPr/>
                <p:nvPr/>
              </p:nvGrpSpPr>
              <p:grpSpPr>
                <a:xfrm>
                  <a:off x="3600360" y="5652360"/>
                  <a:ext cx="591480" cy="694440"/>
                  <a:chOff x="3600360" y="5652360"/>
                  <a:chExt cx="591480" cy="694440"/>
                </a:xfrm>
              </p:grpSpPr>
              <p:sp>
                <p:nvSpPr>
                  <p:cNvPr id="881" name="AutoShape 77"/>
                  <p:cNvSpPr/>
                  <p:nvPr/>
                </p:nvSpPr>
                <p:spPr>
                  <a:xfrm flipH="1" flipV="1" rot="1528800">
                    <a:off x="3930480" y="56541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AutoShape 78"/>
                  <p:cNvSpPr/>
                  <p:nvPr/>
                </p:nvSpPr>
                <p:spPr>
                  <a:xfrm flipH="1" flipV="1" rot="2344200">
                    <a:off x="3884760" y="57387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AutoShape 79"/>
                  <p:cNvSpPr/>
                  <p:nvPr/>
                </p:nvSpPr>
                <p:spPr>
                  <a:xfrm flipH="1" flipV="1" rot="2640000">
                    <a:off x="3847680" y="57805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AutoShape 80"/>
                  <p:cNvSpPr/>
                  <p:nvPr/>
                </p:nvSpPr>
                <p:spPr>
                  <a:xfrm flipH="1" flipV="1" rot="3172200">
                    <a:off x="3801960" y="58280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5" name=""/>
                <p:cNvGrpSpPr/>
                <p:nvPr/>
              </p:nvGrpSpPr>
              <p:grpSpPr>
                <a:xfrm>
                  <a:off x="3423600" y="5844240"/>
                  <a:ext cx="743760" cy="509760"/>
                  <a:chOff x="3423600" y="5844240"/>
                  <a:chExt cx="743760" cy="509760"/>
                </a:xfrm>
              </p:grpSpPr>
              <p:sp>
                <p:nvSpPr>
                  <p:cNvPr id="886" name="AutoShape 82"/>
                  <p:cNvSpPr/>
                  <p:nvPr/>
                </p:nvSpPr>
                <p:spPr>
                  <a:xfrm flipH="1" flipV="1" rot="2881800">
                    <a:off x="3835080" y="58003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AutoShape 83"/>
                  <p:cNvSpPr/>
                  <p:nvPr/>
                </p:nvSpPr>
                <p:spPr>
                  <a:xfrm flipH="1" flipV="1" rot="3697200">
                    <a:off x="3760920" y="586080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AutoShape 84"/>
                  <p:cNvSpPr/>
                  <p:nvPr/>
                </p:nvSpPr>
                <p:spPr>
                  <a:xfrm flipH="1" flipV="1" rot="3993000">
                    <a:off x="3710520" y="58856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AutoShape 85"/>
                  <p:cNvSpPr/>
                  <p:nvPr/>
                </p:nvSpPr>
                <p:spPr>
                  <a:xfrm flipH="1" flipV="1" rot="4525200">
                    <a:off x="3650400" y="59122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90" name=""/>
            <p:cNvGrpSpPr/>
            <p:nvPr/>
          </p:nvGrpSpPr>
          <p:grpSpPr>
            <a:xfrm>
              <a:off x="3529080" y="5680440"/>
              <a:ext cx="677160" cy="617400"/>
              <a:chOff x="3529080" y="5680440"/>
              <a:chExt cx="677160" cy="617400"/>
            </a:xfrm>
          </p:grpSpPr>
          <p:grpSp>
            <p:nvGrpSpPr>
              <p:cNvPr id="891" name=""/>
              <p:cNvGrpSpPr/>
              <p:nvPr/>
            </p:nvGrpSpPr>
            <p:grpSpPr>
              <a:xfrm>
                <a:off x="3684960" y="5680440"/>
                <a:ext cx="521280" cy="611280"/>
                <a:chOff x="3684960" y="5680440"/>
                <a:chExt cx="521280" cy="611280"/>
              </a:xfrm>
            </p:grpSpPr>
            <p:sp>
              <p:nvSpPr>
                <p:cNvPr id="892" name="AutoShape 88"/>
                <p:cNvSpPr/>
                <p:nvPr/>
              </p:nvSpPr>
              <p:spPr>
                <a:xfrm flipH="1" flipV="1" rot="1528800">
                  <a:off x="3974760" y="568224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AutoShape 89"/>
                <p:cNvSpPr/>
                <p:nvPr/>
              </p:nvSpPr>
              <p:spPr>
                <a:xfrm flipH="1" flipV="1" rot="2344200">
                  <a:off x="3935880" y="57564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AutoShape 90"/>
                <p:cNvSpPr/>
                <p:nvPr/>
              </p:nvSpPr>
              <p:spPr>
                <a:xfrm flipH="1" flipV="1" rot="2640000">
                  <a:off x="3902760" y="57931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AutoShape 91"/>
                <p:cNvSpPr/>
                <p:nvPr/>
              </p:nvSpPr>
              <p:spPr>
                <a:xfrm flipH="1" flipV="1" rot="3172200">
                  <a:off x="3862080" y="58348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6" name=""/>
              <p:cNvGrpSpPr/>
              <p:nvPr/>
            </p:nvGrpSpPr>
            <p:grpSpPr>
              <a:xfrm>
                <a:off x="3529080" y="5848560"/>
                <a:ext cx="654480" cy="449280"/>
                <a:chOff x="3529080" y="5848560"/>
                <a:chExt cx="654480" cy="449280"/>
              </a:xfrm>
            </p:grpSpPr>
            <p:sp>
              <p:nvSpPr>
                <p:cNvPr id="897" name="AutoShape 93"/>
                <p:cNvSpPr/>
                <p:nvPr/>
              </p:nvSpPr>
              <p:spPr>
                <a:xfrm flipH="1" flipV="1" rot="2881800">
                  <a:off x="3889800" y="581040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AutoShape 94"/>
                <p:cNvSpPr/>
                <p:nvPr/>
              </p:nvSpPr>
              <p:spPr>
                <a:xfrm flipH="1" flipV="1" rot="3697200">
                  <a:off x="3825000" y="586440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AutoShape 95"/>
                <p:cNvSpPr/>
                <p:nvPr/>
              </p:nvSpPr>
              <p:spPr>
                <a:xfrm flipH="1" flipV="1" rot="3993000">
                  <a:off x="3781800" y="588528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AutoShape 96"/>
                <p:cNvSpPr/>
                <p:nvPr/>
              </p:nvSpPr>
              <p:spPr>
                <a:xfrm flipH="1" flipV="1" rot="4525200">
                  <a:off x="3727800" y="5909040"/>
                  <a:ext cx="12492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1" name="Rectangle 97"/>
            <p:cNvSpPr/>
            <p:nvPr/>
          </p:nvSpPr>
          <p:spPr>
            <a:xfrm>
              <a:off x="3323160" y="55976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5283360" y="3719520"/>
            <a:ext cx="1167120" cy="1175400"/>
            <a:chOff x="5283360" y="3719520"/>
            <a:chExt cx="1167120" cy="1175400"/>
          </a:xfrm>
        </p:grpSpPr>
        <p:sp>
          <p:nvSpPr>
            <p:cNvPr id="903" name="Oval 99"/>
            <p:cNvSpPr/>
            <p:nvPr/>
          </p:nvSpPr>
          <p:spPr>
            <a:xfrm>
              <a:off x="5283360" y="371952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4" name=""/>
            <p:cNvGrpSpPr/>
            <p:nvPr/>
          </p:nvGrpSpPr>
          <p:grpSpPr>
            <a:xfrm>
              <a:off x="5317920" y="3755880"/>
              <a:ext cx="1118520" cy="1139040"/>
              <a:chOff x="5317920" y="3755880"/>
              <a:chExt cx="1118520" cy="1139040"/>
            </a:xfrm>
          </p:grpSpPr>
          <p:pic>
            <p:nvPicPr>
              <p:cNvPr id="905" name="Picture 101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5317920" y="375588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6" name="Oval 102"/>
              <p:cNvSpPr/>
              <p:nvPr/>
            </p:nvSpPr>
            <p:spPr>
              <a:xfrm>
                <a:off x="5317920" y="3755880"/>
                <a:ext cx="1079280" cy="1085760"/>
              </a:xfrm>
              <a:prstGeom prst="ellipse">
                <a:avLst/>
              </a:prstGeom>
              <a:solidFill>
                <a:srgbClr val="1c1c1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07" name="Picture 103" descr="light_shadow1"/>
              <p:cNvPicPr/>
              <p:nvPr/>
            </p:nvPicPr>
            <p:blipFill>
              <a:blip r:embed="rId8"/>
              <a:srcRect l="0" t="14273" r="0" b="0"/>
              <a:stretch/>
            </p:blipFill>
            <p:spPr>
              <a:xfrm>
                <a:off x="5328360" y="380088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08" name=""/>
              <p:cNvGrpSpPr/>
              <p:nvPr/>
            </p:nvGrpSpPr>
            <p:grpSpPr>
              <a:xfrm>
                <a:off x="5668200" y="4193280"/>
                <a:ext cx="768240" cy="701640"/>
                <a:chOff x="5668200" y="4193280"/>
                <a:chExt cx="768240" cy="701640"/>
              </a:xfrm>
            </p:grpSpPr>
            <p:grpSp>
              <p:nvGrpSpPr>
                <p:cNvPr id="909" name=""/>
                <p:cNvGrpSpPr/>
                <p:nvPr/>
              </p:nvGrpSpPr>
              <p:grpSpPr>
                <a:xfrm>
                  <a:off x="5844960" y="4193280"/>
                  <a:ext cx="591480" cy="694440"/>
                  <a:chOff x="5844960" y="4193280"/>
                  <a:chExt cx="591480" cy="694440"/>
                </a:xfrm>
              </p:grpSpPr>
              <p:sp>
                <p:nvSpPr>
                  <p:cNvPr id="910" name="AutoShape 106"/>
                  <p:cNvSpPr/>
                  <p:nvPr/>
                </p:nvSpPr>
                <p:spPr>
                  <a:xfrm flipH="1" flipV="1" rot="1528800">
                    <a:off x="6175080" y="41950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AutoShape 107"/>
                  <p:cNvSpPr/>
                  <p:nvPr/>
                </p:nvSpPr>
                <p:spPr>
                  <a:xfrm flipH="1" flipV="1" rot="2344200">
                    <a:off x="6129360" y="42796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AutoShape 108"/>
                  <p:cNvSpPr/>
                  <p:nvPr/>
                </p:nvSpPr>
                <p:spPr>
                  <a:xfrm flipH="1" flipV="1" rot="2640000">
                    <a:off x="6092280" y="43214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AutoShape 109"/>
                  <p:cNvSpPr/>
                  <p:nvPr/>
                </p:nvSpPr>
                <p:spPr>
                  <a:xfrm flipH="1" flipV="1" rot="3172200">
                    <a:off x="6046560" y="43689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4" name=""/>
                <p:cNvGrpSpPr/>
                <p:nvPr/>
              </p:nvGrpSpPr>
              <p:grpSpPr>
                <a:xfrm>
                  <a:off x="5668200" y="4385160"/>
                  <a:ext cx="743760" cy="509760"/>
                  <a:chOff x="5668200" y="4385160"/>
                  <a:chExt cx="743760" cy="509760"/>
                </a:xfrm>
              </p:grpSpPr>
              <p:sp>
                <p:nvSpPr>
                  <p:cNvPr id="915" name="AutoShape 111"/>
                  <p:cNvSpPr/>
                  <p:nvPr/>
                </p:nvSpPr>
                <p:spPr>
                  <a:xfrm flipH="1" flipV="1" rot="2881800">
                    <a:off x="6079680" y="43412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AutoShape 112"/>
                  <p:cNvSpPr/>
                  <p:nvPr/>
                </p:nvSpPr>
                <p:spPr>
                  <a:xfrm flipH="1" flipV="1" rot="3697200">
                    <a:off x="6005520" y="440172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AutoShape 113"/>
                  <p:cNvSpPr/>
                  <p:nvPr/>
                </p:nvSpPr>
                <p:spPr>
                  <a:xfrm flipH="1" flipV="1" rot="3993000">
                    <a:off x="5955120" y="44265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AutoShape 114"/>
                  <p:cNvSpPr/>
                  <p:nvPr/>
                </p:nvSpPr>
                <p:spPr>
                  <a:xfrm flipH="1" flipV="1" rot="4525200">
                    <a:off x="5895000" y="44532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19" name=""/>
            <p:cNvGrpSpPr/>
            <p:nvPr/>
          </p:nvGrpSpPr>
          <p:grpSpPr>
            <a:xfrm>
              <a:off x="5773320" y="4221000"/>
              <a:ext cx="677160" cy="617760"/>
              <a:chOff x="5773320" y="4221000"/>
              <a:chExt cx="677160" cy="617760"/>
            </a:xfrm>
          </p:grpSpPr>
          <p:grpSp>
            <p:nvGrpSpPr>
              <p:cNvPr id="920" name=""/>
              <p:cNvGrpSpPr/>
              <p:nvPr/>
            </p:nvGrpSpPr>
            <p:grpSpPr>
              <a:xfrm>
                <a:off x="5929200" y="4221000"/>
                <a:ext cx="521280" cy="611640"/>
                <a:chOff x="5929200" y="4221000"/>
                <a:chExt cx="521280" cy="611640"/>
              </a:xfrm>
            </p:grpSpPr>
            <p:sp>
              <p:nvSpPr>
                <p:cNvPr id="921" name="AutoShape 117"/>
                <p:cNvSpPr/>
                <p:nvPr/>
              </p:nvSpPr>
              <p:spPr>
                <a:xfrm flipH="1" flipV="1" rot="1528800">
                  <a:off x="6218640" y="422280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AutoShape 118"/>
                <p:cNvSpPr/>
                <p:nvPr/>
              </p:nvSpPr>
              <p:spPr>
                <a:xfrm flipH="1" flipV="1" rot="2344200">
                  <a:off x="6180120" y="4297320"/>
                  <a:ext cx="12384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AutoShape 119"/>
                <p:cNvSpPr/>
                <p:nvPr/>
              </p:nvSpPr>
              <p:spPr>
                <a:xfrm flipH="1" flipV="1" rot="2640000">
                  <a:off x="6147720" y="433368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AutoShape 120"/>
                <p:cNvSpPr/>
                <p:nvPr/>
              </p:nvSpPr>
              <p:spPr>
                <a:xfrm flipH="1" flipV="1" rot="3172200">
                  <a:off x="6107040" y="437544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5773320" y="4389480"/>
                <a:ext cx="654120" cy="449280"/>
                <a:chOff x="5773320" y="4389480"/>
                <a:chExt cx="654120" cy="449280"/>
              </a:xfrm>
            </p:grpSpPr>
            <p:sp>
              <p:nvSpPr>
                <p:cNvPr id="926" name="AutoShape 122"/>
                <p:cNvSpPr/>
                <p:nvPr/>
              </p:nvSpPr>
              <p:spPr>
                <a:xfrm flipH="1" flipV="1" rot="2881800">
                  <a:off x="6134400" y="435096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AutoShape 123"/>
                <p:cNvSpPr/>
                <p:nvPr/>
              </p:nvSpPr>
              <p:spPr>
                <a:xfrm flipH="1" flipV="1" rot="3697200">
                  <a:off x="6069600" y="440568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AutoShape 124"/>
                <p:cNvSpPr/>
                <p:nvPr/>
              </p:nvSpPr>
              <p:spPr>
                <a:xfrm flipH="1" flipV="1" rot="3993000">
                  <a:off x="6025680" y="442620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AutoShape 125"/>
                <p:cNvSpPr/>
                <p:nvPr/>
              </p:nvSpPr>
              <p:spPr>
                <a:xfrm flipH="1" flipV="1" rot="4525200">
                  <a:off x="5972400" y="4450320"/>
                  <a:ext cx="12456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0" name="Rectangle 126"/>
            <p:cNvSpPr/>
            <p:nvPr/>
          </p:nvSpPr>
          <p:spPr>
            <a:xfrm>
              <a:off x="5567760" y="41385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5276880" y="1557360"/>
            <a:ext cx="1167840" cy="1175400"/>
            <a:chOff x="5276880" y="1557360"/>
            <a:chExt cx="1167840" cy="1175400"/>
          </a:xfrm>
        </p:grpSpPr>
        <p:sp>
          <p:nvSpPr>
            <p:cNvPr id="932" name="Oval 128"/>
            <p:cNvSpPr/>
            <p:nvPr/>
          </p:nvSpPr>
          <p:spPr>
            <a:xfrm>
              <a:off x="5276880" y="155736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3" name=""/>
            <p:cNvGrpSpPr/>
            <p:nvPr/>
          </p:nvGrpSpPr>
          <p:grpSpPr>
            <a:xfrm>
              <a:off x="5311800" y="1593720"/>
              <a:ext cx="1118520" cy="1139040"/>
              <a:chOff x="5311800" y="1593720"/>
              <a:chExt cx="1118520" cy="1139040"/>
            </a:xfrm>
          </p:grpSpPr>
          <p:pic>
            <p:nvPicPr>
              <p:cNvPr id="934" name="Picture 130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5311800" y="159372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5" name="Oval 131"/>
              <p:cNvSpPr/>
              <p:nvPr/>
            </p:nvSpPr>
            <p:spPr>
              <a:xfrm>
                <a:off x="5311800" y="1593720"/>
                <a:ext cx="1079640" cy="1085760"/>
              </a:xfrm>
              <a:prstGeom prst="ellipse">
                <a:avLst/>
              </a:prstGeom>
              <a:solidFill>
                <a:srgbClr val="53aad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36" name="Picture 132" descr="light_shadow1"/>
              <p:cNvPicPr/>
              <p:nvPr/>
            </p:nvPicPr>
            <p:blipFill>
              <a:blip r:embed="rId10"/>
              <a:srcRect l="0" t="14273" r="0" b="0"/>
              <a:stretch/>
            </p:blipFill>
            <p:spPr>
              <a:xfrm>
                <a:off x="5322240" y="16387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37" name=""/>
              <p:cNvGrpSpPr/>
              <p:nvPr/>
            </p:nvGrpSpPr>
            <p:grpSpPr>
              <a:xfrm>
                <a:off x="5662080" y="2031120"/>
                <a:ext cx="768240" cy="701640"/>
                <a:chOff x="5662080" y="2031120"/>
                <a:chExt cx="768240" cy="701640"/>
              </a:xfrm>
            </p:grpSpPr>
            <p:grpSp>
              <p:nvGrpSpPr>
                <p:cNvPr id="938" name=""/>
                <p:cNvGrpSpPr/>
                <p:nvPr/>
              </p:nvGrpSpPr>
              <p:grpSpPr>
                <a:xfrm>
                  <a:off x="5838840" y="2031120"/>
                  <a:ext cx="591480" cy="694440"/>
                  <a:chOff x="5838840" y="2031120"/>
                  <a:chExt cx="591480" cy="694440"/>
                </a:xfrm>
              </p:grpSpPr>
              <p:sp>
                <p:nvSpPr>
                  <p:cNvPr id="939" name="AutoShape 135"/>
                  <p:cNvSpPr/>
                  <p:nvPr/>
                </p:nvSpPr>
                <p:spPr>
                  <a:xfrm flipH="1" flipV="1" rot="1528800">
                    <a:off x="6168960" y="2032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AutoShape 136"/>
                  <p:cNvSpPr/>
                  <p:nvPr/>
                </p:nvSpPr>
                <p:spPr>
                  <a:xfrm flipH="1" flipV="1" rot="2344200">
                    <a:off x="6123240" y="21175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AutoShape 137"/>
                  <p:cNvSpPr/>
                  <p:nvPr/>
                </p:nvSpPr>
                <p:spPr>
                  <a:xfrm flipH="1" flipV="1" rot="2640000">
                    <a:off x="6086160" y="21592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AutoShape 138"/>
                  <p:cNvSpPr/>
                  <p:nvPr/>
                </p:nvSpPr>
                <p:spPr>
                  <a:xfrm flipH="1" flipV="1" rot="3172200">
                    <a:off x="6040440" y="22068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3" name=""/>
                <p:cNvGrpSpPr/>
                <p:nvPr/>
              </p:nvGrpSpPr>
              <p:grpSpPr>
                <a:xfrm>
                  <a:off x="5662080" y="2223000"/>
                  <a:ext cx="743760" cy="509760"/>
                  <a:chOff x="5662080" y="2223000"/>
                  <a:chExt cx="743760" cy="509760"/>
                </a:xfrm>
              </p:grpSpPr>
              <p:sp>
                <p:nvSpPr>
                  <p:cNvPr id="944" name="AutoShape 140"/>
                  <p:cNvSpPr/>
                  <p:nvPr/>
                </p:nvSpPr>
                <p:spPr>
                  <a:xfrm flipH="1" flipV="1" rot="2881800">
                    <a:off x="6073560" y="21790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AutoShape 141"/>
                  <p:cNvSpPr/>
                  <p:nvPr/>
                </p:nvSpPr>
                <p:spPr>
                  <a:xfrm flipH="1" flipV="1" rot="3697200">
                    <a:off x="5999400" y="223956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AutoShape 142"/>
                  <p:cNvSpPr/>
                  <p:nvPr/>
                </p:nvSpPr>
                <p:spPr>
                  <a:xfrm flipH="1" flipV="1" rot="3993000">
                    <a:off x="5949000" y="2264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AutoShape 143"/>
                  <p:cNvSpPr/>
                  <p:nvPr/>
                </p:nvSpPr>
                <p:spPr>
                  <a:xfrm flipH="1" flipV="1" rot="4525200">
                    <a:off x="5888880" y="2291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48" name=""/>
            <p:cNvGrpSpPr/>
            <p:nvPr/>
          </p:nvGrpSpPr>
          <p:grpSpPr>
            <a:xfrm>
              <a:off x="5767560" y="2059200"/>
              <a:ext cx="677160" cy="617400"/>
              <a:chOff x="5767560" y="2059200"/>
              <a:chExt cx="677160" cy="617400"/>
            </a:xfrm>
          </p:grpSpPr>
          <p:grpSp>
            <p:nvGrpSpPr>
              <p:cNvPr id="949" name=""/>
              <p:cNvGrpSpPr/>
              <p:nvPr/>
            </p:nvGrpSpPr>
            <p:grpSpPr>
              <a:xfrm>
                <a:off x="5923440" y="2059200"/>
                <a:ext cx="521280" cy="611280"/>
                <a:chOff x="5923440" y="2059200"/>
                <a:chExt cx="521280" cy="611280"/>
              </a:xfrm>
            </p:grpSpPr>
            <p:sp>
              <p:nvSpPr>
                <p:cNvPr id="950" name="AutoShape 146"/>
                <p:cNvSpPr/>
                <p:nvPr/>
              </p:nvSpPr>
              <p:spPr>
                <a:xfrm flipH="1" flipV="1" rot="1528800">
                  <a:off x="6213240" y="206100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AutoShape 147"/>
                <p:cNvSpPr/>
                <p:nvPr/>
              </p:nvSpPr>
              <p:spPr>
                <a:xfrm flipH="1" flipV="1" rot="2344200">
                  <a:off x="6174360" y="21351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AutoShape 148"/>
                <p:cNvSpPr/>
                <p:nvPr/>
              </p:nvSpPr>
              <p:spPr>
                <a:xfrm flipH="1" flipV="1" rot="2640000">
                  <a:off x="6141240" y="21718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AutoShape 149"/>
                <p:cNvSpPr/>
                <p:nvPr/>
              </p:nvSpPr>
              <p:spPr>
                <a:xfrm flipH="1" flipV="1" rot="3172200">
                  <a:off x="6100560" y="22136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5767560" y="2227320"/>
                <a:ext cx="654480" cy="449280"/>
                <a:chOff x="5767560" y="2227320"/>
                <a:chExt cx="654480" cy="449280"/>
              </a:xfrm>
            </p:grpSpPr>
            <p:sp>
              <p:nvSpPr>
                <p:cNvPr id="955" name="AutoShape 151"/>
                <p:cNvSpPr/>
                <p:nvPr/>
              </p:nvSpPr>
              <p:spPr>
                <a:xfrm flipH="1" flipV="1" rot="2881800">
                  <a:off x="6128280" y="218916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AutoShape 152"/>
                <p:cNvSpPr/>
                <p:nvPr/>
              </p:nvSpPr>
              <p:spPr>
                <a:xfrm flipH="1" flipV="1" rot="3697200">
                  <a:off x="6063480" y="224316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AutoShape 153"/>
                <p:cNvSpPr/>
                <p:nvPr/>
              </p:nvSpPr>
              <p:spPr>
                <a:xfrm flipH="1" flipV="1" rot="3993000">
                  <a:off x="6020280" y="226404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AutoShape 154"/>
                <p:cNvSpPr/>
                <p:nvPr/>
              </p:nvSpPr>
              <p:spPr>
                <a:xfrm flipH="1" flipV="1" rot="4525200">
                  <a:off x="5966280" y="2287800"/>
                  <a:ext cx="12492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9" name="Rectangle 155"/>
            <p:cNvSpPr/>
            <p:nvPr/>
          </p:nvSpPr>
          <p:spPr>
            <a:xfrm>
              <a:off x="5561640" y="1976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4500000" y="3252960"/>
            <a:ext cx="829440" cy="844920"/>
            <a:chOff x="4500000" y="3252960"/>
            <a:chExt cx="829440" cy="844920"/>
          </a:xfrm>
        </p:grpSpPr>
        <p:pic>
          <p:nvPicPr>
            <p:cNvPr id="961" name="Picture 157" descr="circuler_1"/>
            <p:cNvPicPr/>
            <p:nvPr/>
          </p:nvPicPr>
          <p:blipFill>
            <a:blip r:embed="rId11"/>
            <a:stretch/>
          </p:blipFill>
          <p:spPr>
            <a:xfrm rot="4977600">
              <a:off x="4624560" y="3385080"/>
              <a:ext cx="57276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2" name="Oval 158"/>
            <p:cNvSpPr/>
            <p:nvPr/>
          </p:nvSpPr>
          <p:spPr>
            <a:xfrm rot="4977000">
              <a:off x="4625640" y="3383640"/>
              <a:ext cx="569880" cy="568440"/>
            </a:xfrm>
            <a:prstGeom prst="ellipse">
              <a:avLst/>
            </a:prstGeom>
            <a:gradFill rotWithShape="0">
              <a:gsLst>
                <a:gs pos="0">
                  <a:srgbClr val="ccffff"/>
                </a:gs>
                <a:gs pos="50000">
                  <a:srgbClr val="5e7575">
                    <a:alpha val="50196"/>
                  </a:srgbClr>
                </a:gs>
                <a:gs pos="100000">
                  <a:srgbClr val="cc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"/>
            <p:cNvGrpSpPr/>
            <p:nvPr/>
          </p:nvGrpSpPr>
          <p:grpSpPr>
            <a:xfrm>
              <a:off x="4603680" y="3446280"/>
              <a:ext cx="226080" cy="500400"/>
              <a:chOff x="4603680" y="3446280"/>
              <a:chExt cx="226080" cy="500400"/>
            </a:xfrm>
          </p:grpSpPr>
          <p:grpSp>
            <p:nvGrpSpPr>
              <p:cNvPr id="964" name=""/>
              <p:cNvGrpSpPr/>
              <p:nvPr/>
            </p:nvGrpSpPr>
            <p:grpSpPr>
              <a:xfrm>
                <a:off x="4610160" y="3539160"/>
                <a:ext cx="219600" cy="407520"/>
                <a:chOff x="4610160" y="3539160"/>
                <a:chExt cx="219600" cy="407520"/>
              </a:xfrm>
            </p:grpSpPr>
            <p:sp>
              <p:nvSpPr>
                <p:cNvPr id="965" name="AutoShape 161"/>
                <p:cNvSpPr/>
                <p:nvPr/>
              </p:nvSpPr>
              <p:spPr>
                <a:xfrm flipH="1" flipV="1" rot="8941800">
                  <a:off x="4682520" y="3646800"/>
                  <a:ext cx="7488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AutoShape 162"/>
                <p:cNvSpPr/>
                <p:nvPr/>
              </p:nvSpPr>
              <p:spPr>
                <a:xfrm flipH="1" flipV="1" rot="9757200">
                  <a:off x="4657680" y="360252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AutoShape 163"/>
                <p:cNvSpPr/>
                <p:nvPr/>
              </p:nvSpPr>
              <p:spPr>
                <a:xfrm flipH="1" flipV="1" rot="10053000">
                  <a:off x="4651200" y="357444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AutoShape 164"/>
                <p:cNvSpPr/>
                <p:nvPr/>
              </p:nvSpPr>
              <p:spPr>
                <a:xfrm flipH="1" flipV="1" rot="10585200">
                  <a:off x="4644000" y="354096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4603680" y="3446280"/>
                <a:ext cx="169560" cy="422640"/>
                <a:chOff x="4603680" y="3446280"/>
                <a:chExt cx="169560" cy="422640"/>
              </a:xfrm>
            </p:grpSpPr>
            <p:sp>
              <p:nvSpPr>
                <p:cNvPr id="970" name="AutoShape 166"/>
                <p:cNvSpPr/>
                <p:nvPr/>
              </p:nvSpPr>
              <p:spPr>
                <a:xfrm flipH="1" flipV="1" rot="10294800">
                  <a:off x="4645440" y="356292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AutoShape 167"/>
                <p:cNvSpPr/>
                <p:nvPr/>
              </p:nvSpPr>
              <p:spPr>
                <a:xfrm flipH="1" flipV="1" rot="11110200">
                  <a:off x="4640400" y="351216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AutoShape 168"/>
                <p:cNvSpPr/>
                <p:nvPr/>
              </p:nvSpPr>
              <p:spPr>
                <a:xfrm flipH="1" flipV="1" rot="11406000">
                  <a:off x="4645800" y="348480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AutoShape 169"/>
                <p:cNvSpPr/>
                <p:nvPr/>
              </p:nvSpPr>
              <p:spPr>
                <a:xfrm flipH="1" flipV="1" rot="11938200">
                  <a:off x="4650480" y="344988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4" name="Arc 170"/>
            <p:cNvSpPr/>
            <p:nvPr/>
          </p:nvSpPr>
          <p:spPr>
            <a:xfrm flipH="1" rot="1129200">
              <a:off x="4591080" y="3339360"/>
              <a:ext cx="646920" cy="672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5" name="Picture 171" descr="light_shadow1"/>
            <p:cNvPicPr/>
            <p:nvPr/>
          </p:nvPicPr>
          <p:blipFill>
            <a:blip r:embed="rId12"/>
            <a:srcRect l="0" t="23720" r="0" b="0"/>
            <a:stretch/>
          </p:blipFill>
          <p:spPr>
            <a:xfrm rot="2407200">
              <a:off x="4780800" y="3415320"/>
              <a:ext cx="424440" cy="27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6" name="AutoShape 172"/>
          <p:cNvSpPr/>
          <p:nvPr/>
        </p:nvSpPr>
        <p:spPr>
          <a:xfrm>
            <a:off x="6705720" y="1828800"/>
            <a:ext cx="1857240" cy="533520"/>
          </a:xfrm>
          <a:noFill/>
          <a:ln w="9360">
            <a:solidFill>
              <a:srgbClr val="53aadb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4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AutoShape 173"/>
          <p:cNvSpPr/>
          <p:nvPr/>
        </p:nvSpPr>
        <p:spPr>
          <a:xfrm>
            <a:off x="6553080" y="3505320"/>
            <a:ext cx="1909800" cy="392040"/>
          </a:xfrm>
          <a:noFill/>
          <a:ln w="9360">
            <a:solidFill>
              <a:srgbClr val="1c1c1c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AutoShape 174"/>
          <p:cNvSpPr/>
          <p:nvPr/>
        </p:nvSpPr>
        <p:spPr>
          <a:xfrm>
            <a:off x="838080" y="1676520"/>
            <a:ext cx="1594080" cy="434880"/>
          </a:xfrm>
          <a:noFill/>
          <a:ln w="9360">
            <a:solidFill>
              <a:srgbClr val="eec1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AutoShape 175"/>
          <p:cNvSpPr/>
          <p:nvPr/>
        </p:nvSpPr>
        <p:spPr>
          <a:xfrm>
            <a:off x="152280" y="3581280"/>
            <a:ext cx="1594080" cy="435240"/>
          </a:xfrm>
          <a:noFill/>
          <a:ln w="9360">
            <a:solidFill>
              <a:srgbClr val="98c63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AutoShape 176"/>
          <p:cNvSpPr/>
          <p:nvPr/>
        </p:nvSpPr>
        <p:spPr>
          <a:xfrm>
            <a:off x="990720" y="4800600"/>
            <a:ext cx="1509480" cy="392040"/>
          </a:xfrm>
          <a:noFill/>
          <a:ln w="9360">
            <a:solidFill>
              <a:srgbClr val="f29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177"/>
          <p:cNvSpPr/>
          <p:nvPr/>
        </p:nvSpPr>
        <p:spPr>
          <a:xfrm>
            <a:off x="4551480" y="5137200"/>
            <a:ext cx="33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178"/>
          <p:cNvSpPr/>
          <p:nvPr/>
        </p:nvSpPr>
        <p:spPr>
          <a:xfrm>
            <a:off x="4486320" y="5189400"/>
            <a:ext cx="42840" cy="741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a6f3"/>
            </a:gs>
            <a:gs pos="100000">
              <a:srgbClr val="ddf2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未知"/>
          <p:cNvSpPr/>
          <p:nvPr/>
        </p:nvSpPr>
        <p:spPr>
          <a:xfrm flipH="1" flipV="1">
            <a:off x="721800" y="3770280"/>
            <a:ext cx="7607520" cy="1944720"/>
          </a:xfrm>
          <a:custGeom>
            <a:avLst/>
            <a:gdLst/>
            <a:ahLst/>
            <a:rect l="l" t="t" r="r" b="b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gradFill rotWithShape="0">
            <a:gsLst>
              <a:gs pos="0">
                <a:srgbClr val="f29000"/>
              </a:gs>
              <a:gs pos="100000">
                <a:srgbClr val="6f42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未知"/>
          <p:cNvSpPr/>
          <p:nvPr/>
        </p:nvSpPr>
        <p:spPr>
          <a:xfrm>
            <a:off x="708120" y="1639800"/>
            <a:ext cx="7607160" cy="2117880"/>
          </a:xfrm>
          <a:custGeom>
            <a:avLst/>
            <a:gdLst/>
            <a:ahLst/>
            <a:rect l="l" t="t" r="r" b="b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gradFill rotWithShape="0">
            <a:gsLst>
              <a:gs pos="0">
                <a:srgbClr val="eec100"/>
              </a:gs>
              <a:gs pos="100000">
                <a:srgbClr val="6d58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928800" y="2919240"/>
            <a:ext cx="1643040" cy="1640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2770200" y="2919240"/>
            <a:ext cx="1643040" cy="1640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600440" y="2919240"/>
            <a:ext cx="1643040" cy="1640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6442200" y="2919240"/>
            <a:ext cx="1643040" cy="1640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749160" y="1768320"/>
            <a:ext cx="2219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i="1" lang="en-US" sz="2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950760" y="347508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040440" y="5164200"/>
            <a:ext cx="2219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123720" y="24652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4" name=""/>
          <p:cNvCxnSpPr>
            <a:stCxn id="986" idx="0"/>
            <a:endCxn id="993" idx="1"/>
          </p:cNvCxnSpPr>
          <p:nvPr/>
        </p:nvCxnSpPr>
        <p:spPr>
          <a:xfrm flipH="1" flipV="1" rot="5400000">
            <a:off x="2293200" y="2090880"/>
            <a:ext cx="286200" cy="1370880"/>
          </a:xfrm>
          <a:prstGeom prst="bentConnector2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995" name=""/>
          <p:cNvCxnSpPr>
            <a:stCxn id="989" idx="0"/>
            <a:endCxn id="993" idx="3"/>
          </p:cNvCxnSpPr>
          <p:nvPr/>
        </p:nvCxnSpPr>
        <p:spPr>
          <a:xfrm flipV="1" rot="16200000">
            <a:off x="6344640" y="1999440"/>
            <a:ext cx="286200" cy="1553400"/>
          </a:xfrm>
          <a:prstGeom prst="bentConnector2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996" name=""/>
          <p:cNvCxnSpPr>
            <a:stCxn id="986" idx="2"/>
            <a:endCxn id="987" idx="2"/>
          </p:cNvCxnSpPr>
          <p:nvPr/>
        </p:nvCxnSpPr>
        <p:spPr>
          <a:xfrm flipH="1" rot="16200000">
            <a:off x="2670120" y="3639240"/>
            <a:ext cx="2160" cy="1842120"/>
          </a:xfrm>
          <a:prstGeom prst="bentConnector3">
            <a:avLst>
              <a:gd name="adj1" fmla="val 14300000"/>
            </a:avLst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7" name=""/>
          <p:cNvCxnSpPr>
            <a:stCxn id="988" idx="2"/>
            <a:endCxn id="989" idx="2"/>
          </p:cNvCxnSpPr>
          <p:nvPr/>
        </p:nvCxnSpPr>
        <p:spPr>
          <a:xfrm flipH="1" rot="16200000">
            <a:off x="6342120" y="3639240"/>
            <a:ext cx="2160" cy="1842120"/>
          </a:xfrm>
          <a:prstGeom prst="bentConnector3">
            <a:avLst>
              <a:gd name="adj1" fmla="val 14300000"/>
            </a:avLst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98" name=""/>
          <p:cNvSpPr/>
          <p:nvPr/>
        </p:nvSpPr>
        <p:spPr>
          <a:xfrm>
            <a:off x="2776680" y="347508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605480" y="347508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454800" y="347508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018440" y="310824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2863080" y="310824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693680" y="310824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6531840" y="310824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rot="5400000">
            <a:off x="1643040" y="4208400"/>
            <a:ext cx="177840" cy="1526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 rot="5400000">
            <a:off x="3460680" y="4208400"/>
            <a:ext cx="177840" cy="1526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 rot="5400000">
            <a:off x="5365080" y="4208400"/>
            <a:ext cx="177840" cy="1522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 rot="5400000">
            <a:off x="7170120" y="4208400"/>
            <a:ext cx="177840" cy="1522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530680" y="1979640"/>
            <a:ext cx="272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*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98480" y="501480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*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a6f3"/>
            </a:gs>
            <a:gs pos="100000">
              <a:srgbClr val="ddf2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/>
          <p:nvPr/>
        </p:nvSpPr>
        <p:spPr>
          <a:xfrm>
            <a:off x="5418000" y="4587840"/>
            <a:ext cx="2659320" cy="1555920"/>
          </a:xfrm>
          <a:prstGeom prst="rect">
            <a:avLst/>
          </a:prstGeom>
          <a:gradFill rotWithShape="0">
            <a:gsLst>
              <a:gs pos="0">
                <a:srgbClr val="98c630"/>
              </a:gs>
              <a:gs pos="100000">
                <a:srgbClr val="6d8f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14" name=""/>
          <p:cNvSpPr/>
          <p:nvPr/>
        </p:nvSpPr>
        <p:spPr>
          <a:xfrm>
            <a:off x="2771640" y="2133720"/>
            <a:ext cx="2390760" cy="44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6f6f6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562720" y="2133720"/>
            <a:ext cx="2390760" cy="44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6f6f6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664000" y="4740120"/>
            <a:ext cx="2638080" cy="1555920"/>
          </a:xfrm>
          <a:prstGeom prst="rect">
            <a:avLst/>
          </a:prstGeom>
          <a:gradFill rotWithShape="0">
            <a:gsLst>
              <a:gs pos="0">
                <a:srgbClr val="98c630"/>
              </a:gs>
              <a:gs pos="100000">
                <a:srgbClr val="82aa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992320" y="5221440"/>
            <a:ext cx="184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765000" y="3019320"/>
            <a:ext cx="1827000" cy="1523880"/>
            <a:chOff x="765000" y="3019320"/>
            <a:chExt cx="1827000" cy="1523880"/>
          </a:xfrm>
        </p:grpSpPr>
        <p:sp>
          <p:nvSpPr>
            <p:cNvPr id="1019" name=""/>
            <p:cNvSpPr/>
            <p:nvPr/>
          </p:nvSpPr>
          <p:spPr>
            <a:xfrm>
              <a:off x="765000" y="3019320"/>
              <a:ext cx="1827000" cy="1523880"/>
            </a:xfrm>
            <a:custGeom>
              <a:avLst/>
              <a:gdLst>
                <a:gd name="textAreaLeft" fmla="*/ 0 w 1827000"/>
                <a:gd name="textAreaRight" fmla="*/ 1827360 w 182700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c9397"/>
                </a:gs>
                <a:gs pos="50000">
                  <a:srgbClr val="d5e0e5"/>
                </a:gs>
                <a:gs pos="100000">
                  <a:srgbClr val="8c9397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83000" y="3035160"/>
              <a:ext cx="1778040" cy="1482840"/>
            </a:xfrm>
            <a:custGeom>
              <a:avLst/>
              <a:gdLst>
                <a:gd name="textAreaLeft" fmla="*/ 0 w 1778040"/>
                <a:gd name="textAreaRight" fmla="*/ 1778400 w 1778040"/>
                <a:gd name="textAreaTop" fmla="*/ 0 h 1482840"/>
                <a:gd name="textAreaBottom" fmla="*/ 1483200 h 148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765000" y="4719600"/>
            <a:ext cx="1827000" cy="1523880"/>
            <a:chOff x="765000" y="4719600"/>
            <a:chExt cx="1827000" cy="1523880"/>
          </a:xfrm>
        </p:grpSpPr>
        <p:sp>
          <p:nvSpPr>
            <p:cNvPr id="1022" name=""/>
            <p:cNvSpPr/>
            <p:nvPr/>
          </p:nvSpPr>
          <p:spPr>
            <a:xfrm>
              <a:off x="765000" y="4719600"/>
              <a:ext cx="1827000" cy="1523880"/>
            </a:xfrm>
            <a:custGeom>
              <a:avLst/>
              <a:gdLst>
                <a:gd name="textAreaLeft" fmla="*/ 0 w 1827000"/>
                <a:gd name="textAreaRight" fmla="*/ 1827360 w 182700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c9397"/>
                </a:gs>
                <a:gs pos="50000">
                  <a:srgbClr val="d5e0e5"/>
                </a:gs>
                <a:gs pos="100000">
                  <a:srgbClr val="8c9397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83000" y="4735440"/>
              <a:ext cx="1778040" cy="1482840"/>
            </a:xfrm>
            <a:custGeom>
              <a:avLst/>
              <a:gdLst>
                <a:gd name="textAreaLeft" fmla="*/ 0 w 1778040"/>
                <a:gd name="textAreaRight" fmla="*/ 1778400 w 1778040"/>
                <a:gd name="textAreaTop" fmla="*/ 0 h 1482840"/>
                <a:gd name="textAreaBottom" fmla="*/ 1483200 h 148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c9397"/>
                </a:gs>
                <a:gs pos="50000">
                  <a:srgbClr val="d5e0e5"/>
                </a:gs>
                <a:gs pos="100000">
                  <a:srgbClr val="8c9397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4" name=""/>
          <p:cNvSpPr/>
          <p:nvPr/>
        </p:nvSpPr>
        <p:spPr>
          <a:xfrm>
            <a:off x="685800" y="356724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685800" y="526104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562720" y="4892760"/>
            <a:ext cx="2361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859120" y="2133720"/>
            <a:ext cx="22464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5653080" y="2133720"/>
            <a:ext cx="22464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685800" y="1324080"/>
            <a:ext cx="638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7181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5418000" y="2766960"/>
            <a:ext cx="2659320" cy="1555920"/>
          </a:xfrm>
          <a:prstGeom prst="rect">
            <a:avLst/>
          </a:prstGeom>
          <a:gradFill rotWithShape="0">
            <a:gsLst>
              <a:gs pos="0">
                <a:srgbClr val="f29000"/>
              </a:gs>
              <a:gs pos="100000">
                <a:srgbClr val="ae68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664000" y="2911320"/>
            <a:ext cx="2638080" cy="1555920"/>
          </a:xfrm>
          <a:prstGeom prst="rect">
            <a:avLst/>
          </a:prstGeom>
          <a:gradFill rotWithShape="0">
            <a:gsLst>
              <a:gs pos="0">
                <a:srgbClr val="f29000"/>
              </a:gs>
              <a:gs pos="100000">
                <a:srgbClr val="cf7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992320" y="3400560"/>
            <a:ext cx="184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562720" y="3071880"/>
            <a:ext cx="2361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a6f3"/>
            </a:gs>
            <a:gs pos="100000">
              <a:srgbClr val="ddf2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35" name="AutoShape 2"/>
          <p:cNvSpPr/>
          <p:nvPr/>
        </p:nvSpPr>
        <p:spPr>
          <a:xfrm>
            <a:off x="681120" y="1676520"/>
            <a:ext cx="7853400" cy="4335480"/>
          </a:xfrm>
          <a:prstGeom prst="roundRect">
            <a:avLst>
              <a:gd name="adj" fmla="val 2014"/>
            </a:avLst>
          </a:prstGeom>
          <a:gradFill rotWithShape="0">
            <a:gsLst>
              <a:gs pos="0">
                <a:srgbClr val="b4c9d6"/>
              </a:gs>
              <a:gs pos="100000">
                <a:srgbClr val="d2dee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3"/>
          <p:cNvSpPr/>
          <p:nvPr/>
        </p:nvSpPr>
        <p:spPr>
          <a:xfrm>
            <a:off x="831960" y="2127240"/>
            <a:ext cx="7562880" cy="3691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AutoShape 4"/>
          <p:cNvSpPr/>
          <p:nvPr/>
        </p:nvSpPr>
        <p:spPr>
          <a:xfrm>
            <a:off x="679320" y="1523880"/>
            <a:ext cx="7853400" cy="776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4c9d6"/>
              </a:gs>
              <a:gs pos="50000">
                <a:srgbClr val="d2dee6"/>
              </a:gs>
              <a:gs pos="100000">
                <a:srgbClr val="b4c9d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8346600" y="1626840"/>
            <a:ext cx="115920" cy="549360"/>
            <a:chOff x="8346600" y="1626840"/>
            <a:chExt cx="115920" cy="549360"/>
          </a:xfrm>
        </p:grpSpPr>
        <p:sp>
          <p:nvSpPr>
            <p:cNvPr id="1039" name="Rectangle 6"/>
            <p:cNvSpPr/>
            <p:nvPr/>
          </p:nvSpPr>
          <p:spPr>
            <a:xfrm flipH="1" flipV="1">
              <a:off x="8419320" y="2133000"/>
              <a:ext cx="42840" cy="42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153753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Rectangle 7"/>
            <p:cNvSpPr/>
            <p:nvPr/>
          </p:nvSpPr>
          <p:spPr>
            <a:xfrm flipH="1" flipV="1">
              <a:off x="8346240" y="2133000"/>
              <a:ext cx="42840" cy="42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153753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Rectangle 8"/>
            <p:cNvSpPr/>
            <p:nvPr/>
          </p:nvSpPr>
          <p:spPr>
            <a:xfrm flipH="1" flipV="1">
              <a:off x="8419320" y="2055240"/>
              <a:ext cx="42840" cy="42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153753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Rectangle 9"/>
            <p:cNvSpPr/>
            <p:nvPr/>
          </p:nvSpPr>
          <p:spPr>
            <a:xfrm flipH="1" flipV="1">
              <a:off x="8419320" y="1626480"/>
              <a:ext cx="42840" cy="42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153753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Rectangle 10"/>
            <p:cNvSpPr/>
            <p:nvPr/>
          </p:nvSpPr>
          <p:spPr>
            <a:xfrm flipH="1" flipV="1">
              <a:off x="8349480" y="1626480"/>
              <a:ext cx="42840" cy="42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153753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Rectangle 11"/>
            <p:cNvSpPr/>
            <p:nvPr/>
          </p:nvSpPr>
          <p:spPr>
            <a:xfrm flipH="1" flipV="1">
              <a:off x="8419320" y="1702800"/>
              <a:ext cx="42840" cy="42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153753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5" name=""/>
          <p:cNvGrpSpPr/>
          <p:nvPr/>
        </p:nvGrpSpPr>
        <p:grpSpPr>
          <a:xfrm>
            <a:off x="1095480" y="1641600"/>
            <a:ext cx="6960960" cy="539640"/>
            <a:chOff x="1095480" y="1641600"/>
            <a:chExt cx="6960960" cy="539640"/>
          </a:xfrm>
        </p:grpSpPr>
        <p:sp>
          <p:nvSpPr>
            <p:cNvPr id="1046" name="AutoShape 13"/>
            <p:cNvSpPr/>
            <p:nvPr/>
          </p:nvSpPr>
          <p:spPr>
            <a:xfrm>
              <a:off x="1095480" y="1641600"/>
              <a:ext cx="6953760" cy="53964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39624"/>
                </a:gs>
                <a:gs pos="100000">
                  <a:srgbClr val="98c63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61511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AutoShape 14"/>
            <p:cNvSpPr/>
            <p:nvPr/>
          </p:nvSpPr>
          <p:spPr>
            <a:xfrm>
              <a:off x="1101240" y="1643400"/>
              <a:ext cx="6955200" cy="2156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8c630"/>
                </a:gs>
                <a:gs pos="100000">
                  <a:srgbClr val="afd2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8" name="Text Box 15"/>
          <p:cNvSpPr/>
          <p:nvPr/>
        </p:nvSpPr>
        <p:spPr>
          <a:xfrm>
            <a:off x="1459080" y="1662120"/>
            <a:ext cx="63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宋体"/>
              </a:rPr>
              <a:t>Add Your 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775080" y="1607760"/>
            <a:ext cx="115920" cy="549360"/>
            <a:chOff x="775080" y="1607760"/>
            <a:chExt cx="115920" cy="549360"/>
          </a:xfrm>
        </p:grpSpPr>
        <p:sp>
          <p:nvSpPr>
            <p:cNvPr id="1050" name="Rectangle 17"/>
            <p:cNvSpPr/>
            <p:nvPr/>
          </p:nvSpPr>
          <p:spPr>
            <a:xfrm flipV="1">
              <a:off x="775080" y="2113920"/>
              <a:ext cx="42840" cy="42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153753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Rectangle 18"/>
            <p:cNvSpPr/>
            <p:nvPr/>
          </p:nvSpPr>
          <p:spPr>
            <a:xfrm flipV="1">
              <a:off x="848160" y="2113920"/>
              <a:ext cx="42840" cy="42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153753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19"/>
            <p:cNvSpPr/>
            <p:nvPr/>
          </p:nvSpPr>
          <p:spPr>
            <a:xfrm flipV="1">
              <a:off x="775080" y="2036160"/>
              <a:ext cx="42840" cy="42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153753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Rectangle 20"/>
            <p:cNvSpPr/>
            <p:nvPr/>
          </p:nvSpPr>
          <p:spPr>
            <a:xfrm flipV="1">
              <a:off x="775080" y="1607400"/>
              <a:ext cx="42840" cy="42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153753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Rectangle 21"/>
            <p:cNvSpPr/>
            <p:nvPr/>
          </p:nvSpPr>
          <p:spPr>
            <a:xfrm flipV="1">
              <a:off x="844920" y="1607400"/>
              <a:ext cx="42840" cy="42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153753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Rectangle 22"/>
            <p:cNvSpPr/>
            <p:nvPr/>
          </p:nvSpPr>
          <p:spPr>
            <a:xfrm flipV="1">
              <a:off x="775080" y="1683720"/>
              <a:ext cx="42840" cy="42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153753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6" name="Rectangle 23"/>
          <p:cNvSpPr/>
          <p:nvPr/>
        </p:nvSpPr>
        <p:spPr>
          <a:xfrm>
            <a:off x="1081080" y="4195800"/>
            <a:ext cx="407520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. Describe contents for a Chart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     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     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24"/>
          <p:cNvSpPr/>
          <p:nvPr/>
        </p:nvSpPr>
        <p:spPr>
          <a:xfrm>
            <a:off x="1081080" y="3051000"/>
            <a:ext cx="411624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1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     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     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25"/>
          <p:cNvSpPr/>
          <p:nvPr/>
        </p:nvSpPr>
        <p:spPr>
          <a:xfrm>
            <a:off x="1006560" y="4079880"/>
            <a:ext cx="397980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9" name="Object 2" descr=""/>
          <p:cNvPicPr/>
          <p:nvPr/>
        </p:nvPicPr>
        <p:blipFill>
          <a:blip r:embed="rId2"/>
          <a:stretch/>
        </p:blipFill>
        <p:spPr>
          <a:xfrm>
            <a:off x="5191200" y="2392200"/>
            <a:ext cx="2981160" cy="334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a6f3"/>
            </a:gs>
            <a:gs pos="100000">
              <a:srgbClr val="ddf2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61" name="AutoShape 3"/>
          <p:cNvSpPr/>
          <p:nvPr/>
        </p:nvSpPr>
        <p:spPr>
          <a:xfrm>
            <a:off x="4859280" y="2308320"/>
            <a:ext cx="2622600" cy="257472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2574720"/>
              <a:gd name="textAreaBottom" fmla="*/ 2575080 h 25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6f6f6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AutoShape 4"/>
          <p:cNvSpPr/>
          <p:nvPr/>
        </p:nvSpPr>
        <p:spPr>
          <a:xfrm>
            <a:off x="2822400" y="2309760"/>
            <a:ext cx="2810160" cy="2575080"/>
          </a:xfrm>
          <a:custGeom>
            <a:avLst/>
            <a:gdLst>
              <a:gd name="textAreaLeft" fmla="*/ 0 w 2810160"/>
              <a:gd name="textAreaRight" fmla="*/ 2810520 w 281016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ec1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Freeform 5"/>
          <p:cNvSpPr/>
          <p:nvPr/>
        </p:nvSpPr>
        <p:spPr>
          <a:xfrm>
            <a:off x="2612880" y="2009880"/>
            <a:ext cx="4349880" cy="517320"/>
          </a:xfrm>
          <a:prstGeom prst="pie">
            <a:avLst/>
          </a:prstGeom>
          <a:gradFill rotWithShape="0">
            <a:gsLst>
              <a:gs pos="0">
                <a:srgbClr val="98c630"/>
              </a:gs>
              <a:gs pos="100000">
                <a:srgbClr val="465b1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AutoShape 6"/>
          <p:cNvSpPr/>
          <p:nvPr/>
        </p:nvSpPr>
        <p:spPr>
          <a:xfrm>
            <a:off x="1362240" y="2008080"/>
            <a:ext cx="2400120" cy="2895840"/>
          </a:xfrm>
          <a:custGeom>
            <a:avLst/>
            <a:gdLst>
              <a:gd name="textAreaLeft" fmla="*/ 0 w 2400120"/>
              <a:gd name="textAreaRight" fmla="*/ 2400480 w 240012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33b00"/>
              </a:gs>
              <a:gs pos="100000">
                <a:srgbClr val="f29000"/>
              </a:gs>
            </a:gsLst>
            <a:lin ang="81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7"/>
          <p:cNvSpPr/>
          <p:nvPr/>
        </p:nvSpPr>
        <p:spPr>
          <a:xfrm>
            <a:off x="1511280" y="2671920"/>
            <a:ext cx="1824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8"/>
          <p:cNvSpPr/>
          <p:nvPr/>
        </p:nvSpPr>
        <p:spPr>
          <a:xfrm>
            <a:off x="3300480" y="2036880"/>
            <a:ext cx="34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9"/>
          <p:cNvSpPr/>
          <p:nvPr/>
        </p:nvSpPr>
        <p:spPr>
          <a:xfrm>
            <a:off x="5614920" y="3060720"/>
            <a:ext cx="167004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11111"/>
                </a:solidFill>
                <a:latin typeface="Arial"/>
                <a:ea typeface="宋体"/>
              </a:rPr>
              <a:t>2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10"/>
          <p:cNvSpPr/>
          <p:nvPr/>
        </p:nvSpPr>
        <p:spPr>
          <a:xfrm>
            <a:off x="1295280" y="158436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1"/>
          <p:cNvSpPr/>
          <p:nvPr/>
        </p:nvSpPr>
        <p:spPr>
          <a:xfrm>
            <a:off x="3724200" y="3057480"/>
            <a:ext cx="167004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11111"/>
                </a:solidFill>
                <a:latin typeface="Arial"/>
                <a:ea typeface="宋体"/>
              </a:rPr>
              <a:t>1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12"/>
          <p:cNvSpPr/>
          <p:nvPr/>
        </p:nvSpPr>
        <p:spPr>
          <a:xfrm>
            <a:off x="1349280" y="5010120"/>
            <a:ext cx="60501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a6f3"/>
            </a:gs>
            <a:gs pos="100000">
              <a:srgbClr val="ddf2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Rectangle 2"/>
          <p:cNvSpPr/>
          <p:nvPr/>
        </p:nvSpPr>
        <p:spPr>
          <a:xfrm>
            <a:off x="0" y="2733840"/>
            <a:ext cx="9144000" cy="67752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3"/>
          <p:cNvSpPr/>
          <p:nvPr/>
        </p:nvSpPr>
        <p:spPr>
          <a:xfrm>
            <a:off x="0" y="3714840"/>
            <a:ext cx="9144000" cy="730080"/>
          </a:xfrm>
          <a:prstGeom prst="rect">
            <a:avLst/>
          </a:pr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5"/>
          <p:cNvSpPr/>
          <p:nvPr/>
        </p:nvSpPr>
        <p:spPr>
          <a:xfrm>
            <a:off x="2003400" y="531504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6"/>
          <p:cNvSpPr/>
          <p:nvPr/>
        </p:nvSpPr>
        <p:spPr>
          <a:xfrm>
            <a:off x="569160" y="226836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cccc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AutoShape 7"/>
          <p:cNvSpPr/>
          <p:nvPr/>
        </p:nvSpPr>
        <p:spPr>
          <a:xfrm>
            <a:off x="3414600" y="1724040"/>
            <a:ext cx="2497320" cy="19861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AutoShape 8"/>
          <p:cNvSpPr/>
          <p:nvPr/>
        </p:nvSpPr>
        <p:spPr>
          <a:xfrm>
            <a:off x="2157480" y="260676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AutoShape 9"/>
          <p:cNvSpPr/>
          <p:nvPr/>
        </p:nvSpPr>
        <p:spPr>
          <a:xfrm>
            <a:off x="4668840" y="260676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3403440" y="1506600"/>
            <a:ext cx="2496960" cy="1985760"/>
            <a:chOff x="3403440" y="1506600"/>
            <a:chExt cx="2496960" cy="1985760"/>
          </a:xfrm>
        </p:grpSpPr>
        <p:sp>
          <p:nvSpPr>
            <p:cNvPr id="1079" name="AutoShape 11"/>
            <p:cNvSpPr/>
            <p:nvPr/>
          </p:nvSpPr>
          <p:spPr>
            <a:xfrm>
              <a:off x="3403440" y="150660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6f4200"/>
                </a:gs>
                <a:gs pos="100000">
                  <a:srgbClr val="f29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Line 12"/>
            <p:cNvSpPr/>
            <p:nvPr/>
          </p:nvSpPr>
          <p:spPr>
            <a:xfrm>
              <a:off x="3403440" y="2499840"/>
              <a:ext cx="1249200" cy="687240"/>
            </a:xfrm>
            <a:prstGeom prst="line">
              <a:avLst/>
            </a:prstGeom>
            <a:ln w="6480">
              <a:solidFill>
                <a:srgbClr val="ffffff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2146320" y="2417760"/>
            <a:ext cx="2496960" cy="1986120"/>
            <a:chOff x="2146320" y="2417760"/>
            <a:chExt cx="2496960" cy="1986120"/>
          </a:xfrm>
        </p:grpSpPr>
        <p:sp>
          <p:nvSpPr>
            <p:cNvPr id="1082" name="AutoShape 14"/>
            <p:cNvSpPr/>
            <p:nvPr/>
          </p:nvSpPr>
          <p:spPr>
            <a:xfrm>
              <a:off x="2146320" y="24177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465b16"/>
                </a:gs>
                <a:gs pos="100000">
                  <a:srgbClr val="98c63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Line 15"/>
            <p:cNvSpPr/>
            <p:nvPr/>
          </p:nvSpPr>
          <p:spPr>
            <a:xfrm>
              <a:off x="2151000" y="3406680"/>
              <a:ext cx="1249560" cy="687600"/>
            </a:xfrm>
            <a:prstGeom prst="line">
              <a:avLst/>
            </a:prstGeom>
            <a:ln w="6480">
              <a:solidFill>
                <a:srgbClr val="ffffff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4657680" y="2417760"/>
            <a:ext cx="2496960" cy="1986120"/>
            <a:chOff x="4657680" y="2417760"/>
            <a:chExt cx="2496960" cy="1986120"/>
          </a:xfrm>
        </p:grpSpPr>
        <p:sp>
          <p:nvSpPr>
            <p:cNvPr id="1085" name="AutoShape 17"/>
            <p:cNvSpPr/>
            <p:nvPr/>
          </p:nvSpPr>
          <p:spPr>
            <a:xfrm>
              <a:off x="4657680" y="24177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6d5800"/>
                </a:gs>
                <a:gs pos="100000">
                  <a:srgbClr val="eec1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Line 18"/>
            <p:cNvSpPr/>
            <p:nvPr/>
          </p:nvSpPr>
          <p:spPr>
            <a:xfrm>
              <a:off x="4668840" y="3408480"/>
              <a:ext cx="1249200" cy="687240"/>
            </a:xfrm>
            <a:prstGeom prst="line">
              <a:avLst/>
            </a:prstGeom>
            <a:ln w="6480">
              <a:solidFill>
                <a:srgbClr val="ffffff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7" name="Text Box 19"/>
          <p:cNvSpPr/>
          <p:nvPr/>
        </p:nvSpPr>
        <p:spPr>
          <a:xfrm>
            <a:off x="3726000" y="2298600"/>
            <a:ext cx="1857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 Box 20"/>
          <p:cNvSpPr/>
          <p:nvPr/>
        </p:nvSpPr>
        <p:spPr>
          <a:xfrm>
            <a:off x="2454120" y="321480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 Box 21"/>
          <p:cNvSpPr/>
          <p:nvPr/>
        </p:nvSpPr>
        <p:spPr>
          <a:xfrm>
            <a:off x="4952880" y="317988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3935520" y="3794040"/>
            <a:ext cx="1682280" cy="1552320"/>
            <a:chOff x="3935520" y="3794040"/>
            <a:chExt cx="1682280" cy="1552320"/>
          </a:xfrm>
        </p:grpSpPr>
        <p:sp>
          <p:nvSpPr>
            <p:cNvPr id="1091" name="Freeform 23"/>
            <p:cNvSpPr/>
            <p:nvPr/>
          </p:nvSpPr>
          <p:spPr>
            <a:xfrm>
              <a:off x="4101840" y="4989600"/>
              <a:ext cx="655200" cy="33732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24"/>
            <p:cNvSpPr/>
            <p:nvPr/>
          </p:nvSpPr>
          <p:spPr>
            <a:xfrm>
              <a:off x="4551480" y="4866480"/>
              <a:ext cx="717840" cy="33156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25"/>
            <p:cNvSpPr/>
            <p:nvPr/>
          </p:nvSpPr>
          <p:spPr>
            <a:xfrm>
              <a:off x="5017680" y="5067720"/>
              <a:ext cx="600120" cy="27864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26"/>
            <p:cNvSpPr/>
            <p:nvPr/>
          </p:nvSpPr>
          <p:spPr>
            <a:xfrm>
              <a:off x="3935520" y="4213080"/>
              <a:ext cx="438120" cy="1109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27"/>
            <p:cNvSpPr/>
            <p:nvPr/>
          </p:nvSpPr>
          <p:spPr>
            <a:xfrm>
              <a:off x="4358160" y="3794040"/>
              <a:ext cx="551520" cy="1396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28"/>
            <p:cNvSpPr/>
            <p:nvPr/>
          </p:nvSpPr>
          <p:spPr>
            <a:xfrm>
              <a:off x="4862520" y="4236480"/>
              <a:ext cx="438120" cy="1109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a6f3"/>
            </a:gs>
            <a:gs pos="100000">
              <a:srgbClr val="ddf2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Rectangle 3"/>
          <p:cNvSpPr/>
          <p:nvPr/>
        </p:nvSpPr>
        <p:spPr>
          <a:xfrm>
            <a:off x="709560" y="2635200"/>
            <a:ext cx="7740720" cy="619200"/>
          </a:xfrm>
          <a:prstGeom prst="rect">
            <a:avLst/>
          </a:prstGeom>
          <a:solidFill>
            <a:srgbClr val="f2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9" name=""/>
          <p:cNvGrpSpPr/>
          <p:nvPr/>
        </p:nvGrpSpPr>
        <p:grpSpPr>
          <a:xfrm>
            <a:off x="698400" y="2635200"/>
            <a:ext cx="2053800" cy="618840"/>
            <a:chOff x="698400" y="2635200"/>
            <a:chExt cx="2053800" cy="618840"/>
          </a:xfrm>
        </p:grpSpPr>
        <p:sp>
          <p:nvSpPr>
            <p:cNvPr id="1100" name="Rectangle 5"/>
            <p:cNvSpPr/>
            <p:nvPr/>
          </p:nvSpPr>
          <p:spPr>
            <a:xfrm>
              <a:off x="698400" y="2635200"/>
              <a:ext cx="1917360" cy="618840"/>
            </a:xfrm>
            <a:prstGeom prst="rect">
              <a:avLst/>
            </a:prstGeom>
            <a:solidFill>
              <a:srgbClr val="98c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AutoShape 6"/>
            <p:cNvSpPr/>
            <p:nvPr/>
          </p:nvSpPr>
          <p:spPr>
            <a:xfrm rot="5400000">
              <a:off x="2512440" y="2847960"/>
              <a:ext cx="288720" cy="190800"/>
            </a:xfrm>
            <a:prstGeom prst="triangle">
              <a:avLst>
                <a:gd name="adj" fmla="val 50000"/>
              </a:avLst>
            </a:prstGeom>
            <a:solidFill>
              <a:srgbClr val="98c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2" name="Text Box 7"/>
          <p:cNvSpPr/>
          <p:nvPr/>
        </p:nvSpPr>
        <p:spPr>
          <a:xfrm>
            <a:off x="2612880" y="27669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8"/>
          <p:cNvSpPr/>
          <p:nvPr/>
        </p:nvSpPr>
        <p:spPr>
          <a:xfrm>
            <a:off x="720720" y="274176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AutoShape 9"/>
          <p:cNvSpPr/>
          <p:nvPr/>
        </p:nvSpPr>
        <p:spPr>
          <a:xfrm>
            <a:off x="4184640" y="280188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fefefe"/>
              </a:gs>
              <a:gs pos="100000">
                <a:srgbClr val="f2900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10"/>
          <p:cNvSpPr/>
          <p:nvPr/>
        </p:nvSpPr>
        <p:spPr>
          <a:xfrm>
            <a:off x="4564080" y="27669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AutoShape 11"/>
          <p:cNvSpPr/>
          <p:nvPr/>
        </p:nvSpPr>
        <p:spPr>
          <a:xfrm>
            <a:off x="6213600" y="280188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fefefe"/>
              </a:gs>
              <a:gs pos="100000">
                <a:srgbClr val="f2900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 Box 12"/>
          <p:cNvSpPr/>
          <p:nvPr/>
        </p:nvSpPr>
        <p:spPr>
          <a:xfrm>
            <a:off x="6551640" y="27669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AutoShape 13"/>
          <p:cNvSpPr/>
          <p:nvPr/>
        </p:nvSpPr>
        <p:spPr>
          <a:xfrm>
            <a:off x="995400" y="338472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6f4200"/>
              </a:gs>
              <a:gs pos="100000">
                <a:srgbClr val="f29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AutoShape 14"/>
          <p:cNvSpPr/>
          <p:nvPr/>
        </p:nvSpPr>
        <p:spPr>
          <a:xfrm>
            <a:off x="2976480" y="338472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465b16"/>
              </a:gs>
              <a:gs pos="100000">
                <a:srgbClr val="98c63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AutoShape 15"/>
          <p:cNvSpPr/>
          <p:nvPr/>
        </p:nvSpPr>
        <p:spPr>
          <a:xfrm>
            <a:off x="4967280" y="338472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465b16"/>
              </a:gs>
              <a:gs pos="100000">
                <a:srgbClr val="98c63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AutoShape 16"/>
          <p:cNvSpPr/>
          <p:nvPr/>
        </p:nvSpPr>
        <p:spPr>
          <a:xfrm>
            <a:off x="6910560" y="3384720"/>
            <a:ext cx="1114200" cy="1114200"/>
          </a:xfrm>
          <a:prstGeom prst="diamond">
            <a:avLst/>
          </a:prstGeom>
          <a:gradFill rotWithShape="0">
            <a:gsLst>
              <a:gs pos="0">
                <a:srgbClr val="465b16"/>
              </a:gs>
              <a:gs pos="100000">
                <a:srgbClr val="98c63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2" name="AutoShape 17"/>
          <p:cNvCxnSpPr>
            <a:stCxn id="1108" idx="3"/>
            <a:endCxn id="1109" idx="1"/>
          </p:cNvCxnSpPr>
          <p:nvPr/>
        </p:nvCxnSpPr>
        <p:spPr>
          <a:xfrm>
            <a:off x="2109600" y="394128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113" name="AutoShape 18"/>
          <p:cNvCxnSpPr>
            <a:stCxn id="1109" idx="3"/>
            <a:endCxn id="1110" idx="1"/>
          </p:cNvCxnSpPr>
          <p:nvPr/>
        </p:nvCxnSpPr>
        <p:spPr>
          <a:xfrm>
            <a:off x="4091040" y="394128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114" name="AutoShape 19"/>
          <p:cNvCxnSpPr>
            <a:stCxn id="1110" idx="3"/>
            <a:endCxn id="1111" idx="1"/>
          </p:cNvCxnSpPr>
          <p:nvPr/>
        </p:nvCxnSpPr>
        <p:spPr>
          <a:xfrm>
            <a:off x="6081840" y="394128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1115" name="Text Box 20"/>
          <p:cNvSpPr/>
          <p:nvPr/>
        </p:nvSpPr>
        <p:spPr>
          <a:xfrm>
            <a:off x="1098720" y="37101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 Box 21"/>
          <p:cNvSpPr/>
          <p:nvPr/>
        </p:nvSpPr>
        <p:spPr>
          <a:xfrm>
            <a:off x="3087720" y="371016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 Box 22"/>
          <p:cNvSpPr/>
          <p:nvPr/>
        </p:nvSpPr>
        <p:spPr>
          <a:xfrm>
            <a:off x="5097600" y="37101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 Box 23"/>
          <p:cNvSpPr/>
          <p:nvPr/>
        </p:nvSpPr>
        <p:spPr>
          <a:xfrm>
            <a:off x="7050240" y="37101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 Box 24"/>
          <p:cNvSpPr/>
          <p:nvPr/>
        </p:nvSpPr>
        <p:spPr>
          <a:xfrm>
            <a:off x="741240" y="4589640"/>
            <a:ext cx="16146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 Box 25"/>
          <p:cNvSpPr/>
          <p:nvPr/>
        </p:nvSpPr>
        <p:spPr>
          <a:xfrm>
            <a:off x="2684520" y="4589640"/>
            <a:ext cx="16146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 Box 26"/>
          <p:cNvSpPr/>
          <p:nvPr/>
        </p:nvSpPr>
        <p:spPr>
          <a:xfrm>
            <a:off x="4699080" y="4589640"/>
            <a:ext cx="161424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27"/>
          <p:cNvSpPr/>
          <p:nvPr/>
        </p:nvSpPr>
        <p:spPr>
          <a:xfrm>
            <a:off x="6647040" y="4589640"/>
            <a:ext cx="161424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ectangle 28"/>
          <p:cNvSpPr/>
          <p:nvPr/>
        </p:nvSpPr>
        <p:spPr>
          <a:xfrm>
            <a:off x="1054080" y="175248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5" name=""/>
          <p:cNvSpPr/>
          <p:nvPr/>
        </p:nvSpPr>
        <p:spPr>
          <a:xfrm>
            <a:off x="716184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a6f3"/>
            </a:gs>
            <a:gs pos="100000">
              <a:srgbClr val="ddf2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1127" name=""/>
          <p:cNvGrpSpPr/>
          <p:nvPr/>
        </p:nvGrpSpPr>
        <p:grpSpPr>
          <a:xfrm>
            <a:off x="914400" y="2778120"/>
            <a:ext cx="6838920" cy="3365640"/>
            <a:chOff x="914400" y="2778120"/>
            <a:chExt cx="6838920" cy="3365640"/>
          </a:xfrm>
        </p:grpSpPr>
        <p:sp>
          <p:nvSpPr>
            <p:cNvPr id="1128" name="未知"/>
            <p:cNvSpPr/>
            <p:nvPr/>
          </p:nvSpPr>
          <p:spPr>
            <a:xfrm>
              <a:off x="1039680" y="2927520"/>
              <a:ext cx="2011320" cy="307656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未知"/>
            <p:cNvSpPr/>
            <p:nvPr/>
          </p:nvSpPr>
          <p:spPr>
            <a:xfrm>
              <a:off x="976320" y="3220920"/>
              <a:ext cx="54000" cy="4464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未知"/>
            <p:cNvSpPr/>
            <p:nvPr/>
          </p:nvSpPr>
          <p:spPr>
            <a:xfrm>
              <a:off x="1463760" y="3416400"/>
              <a:ext cx="61920" cy="50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未知"/>
            <p:cNvSpPr/>
            <p:nvPr/>
          </p:nvSpPr>
          <p:spPr>
            <a:xfrm>
              <a:off x="2705040" y="3505320"/>
              <a:ext cx="155520" cy="1173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未知"/>
            <p:cNvSpPr/>
            <p:nvPr/>
          </p:nvSpPr>
          <p:spPr>
            <a:xfrm>
              <a:off x="1952640" y="4114800"/>
              <a:ext cx="250920" cy="13320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未知"/>
            <p:cNvSpPr/>
            <p:nvPr/>
          </p:nvSpPr>
          <p:spPr>
            <a:xfrm>
              <a:off x="2158920" y="4216320"/>
              <a:ext cx="157320" cy="6516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未知"/>
            <p:cNvSpPr/>
            <p:nvPr/>
          </p:nvSpPr>
          <p:spPr>
            <a:xfrm>
              <a:off x="2325600" y="4257720"/>
              <a:ext cx="6048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未知"/>
            <p:cNvSpPr/>
            <p:nvPr/>
          </p:nvSpPr>
          <p:spPr>
            <a:xfrm>
              <a:off x="2414520" y="4262400"/>
              <a:ext cx="19080" cy="3960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未知"/>
            <p:cNvSpPr/>
            <p:nvPr/>
          </p:nvSpPr>
          <p:spPr>
            <a:xfrm>
              <a:off x="2124000" y="2919240"/>
              <a:ext cx="285840" cy="14004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未知"/>
            <p:cNvSpPr/>
            <p:nvPr/>
          </p:nvSpPr>
          <p:spPr>
            <a:xfrm>
              <a:off x="2251080" y="2854440"/>
              <a:ext cx="231840" cy="9504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未知"/>
            <p:cNvSpPr/>
            <p:nvPr/>
          </p:nvSpPr>
          <p:spPr>
            <a:xfrm>
              <a:off x="2576520" y="2965320"/>
              <a:ext cx="369720" cy="30168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未知"/>
            <p:cNvSpPr/>
            <p:nvPr/>
          </p:nvSpPr>
          <p:spPr>
            <a:xfrm>
              <a:off x="2573280" y="2835360"/>
              <a:ext cx="69840" cy="586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未知"/>
            <p:cNvSpPr/>
            <p:nvPr/>
          </p:nvSpPr>
          <p:spPr>
            <a:xfrm>
              <a:off x="2440080" y="2946240"/>
              <a:ext cx="102960" cy="6696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未知"/>
            <p:cNvSpPr/>
            <p:nvPr/>
          </p:nvSpPr>
          <p:spPr>
            <a:xfrm>
              <a:off x="2548080" y="2959200"/>
              <a:ext cx="85680" cy="39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未知"/>
            <p:cNvSpPr/>
            <p:nvPr/>
          </p:nvSpPr>
          <p:spPr>
            <a:xfrm>
              <a:off x="2502000" y="2901960"/>
              <a:ext cx="101520" cy="5400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未知"/>
            <p:cNvSpPr/>
            <p:nvPr/>
          </p:nvSpPr>
          <p:spPr>
            <a:xfrm>
              <a:off x="2459160" y="2851200"/>
              <a:ext cx="69840" cy="381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未知"/>
            <p:cNvSpPr/>
            <p:nvPr/>
          </p:nvSpPr>
          <p:spPr>
            <a:xfrm>
              <a:off x="2639880" y="2855880"/>
              <a:ext cx="181080" cy="1224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未知"/>
            <p:cNvSpPr/>
            <p:nvPr/>
          </p:nvSpPr>
          <p:spPr>
            <a:xfrm>
              <a:off x="914400" y="3244680"/>
              <a:ext cx="39600" cy="2412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未知"/>
            <p:cNvSpPr/>
            <p:nvPr/>
          </p:nvSpPr>
          <p:spPr>
            <a:xfrm>
              <a:off x="2116080" y="405612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未知"/>
            <p:cNvSpPr/>
            <p:nvPr/>
          </p:nvSpPr>
          <p:spPr>
            <a:xfrm>
              <a:off x="2120760" y="409572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未知"/>
            <p:cNvSpPr/>
            <p:nvPr/>
          </p:nvSpPr>
          <p:spPr>
            <a:xfrm>
              <a:off x="2444760" y="4305240"/>
              <a:ext cx="237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未知"/>
            <p:cNvSpPr/>
            <p:nvPr/>
          </p:nvSpPr>
          <p:spPr>
            <a:xfrm>
              <a:off x="2641680" y="3537000"/>
              <a:ext cx="601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未知"/>
            <p:cNvSpPr/>
            <p:nvPr/>
          </p:nvSpPr>
          <p:spPr>
            <a:xfrm>
              <a:off x="2482920" y="3211560"/>
              <a:ext cx="601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未知"/>
            <p:cNvSpPr/>
            <p:nvPr/>
          </p:nvSpPr>
          <p:spPr>
            <a:xfrm>
              <a:off x="2585880" y="2927520"/>
              <a:ext cx="619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未知"/>
            <p:cNvSpPr/>
            <p:nvPr/>
          </p:nvSpPr>
          <p:spPr>
            <a:xfrm>
              <a:off x="2685960" y="3098880"/>
              <a:ext cx="6048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未知"/>
            <p:cNvSpPr/>
            <p:nvPr/>
          </p:nvSpPr>
          <p:spPr>
            <a:xfrm>
              <a:off x="2711520" y="2778120"/>
              <a:ext cx="1104840" cy="5493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未知"/>
            <p:cNvSpPr/>
            <p:nvPr/>
          </p:nvSpPr>
          <p:spPr>
            <a:xfrm>
              <a:off x="3049560" y="307008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未知"/>
            <p:cNvSpPr/>
            <p:nvPr/>
          </p:nvSpPr>
          <p:spPr>
            <a:xfrm>
              <a:off x="3498840" y="3174840"/>
              <a:ext cx="203040" cy="8604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未知"/>
            <p:cNvSpPr/>
            <p:nvPr/>
          </p:nvSpPr>
          <p:spPr>
            <a:xfrm>
              <a:off x="3659040" y="2916360"/>
              <a:ext cx="61920" cy="3780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未知"/>
            <p:cNvSpPr/>
            <p:nvPr/>
          </p:nvSpPr>
          <p:spPr>
            <a:xfrm>
              <a:off x="4086360" y="2865600"/>
              <a:ext cx="245880" cy="997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未知"/>
            <p:cNvSpPr/>
            <p:nvPr/>
          </p:nvSpPr>
          <p:spPr>
            <a:xfrm>
              <a:off x="4240080" y="2917800"/>
              <a:ext cx="76320" cy="334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未知"/>
            <p:cNvSpPr/>
            <p:nvPr/>
          </p:nvSpPr>
          <p:spPr>
            <a:xfrm>
              <a:off x="3776760" y="3349800"/>
              <a:ext cx="172800" cy="2095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未知"/>
            <p:cNvSpPr/>
            <p:nvPr/>
          </p:nvSpPr>
          <p:spPr>
            <a:xfrm>
              <a:off x="3691080" y="3425760"/>
              <a:ext cx="109440" cy="10800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未知"/>
            <p:cNvSpPr/>
            <p:nvPr/>
          </p:nvSpPr>
          <p:spPr>
            <a:xfrm>
              <a:off x="6367320" y="5240160"/>
              <a:ext cx="752760" cy="78588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未知"/>
            <p:cNvSpPr/>
            <p:nvPr/>
          </p:nvSpPr>
          <p:spPr>
            <a:xfrm>
              <a:off x="6600960" y="4826160"/>
              <a:ext cx="506160" cy="33336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未知"/>
            <p:cNvSpPr/>
            <p:nvPr/>
          </p:nvSpPr>
          <p:spPr>
            <a:xfrm>
              <a:off x="6615000" y="4829040"/>
              <a:ext cx="493920" cy="33516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未知"/>
            <p:cNvSpPr/>
            <p:nvPr/>
          </p:nvSpPr>
          <p:spPr>
            <a:xfrm>
              <a:off x="6980400" y="6051600"/>
              <a:ext cx="71280" cy="9216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未知"/>
            <p:cNvSpPr/>
            <p:nvPr/>
          </p:nvSpPr>
          <p:spPr>
            <a:xfrm>
              <a:off x="7196040" y="5908680"/>
              <a:ext cx="260280" cy="1350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未知"/>
            <p:cNvSpPr/>
            <p:nvPr/>
          </p:nvSpPr>
          <p:spPr>
            <a:xfrm>
              <a:off x="7466040" y="5829120"/>
              <a:ext cx="165240" cy="1461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未知"/>
            <p:cNvSpPr/>
            <p:nvPr/>
          </p:nvSpPr>
          <p:spPr>
            <a:xfrm>
              <a:off x="7553160" y="5764320"/>
              <a:ext cx="59040" cy="4104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未知"/>
            <p:cNvSpPr/>
            <p:nvPr/>
          </p:nvSpPr>
          <p:spPr>
            <a:xfrm>
              <a:off x="4818240" y="4992840"/>
              <a:ext cx="195120" cy="31896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未知"/>
            <p:cNvSpPr/>
            <p:nvPr/>
          </p:nvSpPr>
          <p:spPr>
            <a:xfrm>
              <a:off x="5662440" y="4497480"/>
              <a:ext cx="78120" cy="9684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未知"/>
            <p:cNvSpPr/>
            <p:nvPr/>
          </p:nvSpPr>
          <p:spPr>
            <a:xfrm>
              <a:off x="6191280" y="4602240"/>
              <a:ext cx="176040" cy="290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未知"/>
            <p:cNvSpPr/>
            <p:nvPr/>
          </p:nvSpPr>
          <p:spPr>
            <a:xfrm>
              <a:off x="6041880" y="4511520"/>
              <a:ext cx="114480" cy="21780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未知"/>
            <p:cNvSpPr/>
            <p:nvPr/>
          </p:nvSpPr>
          <p:spPr>
            <a:xfrm>
              <a:off x="6119640" y="4686120"/>
              <a:ext cx="63720" cy="2080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未知"/>
            <p:cNvSpPr/>
            <p:nvPr/>
          </p:nvSpPr>
          <p:spPr>
            <a:xfrm>
              <a:off x="6191280" y="4903920"/>
              <a:ext cx="103320" cy="8568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未知"/>
            <p:cNvSpPr/>
            <p:nvPr/>
          </p:nvSpPr>
          <p:spPr>
            <a:xfrm>
              <a:off x="6356520" y="4753080"/>
              <a:ext cx="131760" cy="18576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未知"/>
            <p:cNvSpPr/>
            <p:nvPr/>
          </p:nvSpPr>
          <p:spPr>
            <a:xfrm>
              <a:off x="6311880" y="4089240"/>
              <a:ext cx="34920" cy="11304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未知"/>
            <p:cNvSpPr/>
            <p:nvPr/>
          </p:nvSpPr>
          <p:spPr>
            <a:xfrm>
              <a:off x="6334200" y="4278240"/>
              <a:ext cx="96840" cy="18756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未知"/>
            <p:cNvSpPr/>
            <p:nvPr/>
          </p:nvSpPr>
          <p:spPr>
            <a:xfrm>
              <a:off x="6402240" y="4525920"/>
              <a:ext cx="101880" cy="12528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未知"/>
            <p:cNvSpPr/>
            <p:nvPr/>
          </p:nvSpPr>
          <p:spPr>
            <a:xfrm>
              <a:off x="6523200" y="4749840"/>
              <a:ext cx="45720" cy="77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未知"/>
            <p:cNvSpPr/>
            <p:nvPr/>
          </p:nvSpPr>
          <p:spPr>
            <a:xfrm>
              <a:off x="6497640" y="4879800"/>
              <a:ext cx="28440" cy="27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未知"/>
            <p:cNvSpPr/>
            <p:nvPr/>
          </p:nvSpPr>
          <p:spPr>
            <a:xfrm>
              <a:off x="6540480" y="4863960"/>
              <a:ext cx="71280" cy="590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未知"/>
            <p:cNvSpPr/>
            <p:nvPr/>
          </p:nvSpPr>
          <p:spPr>
            <a:xfrm>
              <a:off x="6649920" y="497520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未知"/>
            <p:cNvSpPr/>
            <p:nvPr/>
          </p:nvSpPr>
          <p:spPr>
            <a:xfrm>
              <a:off x="7074000" y="4908600"/>
              <a:ext cx="73080" cy="745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未知"/>
            <p:cNvSpPr/>
            <p:nvPr/>
          </p:nvSpPr>
          <p:spPr>
            <a:xfrm>
              <a:off x="6443640" y="5002200"/>
              <a:ext cx="73080" cy="79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未知"/>
            <p:cNvSpPr/>
            <p:nvPr/>
          </p:nvSpPr>
          <p:spPr>
            <a:xfrm>
              <a:off x="6365880" y="5032440"/>
              <a:ext cx="50760" cy="428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未知"/>
            <p:cNvSpPr/>
            <p:nvPr/>
          </p:nvSpPr>
          <p:spPr>
            <a:xfrm>
              <a:off x="6332400" y="4986360"/>
              <a:ext cx="38160" cy="493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未知"/>
            <p:cNvSpPr/>
            <p:nvPr/>
          </p:nvSpPr>
          <p:spPr>
            <a:xfrm>
              <a:off x="6386400" y="5003640"/>
              <a:ext cx="54000" cy="381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未知"/>
            <p:cNvSpPr/>
            <p:nvPr/>
          </p:nvSpPr>
          <p:spPr>
            <a:xfrm>
              <a:off x="6308640" y="4476600"/>
              <a:ext cx="42840" cy="8748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未知"/>
            <p:cNvSpPr/>
            <p:nvPr/>
          </p:nvSpPr>
          <p:spPr>
            <a:xfrm>
              <a:off x="6389640" y="4462560"/>
              <a:ext cx="30240" cy="871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未知"/>
            <p:cNvSpPr/>
            <p:nvPr/>
          </p:nvSpPr>
          <p:spPr>
            <a:xfrm>
              <a:off x="6424560" y="4435560"/>
              <a:ext cx="15840" cy="39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未知"/>
            <p:cNvSpPr/>
            <p:nvPr/>
          </p:nvSpPr>
          <p:spPr>
            <a:xfrm>
              <a:off x="6440400" y="4454640"/>
              <a:ext cx="33480" cy="7596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未知"/>
            <p:cNvSpPr/>
            <p:nvPr/>
          </p:nvSpPr>
          <p:spPr>
            <a:xfrm>
              <a:off x="6013440" y="4564080"/>
              <a:ext cx="19080" cy="428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未知"/>
            <p:cNvSpPr/>
            <p:nvPr/>
          </p:nvSpPr>
          <p:spPr>
            <a:xfrm>
              <a:off x="5997600" y="452772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未知"/>
            <p:cNvSpPr/>
            <p:nvPr/>
          </p:nvSpPr>
          <p:spPr>
            <a:xfrm>
              <a:off x="5991120" y="4498920"/>
              <a:ext cx="19080" cy="223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未知"/>
            <p:cNvSpPr/>
            <p:nvPr/>
          </p:nvSpPr>
          <p:spPr>
            <a:xfrm>
              <a:off x="5972040" y="4435560"/>
              <a:ext cx="1764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未知"/>
            <p:cNvSpPr/>
            <p:nvPr/>
          </p:nvSpPr>
          <p:spPr>
            <a:xfrm>
              <a:off x="5975280" y="4475160"/>
              <a:ext cx="25560" cy="205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未知"/>
            <p:cNvSpPr/>
            <p:nvPr/>
          </p:nvSpPr>
          <p:spPr>
            <a:xfrm>
              <a:off x="7302600" y="5464080"/>
              <a:ext cx="71280" cy="9540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未知"/>
            <p:cNvSpPr/>
            <p:nvPr/>
          </p:nvSpPr>
          <p:spPr>
            <a:xfrm>
              <a:off x="7669080" y="5386320"/>
              <a:ext cx="84240" cy="7308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未知"/>
            <p:cNvSpPr/>
            <p:nvPr/>
          </p:nvSpPr>
          <p:spPr>
            <a:xfrm>
              <a:off x="7415280" y="5346720"/>
              <a:ext cx="27000" cy="363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未知"/>
            <p:cNvSpPr/>
            <p:nvPr/>
          </p:nvSpPr>
          <p:spPr>
            <a:xfrm>
              <a:off x="7402680" y="5311800"/>
              <a:ext cx="31680" cy="270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未知"/>
            <p:cNvSpPr/>
            <p:nvPr/>
          </p:nvSpPr>
          <p:spPr>
            <a:xfrm>
              <a:off x="7159680" y="500364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未知"/>
            <p:cNvSpPr/>
            <p:nvPr/>
          </p:nvSpPr>
          <p:spPr>
            <a:xfrm>
              <a:off x="7213680" y="5072040"/>
              <a:ext cx="41040" cy="525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未知"/>
            <p:cNvSpPr/>
            <p:nvPr/>
          </p:nvSpPr>
          <p:spPr>
            <a:xfrm>
              <a:off x="7256520" y="5172120"/>
              <a:ext cx="44280" cy="442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未知"/>
            <p:cNvSpPr/>
            <p:nvPr/>
          </p:nvSpPr>
          <p:spPr>
            <a:xfrm>
              <a:off x="7310520" y="5156280"/>
              <a:ext cx="44280" cy="4104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未知"/>
            <p:cNvSpPr/>
            <p:nvPr/>
          </p:nvSpPr>
          <p:spPr>
            <a:xfrm>
              <a:off x="7294680" y="5099040"/>
              <a:ext cx="41040" cy="31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未知"/>
            <p:cNvSpPr/>
            <p:nvPr/>
          </p:nvSpPr>
          <p:spPr>
            <a:xfrm>
              <a:off x="7253280" y="5059440"/>
              <a:ext cx="41400" cy="55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未知"/>
            <p:cNvSpPr/>
            <p:nvPr/>
          </p:nvSpPr>
          <p:spPr>
            <a:xfrm>
              <a:off x="7202520" y="503388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未知"/>
            <p:cNvSpPr/>
            <p:nvPr/>
          </p:nvSpPr>
          <p:spPr>
            <a:xfrm>
              <a:off x="7265880" y="511812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未知"/>
            <p:cNvSpPr/>
            <p:nvPr/>
          </p:nvSpPr>
          <p:spPr>
            <a:xfrm>
              <a:off x="4710240" y="2936880"/>
              <a:ext cx="223560" cy="17136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未知"/>
            <p:cNvSpPr/>
            <p:nvPr/>
          </p:nvSpPr>
          <p:spPr>
            <a:xfrm>
              <a:off x="4843440" y="3102120"/>
              <a:ext cx="63360" cy="190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未知"/>
            <p:cNvSpPr/>
            <p:nvPr/>
          </p:nvSpPr>
          <p:spPr>
            <a:xfrm>
              <a:off x="5168880" y="2854440"/>
              <a:ext cx="66600" cy="4428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未知"/>
            <p:cNvSpPr/>
            <p:nvPr/>
          </p:nvSpPr>
          <p:spPr>
            <a:xfrm>
              <a:off x="5216400" y="2874960"/>
              <a:ext cx="79560" cy="3168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未知"/>
            <p:cNvSpPr/>
            <p:nvPr/>
          </p:nvSpPr>
          <p:spPr>
            <a:xfrm>
              <a:off x="5302080" y="2879640"/>
              <a:ext cx="79560" cy="507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未知"/>
            <p:cNvSpPr/>
            <p:nvPr/>
          </p:nvSpPr>
          <p:spPr>
            <a:xfrm>
              <a:off x="5856120" y="2922480"/>
              <a:ext cx="140040" cy="4932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未知"/>
            <p:cNvSpPr/>
            <p:nvPr/>
          </p:nvSpPr>
          <p:spPr>
            <a:xfrm>
              <a:off x="5999040" y="2921040"/>
              <a:ext cx="73080" cy="381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未知"/>
            <p:cNvSpPr/>
            <p:nvPr/>
          </p:nvSpPr>
          <p:spPr>
            <a:xfrm>
              <a:off x="5965920" y="2967120"/>
              <a:ext cx="5868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未知"/>
            <p:cNvSpPr/>
            <p:nvPr/>
          </p:nvSpPr>
          <p:spPr>
            <a:xfrm>
              <a:off x="6365880" y="3322800"/>
              <a:ext cx="120600" cy="18072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未知"/>
            <p:cNvSpPr/>
            <p:nvPr/>
          </p:nvSpPr>
          <p:spPr>
            <a:xfrm>
              <a:off x="6462720" y="3510000"/>
              <a:ext cx="87480" cy="1238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未知"/>
            <p:cNvSpPr/>
            <p:nvPr/>
          </p:nvSpPr>
          <p:spPr>
            <a:xfrm>
              <a:off x="6405480" y="3637080"/>
              <a:ext cx="173160" cy="29988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未知"/>
            <p:cNvSpPr/>
            <p:nvPr/>
          </p:nvSpPr>
          <p:spPr>
            <a:xfrm>
              <a:off x="4721400" y="2836800"/>
              <a:ext cx="82440" cy="475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未知"/>
            <p:cNvSpPr/>
            <p:nvPr/>
          </p:nvSpPr>
          <p:spPr>
            <a:xfrm>
              <a:off x="4551480" y="2851200"/>
              <a:ext cx="2988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未知"/>
            <p:cNvSpPr/>
            <p:nvPr/>
          </p:nvSpPr>
          <p:spPr>
            <a:xfrm>
              <a:off x="4589640" y="2849400"/>
              <a:ext cx="58680" cy="4320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未知"/>
            <p:cNvSpPr/>
            <p:nvPr/>
          </p:nvSpPr>
          <p:spPr>
            <a:xfrm>
              <a:off x="4686480" y="2835360"/>
              <a:ext cx="31680" cy="2520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未知"/>
            <p:cNvSpPr/>
            <p:nvPr/>
          </p:nvSpPr>
          <p:spPr>
            <a:xfrm>
              <a:off x="4657680" y="2863800"/>
              <a:ext cx="23760" cy="205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未知"/>
            <p:cNvSpPr/>
            <p:nvPr/>
          </p:nvSpPr>
          <p:spPr>
            <a:xfrm>
              <a:off x="6467400" y="2889360"/>
              <a:ext cx="28800" cy="5220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未知"/>
            <p:cNvSpPr/>
            <p:nvPr/>
          </p:nvSpPr>
          <p:spPr>
            <a:xfrm>
              <a:off x="5064120" y="5194440"/>
              <a:ext cx="49320" cy="284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未知"/>
            <p:cNvSpPr/>
            <p:nvPr/>
          </p:nvSpPr>
          <p:spPr>
            <a:xfrm>
              <a:off x="5127480" y="518328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未知"/>
            <p:cNvSpPr/>
            <p:nvPr/>
          </p:nvSpPr>
          <p:spPr>
            <a:xfrm>
              <a:off x="5021280" y="493884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未知"/>
            <p:cNvSpPr/>
            <p:nvPr/>
          </p:nvSpPr>
          <p:spPr>
            <a:xfrm>
              <a:off x="5116680" y="482292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未知"/>
            <p:cNvSpPr/>
            <p:nvPr/>
          </p:nvSpPr>
          <p:spPr>
            <a:xfrm>
              <a:off x="5078520" y="482112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未知"/>
            <p:cNvSpPr/>
            <p:nvPr/>
          </p:nvSpPr>
          <p:spPr>
            <a:xfrm>
              <a:off x="5060880" y="485604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未知"/>
            <p:cNvSpPr/>
            <p:nvPr/>
          </p:nvSpPr>
          <p:spPr>
            <a:xfrm>
              <a:off x="5021280" y="491004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未知"/>
            <p:cNvSpPr/>
            <p:nvPr/>
          </p:nvSpPr>
          <p:spPr>
            <a:xfrm>
              <a:off x="5051520" y="488952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未知"/>
            <p:cNvSpPr/>
            <p:nvPr/>
          </p:nvSpPr>
          <p:spPr>
            <a:xfrm>
              <a:off x="3887640" y="332100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未知"/>
            <p:cNvSpPr/>
            <p:nvPr/>
          </p:nvSpPr>
          <p:spPr>
            <a:xfrm>
              <a:off x="3790800" y="326700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未知"/>
            <p:cNvSpPr/>
            <p:nvPr/>
          </p:nvSpPr>
          <p:spPr>
            <a:xfrm>
              <a:off x="3413160" y="2922480"/>
              <a:ext cx="3270240" cy="261000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gradFill rotWithShape="0">
              <a:gsLst>
                <a:gs pos="0">
                  <a:srgbClr val="f4f4f4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6" name=""/>
          <p:cNvSpPr/>
          <p:nvPr/>
        </p:nvSpPr>
        <p:spPr>
          <a:xfrm>
            <a:off x="1752480" y="3171960"/>
            <a:ext cx="260640" cy="2602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4287960" y="1538280"/>
            <a:ext cx="409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603360" y="153828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7181f"/>
                </a:solidFill>
                <a:latin typeface="Arial"/>
                <a:ea typeface="宋体"/>
              </a:rPr>
              <a:t>A title about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4248000" y="4473720"/>
            <a:ext cx="260640" cy="2602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237360" y="3625920"/>
            <a:ext cx="260280" cy="2602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4670280" y="3251160"/>
            <a:ext cx="260640" cy="2602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2359080" y="5435640"/>
            <a:ext cx="260280" cy="2602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116680" y="2362320"/>
            <a:ext cx="3146400" cy="43344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380880" y="2133720"/>
            <a:ext cx="815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a6f3"/>
            </a:gs>
            <a:gs pos="100000">
              <a:srgbClr val="ddf2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5" name=""/>
          <p:cNvGrpSpPr/>
          <p:nvPr/>
        </p:nvGrpSpPr>
        <p:grpSpPr>
          <a:xfrm>
            <a:off x="5829480" y="2664000"/>
            <a:ext cx="1711080" cy="536040"/>
            <a:chOff x="5829480" y="2664000"/>
            <a:chExt cx="1711080" cy="536040"/>
          </a:xfrm>
        </p:grpSpPr>
        <p:sp>
          <p:nvSpPr>
            <p:cNvPr id="1246" name="AutoShape 4"/>
            <p:cNvSpPr/>
            <p:nvPr/>
          </p:nvSpPr>
          <p:spPr>
            <a:xfrm>
              <a:off x="5829480" y="2664000"/>
              <a:ext cx="171108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AutoShape 5"/>
            <p:cNvSpPr/>
            <p:nvPr/>
          </p:nvSpPr>
          <p:spPr>
            <a:xfrm>
              <a:off x="5855760" y="2696400"/>
              <a:ext cx="16509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8" name="Rectangle 6"/>
          <p:cNvSpPr/>
          <p:nvPr/>
        </p:nvSpPr>
        <p:spPr>
          <a:xfrm>
            <a:off x="7080120" y="4595760"/>
            <a:ext cx="1086120" cy="1263600"/>
          </a:xfrm>
          <a:prstGeom prst="rect">
            <a:avLst/>
          </a:prstGeom>
          <a:gradFill rotWithShape="0">
            <a:gsLst>
              <a:gs pos="0">
                <a:srgbClr val="98c630"/>
              </a:gs>
              <a:gs pos="100000">
                <a:srgbClr val="465b16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Rectangle 7"/>
          <p:cNvSpPr/>
          <p:nvPr/>
        </p:nvSpPr>
        <p:spPr>
          <a:xfrm>
            <a:off x="5916600" y="4595760"/>
            <a:ext cx="1085760" cy="1263600"/>
          </a:xfrm>
          <a:prstGeom prst="rect">
            <a:avLst/>
          </a:prstGeom>
          <a:gradFill rotWithShape="0">
            <a:gsLst>
              <a:gs pos="0">
                <a:srgbClr val="98c630"/>
              </a:gs>
              <a:gs pos="100000">
                <a:srgbClr val="465b16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0" name=""/>
          <p:cNvGrpSpPr/>
          <p:nvPr/>
        </p:nvGrpSpPr>
        <p:grpSpPr>
          <a:xfrm>
            <a:off x="853920" y="3908520"/>
            <a:ext cx="2273400" cy="536040"/>
            <a:chOff x="853920" y="3908520"/>
            <a:chExt cx="2273400" cy="536040"/>
          </a:xfrm>
        </p:grpSpPr>
        <p:sp>
          <p:nvSpPr>
            <p:cNvPr id="1251" name="AutoShape 9"/>
            <p:cNvSpPr/>
            <p:nvPr/>
          </p:nvSpPr>
          <p:spPr>
            <a:xfrm>
              <a:off x="853920" y="390852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53aadb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AutoShape 10"/>
            <p:cNvSpPr/>
            <p:nvPr/>
          </p:nvSpPr>
          <p:spPr>
            <a:xfrm>
              <a:off x="888840" y="394092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53aadb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5899320" y="3908520"/>
            <a:ext cx="2273040" cy="536040"/>
            <a:chOff x="5899320" y="3908520"/>
            <a:chExt cx="2273040" cy="536040"/>
          </a:xfrm>
        </p:grpSpPr>
        <p:sp>
          <p:nvSpPr>
            <p:cNvPr id="1254" name="AutoShape 12"/>
            <p:cNvSpPr/>
            <p:nvPr/>
          </p:nvSpPr>
          <p:spPr>
            <a:xfrm>
              <a:off x="5899320" y="390852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rgbClr val="98c63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AutoShape 13"/>
            <p:cNvSpPr/>
            <p:nvPr/>
          </p:nvSpPr>
          <p:spPr>
            <a:xfrm>
              <a:off x="5934240" y="394092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98c63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3373560" y="3917880"/>
            <a:ext cx="2273040" cy="536400"/>
            <a:chOff x="3373560" y="3917880"/>
            <a:chExt cx="2273040" cy="536400"/>
          </a:xfrm>
        </p:grpSpPr>
        <p:sp>
          <p:nvSpPr>
            <p:cNvPr id="1257" name="AutoShape 15"/>
            <p:cNvSpPr/>
            <p:nvPr/>
          </p:nvSpPr>
          <p:spPr>
            <a:xfrm>
              <a:off x="3373560" y="391788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f29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AutoShape 16"/>
            <p:cNvSpPr/>
            <p:nvPr/>
          </p:nvSpPr>
          <p:spPr>
            <a:xfrm>
              <a:off x="3408480" y="395028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290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3656160" y="2664000"/>
            <a:ext cx="1711080" cy="536040"/>
            <a:chOff x="3656160" y="2664000"/>
            <a:chExt cx="1711080" cy="536040"/>
          </a:xfrm>
        </p:grpSpPr>
        <p:sp>
          <p:nvSpPr>
            <p:cNvPr id="1260" name="AutoShape 18"/>
            <p:cNvSpPr/>
            <p:nvPr/>
          </p:nvSpPr>
          <p:spPr>
            <a:xfrm>
              <a:off x="3656160" y="2664000"/>
              <a:ext cx="171108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AutoShape 19"/>
            <p:cNvSpPr/>
            <p:nvPr/>
          </p:nvSpPr>
          <p:spPr>
            <a:xfrm>
              <a:off x="3682440" y="2696400"/>
              <a:ext cx="16509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2" name=""/>
          <p:cNvGrpSpPr/>
          <p:nvPr/>
        </p:nvGrpSpPr>
        <p:grpSpPr>
          <a:xfrm>
            <a:off x="3714840" y="1649520"/>
            <a:ext cx="1596960" cy="536040"/>
            <a:chOff x="3714840" y="1649520"/>
            <a:chExt cx="1596960" cy="536040"/>
          </a:xfrm>
        </p:grpSpPr>
        <p:sp>
          <p:nvSpPr>
            <p:cNvPr id="1263" name="AutoShape 21"/>
            <p:cNvSpPr/>
            <p:nvPr/>
          </p:nvSpPr>
          <p:spPr>
            <a:xfrm>
              <a:off x="3714840" y="1649520"/>
              <a:ext cx="159696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AutoShape 22"/>
            <p:cNvSpPr/>
            <p:nvPr/>
          </p:nvSpPr>
          <p:spPr>
            <a:xfrm>
              <a:off x="3739320" y="1681920"/>
              <a:ext cx="15411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5" name="Rectangle 23"/>
          <p:cNvSpPr/>
          <p:nvPr/>
        </p:nvSpPr>
        <p:spPr>
          <a:xfrm>
            <a:off x="873000" y="4595760"/>
            <a:ext cx="1086120" cy="1263600"/>
          </a:xfrm>
          <a:prstGeom prst="rect">
            <a:avLst/>
          </a:prstGeom>
          <a:gradFill rotWithShape="0">
            <a:gsLst>
              <a:gs pos="0">
                <a:srgbClr val="53aadb"/>
              </a:gs>
              <a:gs pos="100000">
                <a:srgbClr val="264e64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Rectangle 24"/>
          <p:cNvSpPr/>
          <p:nvPr/>
        </p:nvSpPr>
        <p:spPr>
          <a:xfrm>
            <a:off x="2036880" y="4595760"/>
            <a:ext cx="1085760" cy="1263600"/>
          </a:xfrm>
          <a:prstGeom prst="rect">
            <a:avLst/>
          </a:prstGeom>
          <a:gradFill rotWithShape="0">
            <a:gsLst>
              <a:gs pos="0">
                <a:srgbClr val="53aadb"/>
              </a:gs>
              <a:gs pos="100000">
                <a:srgbClr val="264e64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7" name="AutoShape 25"/>
          <p:cNvCxnSpPr/>
          <p:nvPr/>
        </p:nvCxnSpPr>
        <p:spPr>
          <a:xfrm flipH="1">
            <a:off x="5385600" y="290484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8" name="AutoShape 26"/>
          <p:cNvCxnSpPr>
            <a:stCxn id="1251" idx="0"/>
            <a:endCxn id="1260" idx="2"/>
          </p:cNvCxnSpPr>
          <p:nvPr/>
        </p:nvCxnSpPr>
        <p:spPr>
          <a:xfrm flipH="1" flipV="1" rot="5400000">
            <a:off x="2896920" y="2293560"/>
            <a:ext cx="708840" cy="2521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9" name="AutoShape 27"/>
          <p:cNvCxnSpPr>
            <a:stCxn id="1254" idx="0"/>
            <a:endCxn id="1260" idx="2"/>
          </p:cNvCxnSpPr>
          <p:nvPr/>
        </p:nvCxnSpPr>
        <p:spPr>
          <a:xfrm flipV="1" rot="16200000">
            <a:off x="5419080" y="2291400"/>
            <a:ext cx="708840" cy="2525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70" name="Text Box 28"/>
          <p:cNvSpPr/>
          <p:nvPr/>
        </p:nvSpPr>
        <p:spPr>
          <a:xfrm>
            <a:off x="4010040" y="1730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 Box 29"/>
          <p:cNvSpPr/>
          <p:nvPr/>
        </p:nvSpPr>
        <p:spPr>
          <a:xfrm>
            <a:off x="5838840" y="2763720"/>
            <a:ext cx="168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ub 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ext Box 30"/>
          <p:cNvSpPr/>
          <p:nvPr/>
        </p:nvSpPr>
        <p:spPr>
          <a:xfrm>
            <a:off x="5940360" y="399888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31"/>
          <p:cNvSpPr/>
          <p:nvPr/>
        </p:nvSpPr>
        <p:spPr>
          <a:xfrm>
            <a:off x="880920" y="398952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 Box 32"/>
          <p:cNvSpPr/>
          <p:nvPr/>
        </p:nvSpPr>
        <p:spPr>
          <a:xfrm>
            <a:off x="773280" y="493092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 Box 33"/>
          <p:cNvSpPr/>
          <p:nvPr/>
        </p:nvSpPr>
        <p:spPr>
          <a:xfrm>
            <a:off x="1932120" y="493092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34"/>
          <p:cNvSpPr/>
          <p:nvPr/>
        </p:nvSpPr>
        <p:spPr>
          <a:xfrm>
            <a:off x="3403440" y="399564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Rectangle 35"/>
          <p:cNvSpPr/>
          <p:nvPr/>
        </p:nvSpPr>
        <p:spPr>
          <a:xfrm>
            <a:off x="3390840" y="4595760"/>
            <a:ext cx="1085760" cy="1263600"/>
          </a:xfrm>
          <a:prstGeom prst="rect">
            <a:avLst/>
          </a:prstGeom>
          <a:gradFill rotWithShape="0">
            <a:gsLst>
              <a:gs pos="0">
                <a:srgbClr val="f29000"/>
              </a:gs>
              <a:gs pos="100000">
                <a:srgbClr val="6f4200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Rectangle 36"/>
          <p:cNvSpPr/>
          <p:nvPr/>
        </p:nvSpPr>
        <p:spPr>
          <a:xfrm>
            <a:off x="4554360" y="4595760"/>
            <a:ext cx="1086120" cy="1263600"/>
          </a:xfrm>
          <a:prstGeom prst="rect">
            <a:avLst/>
          </a:prstGeom>
          <a:gradFill rotWithShape="0">
            <a:gsLst>
              <a:gs pos="0">
                <a:srgbClr val="f29000"/>
              </a:gs>
              <a:gs pos="100000">
                <a:srgbClr val="6f4200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Text Box 37"/>
          <p:cNvSpPr/>
          <p:nvPr/>
        </p:nvSpPr>
        <p:spPr>
          <a:xfrm>
            <a:off x="3290760" y="493092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Text Box 38"/>
          <p:cNvSpPr/>
          <p:nvPr/>
        </p:nvSpPr>
        <p:spPr>
          <a:xfrm>
            <a:off x="4449600" y="493092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 Box 39"/>
          <p:cNvSpPr/>
          <p:nvPr/>
        </p:nvSpPr>
        <p:spPr>
          <a:xfrm>
            <a:off x="5816520" y="493092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Text Box 40"/>
          <p:cNvSpPr/>
          <p:nvPr/>
        </p:nvSpPr>
        <p:spPr>
          <a:xfrm>
            <a:off x="6975360" y="493092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41"/>
          <p:cNvSpPr/>
          <p:nvPr/>
        </p:nvSpPr>
        <p:spPr>
          <a:xfrm>
            <a:off x="3786120" y="273996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4" name="AutoShape 42"/>
          <p:cNvCxnSpPr>
            <a:stCxn id="1263" idx="2"/>
            <a:endCxn id="1260" idx="0"/>
          </p:cNvCxnSpPr>
          <p:nvPr/>
        </p:nvCxnSpPr>
        <p:spPr>
          <a:xfrm flipH="1">
            <a:off x="4510800" y="2185920"/>
            <a:ext cx="2520" cy="47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5" name="AutoShape 43"/>
          <p:cNvCxnSpPr>
            <a:stCxn id="1260" idx="2"/>
            <a:endCxn id="1257" idx="0"/>
          </p:cNvCxnSpPr>
          <p:nvPr/>
        </p:nvCxnSpPr>
        <p:spPr>
          <a:xfrm rot="5400000">
            <a:off x="4151520" y="3557880"/>
            <a:ext cx="717840" cy="2160"/>
          </a:xfrm>
          <a:prstGeom prst="bentConnector3">
            <a:avLst>
              <a:gd name="adj1" fmla="val 4997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87" name=""/>
          <p:cNvSpPr/>
          <p:nvPr/>
        </p:nvSpPr>
        <p:spPr>
          <a:xfrm>
            <a:off x="1956240" y="62136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eec100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a6f3"/>
            </a:gs>
            <a:gs pos="100000">
              <a:srgbClr val="ddf2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w Cen MT"/>
                <a:ea typeface="宋体"/>
              </a:rPr>
              <a:t>Click to add Hot Tip</a:t>
            </a:r>
            <a:endParaRPr b="1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29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f29000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f29000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f29000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f29000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47920" y="525780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Image : CD_  School life (PhotoDisc), 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a6f3"/>
            </a:gs>
            <a:gs pos="100000">
              <a:srgbClr val="ddf2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"/>
          <p:cNvSpPr txBox="1"/>
          <p:nvPr/>
        </p:nvSpPr>
        <p:spPr>
          <a:xfrm>
            <a:off x="384120" y="990720"/>
            <a:ext cx="50259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29000"/>
                </a:soli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Eras Demi ITC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29000"/>
              </a:soli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Eras Demi ITC"/>
              <a:ea typeface="Eras Demi ITC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r company slogan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a6f3"/>
            </a:gs>
            <a:gs pos="100000">
              <a:srgbClr val="ddf2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2481120"/>
            <a:ext cx="6750000" cy="3386160"/>
          </a:xfrm>
          <a:prstGeom prst="roundRect">
            <a:avLst>
              <a:gd name="adj" fmla="val 16667"/>
            </a:avLst>
          </a:prstGeom>
          <a:solidFill>
            <a:srgbClr val="1c1c1c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990720" y="2209680"/>
            <a:ext cx="1838160" cy="3309840"/>
            <a:chOff x="990720" y="2209680"/>
            <a:chExt cx="1838160" cy="3309840"/>
          </a:xfrm>
        </p:grpSpPr>
        <p:sp>
          <p:nvSpPr>
            <p:cNvPr id="254" name=""/>
            <p:cNvSpPr/>
            <p:nvPr/>
          </p:nvSpPr>
          <p:spPr>
            <a:xfrm>
              <a:off x="990720" y="220968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29000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67040" y="224784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9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782880" y="2209680"/>
            <a:ext cx="1838160" cy="3309840"/>
            <a:chOff x="3782880" y="2209680"/>
            <a:chExt cx="1838160" cy="3309840"/>
          </a:xfrm>
        </p:grpSpPr>
        <p:sp>
          <p:nvSpPr>
            <p:cNvPr id="257" name=""/>
            <p:cNvSpPr/>
            <p:nvPr/>
          </p:nvSpPr>
          <p:spPr>
            <a:xfrm>
              <a:off x="3782880" y="220968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8c630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55960" y="224784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8c63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620040" y="2209680"/>
            <a:ext cx="1838160" cy="3309840"/>
            <a:chOff x="6620040" y="2209680"/>
            <a:chExt cx="1838160" cy="3309840"/>
          </a:xfrm>
        </p:grpSpPr>
        <p:sp>
          <p:nvSpPr>
            <p:cNvPr id="260" name=""/>
            <p:cNvSpPr/>
            <p:nvPr/>
          </p:nvSpPr>
          <p:spPr>
            <a:xfrm>
              <a:off x="6620040" y="220968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ec100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96360" y="225720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ec1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066680" y="2867040"/>
            <a:ext cx="17528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09880" y="2867040"/>
            <a:ext cx="17528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3124080" y="3733920"/>
            <a:ext cx="504000" cy="495720"/>
            <a:chOff x="3124080" y="3733920"/>
            <a:chExt cx="504000" cy="495720"/>
          </a:xfrm>
        </p:grpSpPr>
        <p:grpSp>
          <p:nvGrpSpPr>
            <p:cNvPr id="266" name=""/>
            <p:cNvGrpSpPr/>
            <p:nvPr/>
          </p:nvGrpSpPr>
          <p:grpSpPr>
            <a:xfrm>
              <a:off x="3325680" y="3733920"/>
              <a:ext cx="302400" cy="495720"/>
              <a:chOff x="3325680" y="3733920"/>
              <a:chExt cx="302400" cy="495720"/>
            </a:xfrm>
          </p:grpSpPr>
          <p:sp>
            <p:nvSpPr>
              <p:cNvPr id="267" name=""/>
              <p:cNvSpPr/>
              <p:nvPr/>
            </p:nvSpPr>
            <p:spPr>
              <a:xfrm>
                <a:off x="332568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42648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52728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42648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32568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3124080" y="3733920"/>
              <a:ext cx="302400" cy="495720"/>
              <a:chOff x="3124080" y="3733920"/>
              <a:chExt cx="302400" cy="495720"/>
            </a:xfrm>
          </p:grpSpPr>
          <p:sp>
            <p:nvSpPr>
              <p:cNvPr id="273" name=""/>
              <p:cNvSpPr/>
              <p:nvPr/>
            </p:nvSpPr>
            <p:spPr>
              <a:xfrm>
                <a:off x="312408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22488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32568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22488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12408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5867280" y="3733920"/>
            <a:ext cx="504000" cy="495720"/>
            <a:chOff x="5867280" y="3733920"/>
            <a:chExt cx="504000" cy="495720"/>
          </a:xfrm>
        </p:grpSpPr>
        <p:grpSp>
          <p:nvGrpSpPr>
            <p:cNvPr id="279" name=""/>
            <p:cNvGrpSpPr/>
            <p:nvPr/>
          </p:nvGrpSpPr>
          <p:grpSpPr>
            <a:xfrm>
              <a:off x="6068880" y="3733920"/>
              <a:ext cx="302400" cy="495720"/>
              <a:chOff x="6068880" y="3733920"/>
              <a:chExt cx="302400" cy="495720"/>
            </a:xfrm>
          </p:grpSpPr>
          <p:sp>
            <p:nvSpPr>
              <p:cNvPr id="280" name=""/>
              <p:cNvSpPr/>
              <p:nvPr/>
            </p:nvSpPr>
            <p:spPr>
              <a:xfrm>
                <a:off x="606888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16968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27048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6968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06888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5867280" y="3733920"/>
              <a:ext cx="302400" cy="495720"/>
              <a:chOff x="5867280" y="3733920"/>
              <a:chExt cx="302400" cy="495720"/>
            </a:xfrm>
          </p:grpSpPr>
          <p:sp>
            <p:nvSpPr>
              <p:cNvPr id="286" name=""/>
              <p:cNvSpPr/>
              <p:nvPr/>
            </p:nvSpPr>
            <p:spPr>
              <a:xfrm>
                <a:off x="586728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96808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06888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96808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86728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1" name=""/>
          <p:cNvSpPr/>
          <p:nvPr/>
        </p:nvSpPr>
        <p:spPr>
          <a:xfrm>
            <a:off x="1447920" y="12952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a6f3"/>
            </a:gs>
            <a:gs pos="100000">
              <a:srgbClr val="ddf2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3" name=""/>
          <p:cNvSpPr/>
          <p:nvPr/>
        </p:nvSpPr>
        <p:spPr>
          <a:xfrm>
            <a:off x="1260360" y="1827360"/>
            <a:ext cx="6653160" cy="11444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98c630"/>
              </a:gs>
              <a:gs pos="100000">
                <a:srgbClr val="698921"/>
              </a:gs>
            </a:gsLst>
            <a:lin ang="5400000"/>
          </a:gradFill>
          <a:ln w="25560">
            <a:solidFill>
              <a:srgbClr val="fefefe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263600" y="3417840"/>
            <a:ext cx="6653160" cy="101916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53aadb"/>
              </a:gs>
              <a:gs pos="100000">
                <a:srgbClr val="397698"/>
              </a:gs>
            </a:gsLst>
            <a:lin ang="5400000"/>
          </a:gradFill>
          <a:ln w="25560">
            <a:solidFill>
              <a:srgbClr val="fefefe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271520" y="4933800"/>
            <a:ext cx="6653160" cy="10321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eec100"/>
              </a:gs>
              <a:gs pos="100000">
                <a:srgbClr val="a58600"/>
              </a:gs>
            </a:gsLst>
            <a:lin ang="5400000"/>
          </a:gradFill>
          <a:ln w="25560">
            <a:solidFill>
              <a:srgbClr val="fefefe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1434960" y="3047040"/>
            <a:ext cx="6397920" cy="361800"/>
          </a:xfrm>
          <a:custGeom>
            <a:avLst/>
            <a:gdLst>
              <a:gd name="textAreaLeft" fmla="*/ 1145520 w 6397920"/>
              <a:gd name="textAreaRight" fmla="*/ 5252400 w 6397920"/>
              <a:gd name="textAreaTop" fmla="*/ 64800 h 361800"/>
              <a:gd name="textAreaBottom" fmla="*/ 297000 h 36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787" y="21600"/>
                </a:lnTo>
                <a:lnTo>
                  <a:pt x="3813" y="21600"/>
                </a:lnTo>
                <a:close/>
              </a:path>
            </a:pathLst>
          </a:custGeom>
          <a:gradFill rotWithShape="0">
            <a:gsLst>
              <a:gs pos="0">
                <a:srgbClr val="53aadb">
                  <a:alpha val="4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1338120" y="1456920"/>
            <a:ext cx="6502680" cy="363600"/>
          </a:xfrm>
          <a:custGeom>
            <a:avLst/>
            <a:gdLst>
              <a:gd name="textAreaLeft" fmla="*/ 1164600 w 6502680"/>
              <a:gd name="textAreaRight" fmla="*/ 5338080 w 6502680"/>
              <a:gd name="textAreaTop" fmla="*/ 65160 h 363600"/>
              <a:gd name="textAreaBottom" fmla="*/ 298440 h 36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787" y="21600"/>
                </a:lnTo>
                <a:lnTo>
                  <a:pt x="3813" y="21600"/>
                </a:lnTo>
                <a:close/>
              </a:path>
            </a:pathLst>
          </a:custGeom>
          <a:gradFill rotWithShape="0">
            <a:gsLst>
              <a:gs pos="0">
                <a:srgbClr val="98c630">
                  <a:alpha val="4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1390680" y="4568400"/>
            <a:ext cx="6475320" cy="363600"/>
          </a:xfrm>
          <a:custGeom>
            <a:avLst/>
            <a:gdLst>
              <a:gd name="textAreaLeft" fmla="*/ 1159560 w 6475320"/>
              <a:gd name="textAreaRight" fmla="*/ 5315760 w 6475320"/>
              <a:gd name="textAreaTop" fmla="*/ 65160 h 363600"/>
              <a:gd name="textAreaBottom" fmla="*/ 298440 h 36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787" y="21600"/>
                </a:lnTo>
                <a:lnTo>
                  <a:pt x="3813" y="21600"/>
                </a:lnTo>
                <a:close/>
              </a:path>
            </a:pathLst>
          </a:custGeom>
          <a:gradFill rotWithShape="0">
            <a:gsLst>
              <a:gs pos="0">
                <a:srgbClr val="eec100">
                  <a:alpha val="4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317600" y="1870200"/>
            <a:ext cx="674640" cy="57456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1314360" y="3463920"/>
            <a:ext cx="676440" cy="5731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1319040" y="4975200"/>
            <a:ext cx="675000" cy="573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747800" y="160020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98c6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747800" y="320976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53a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747800" y="471168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eec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671480" y="2209680"/>
            <a:ext cx="601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- ThemeGallery</a:t>
            </a: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671480" y="3746520"/>
            <a:ext cx="601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- ThemeGallery</a:t>
            </a: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671480" y="5224320"/>
            <a:ext cx="601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- ThemeGallery</a:t>
            </a: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28680" y="160020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c63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128680" y="321948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3aadb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28680" y="472284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1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a6f3"/>
            </a:gs>
            <a:gs pos="100000">
              <a:srgbClr val="ddf2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 flipV="1">
            <a:off x="3648240" y="2260440"/>
            <a:ext cx="863280" cy="649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5041440" y="2260440"/>
            <a:ext cx="862200" cy="6588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4220640" y="4773600"/>
            <a:ext cx="1079640" cy="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5751000" y="3465360"/>
            <a:ext cx="341640" cy="1000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443400" y="3465360"/>
            <a:ext cx="342720" cy="1000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365640" y="4448160"/>
            <a:ext cx="863640" cy="820800"/>
          </a:xfrm>
          <a:prstGeom prst="pentagon">
            <a:avLst/>
          </a:prstGeom>
          <a:solidFill>
            <a:srgbClr val="cc3300">
              <a:alpha val="50000"/>
            </a:srgbClr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35280" y="2589120"/>
            <a:ext cx="922320" cy="874800"/>
          </a:xfrm>
          <a:prstGeom prst="pentagon">
            <a:avLst/>
          </a:prstGeom>
          <a:solidFill>
            <a:srgbClr val="53aadb">
              <a:alpha val="50000"/>
            </a:srgbClr>
          </a:solidFill>
          <a:ln w="76320">
            <a:solidFill>
              <a:srgbClr val="53a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897520" y="2597040"/>
            <a:ext cx="906480" cy="860400"/>
          </a:xfrm>
          <a:prstGeom prst="pentagon">
            <a:avLst/>
          </a:prstGeom>
          <a:solidFill>
            <a:srgbClr val="98c630">
              <a:alpha val="50000"/>
            </a:srgbClr>
          </a:solidFill>
          <a:ln w="76320">
            <a:solidFill>
              <a:srgbClr val="98c6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357800" y="1447920"/>
            <a:ext cx="846000" cy="803160"/>
          </a:xfrm>
          <a:prstGeom prst="pentagon">
            <a:avLst/>
          </a:prstGeom>
          <a:solidFill>
            <a:srgbClr val="f29000">
              <a:alpha val="50000"/>
            </a:srgbClr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308560" y="4443480"/>
            <a:ext cx="862200" cy="820800"/>
          </a:xfrm>
          <a:prstGeom prst="pentagon">
            <a:avLst/>
          </a:prstGeom>
          <a:solidFill>
            <a:srgbClr val="339966">
              <a:alpha val="50000"/>
            </a:srgbClr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949480" y="2813040"/>
            <a:ext cx="480960" cy="484200"/>
            <a:chOff x="2949480" y="2813040"/>
            <a:chExt cx="480960" cy="484200"/>
          </a:xfrm>
        </p:grpSpPr>
        <p:sp>
          <p:nvSpPr>
            <p:cNvPr id="322" name=""/>
            <p:cNvSpPr/>
            <p:nvPr/>
          </p:nvSpPr>
          <p:spPr>
            <a:xfrm>
              <a:off x="2949480" y="2813040"/>
              <a:ext cx="480960" cy="480960"/>
            </a:xfrm>
            <a:prstGeom prst="ellipse">
              <a:avLst/>
            </a:pr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91400" y="2813040"/>
              <a:ext cx="0" cy="4777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949480" y="3051720"/>
              <a:ext cx="4809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3223800" y="2815920"/>
              <a:ext cx="99720" cy="47448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未知"/>
            <p:cNvSpPr/>
            <p:nvPr/>
          </p:nvSpPr>
          <p:spPr>
            <a:xfrm>
              <a:off x="3060720" y="2819520"/>
              <a:ext cx="108000" cy="4777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未知"/>
            <p:cNvSpPr/>
            <p:nvPr/>
          </p:nvSpPr>
          <p:spPr>
            <a:xfrm rot="5400000">
              <a:off x="3150000" y="3009960"/>
              <a:ext cx="62280" cy="35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 flipV="1" rot="16200000">
              <a:off x="3154320" y="2735640"/>
              <a:ext cx="62640" cy="35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570120" y="4700520"/>
            <a:ext cx="419400" cy="358560"/>
            <a:chOff x="3570120" y="4700520"/>
            <a:chExt cx="419400" cy="358560"/>
          </a:xfrm>
        </p:grpSpPr>
        <p:sp>
          <p:nvSpPr>
            <p:cNvPr id="330" name=""/>
            <p:cNvSpPr/>
            <p:nvPr/>
          </p:nvSpPr>
          <p:spPr>
            <a:xfrm>
              <a:off x="3655800" y="4700520"/>
              <a:ext cx="250920" cy="250560"/>
            </a:xfrm>
            <a:prstGeom prst="roundRect">
              <a:avLst>
                <a:gd name="adj" fmla="val 6250"/>
              </a:avLst>
            </a:pr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570120" y="4948200"/>
              <a:ext cx="419400" cy="110880"/>
            </a:xfrm>
            <a:prstGeom prst="roundRect">
              <a:avLst>
                <a:gd name="adj" fmla="val 16667"/>
              </a:avLst>
            </a:pr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3865320" y="5003640"/>
              <a:ext cx="640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739320" y="4779000"/>
              <a:ext cx="1040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779640" y="4815720"/>
              <a:ext cx="640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798360" y="4885560"/>
              <a:ext cx="45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4606920" y="1722600"/>
            <a:ext cx="368280" cy="365040"/>
          </a:xfrm>
          <a:prstGeom prst="cube">
            <a:avLst>
              <a:gd name="adj" fmla="val 25000"/>
            </a:avLst>
          </a:prstGeom>
          <a:solidFill>
            <a:srgbClr val="292929">
              <a:alpha val="5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122880" y="2820960"/>
            <a:ext cx="470160" cy="445680"/>
            <a:chOff x="6122880" y="2820960"/>
            <a:chExt cx="470160" cy="445680"/>
          </a:xfrm>
        </p:grpSpPr>
        <p:sp>
          <p:nvSpPr>
            <p:cNvPr id="338" name=""/>
            <p:cNvSpPr/>
            <p:nvPr/>
          </p:nvSpPr>
          <p:spPr>
            <a:xfrm>
              <a:off x="6122880" y="2912040"/>
              <a:ext cx="470160" cy="354600"/>
            </a:xfrm>
            <a:prstGeom prst="roundRect">
              <a:avLst>
                <a:gd name="adj" fmla="val 16667"/>
              </a:avLst>
            </a:pr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5080" y="2820960"/>
              <a:ext cx="173520" cy="160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292929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557680" y="4657680"/>
            <a:ext cx="385920" cy="476280"/>
            <a:chOff x="5557680" y="4657680"/>
            <a:chExt cx="385920" cy="476280"/>
          </a:xfrm>
        </p:grpSpPr>
        <p:sp>
          <p:nvSpPr>
            <p:cNvPr id="341" name="未知"/>
            <p:cNvSpPr/>
            <p:nvPr/>
          </p:nvSpPr>
          <p:spPr>
            <a:xfrm>
              <a:off x="5557680" y="4672080"/>
              <a:ext cx="385920" cy="46188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700240" y="4657680"/>
              <a:ext cx="100440" cy="98280"/>
            </a:xfrm>
            <a:prstGeom prst="ellipse">
              <a:avLst/>
            </a:pr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3905280" y="2881440"/>
            <a:ext cx="1751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32080" y="1528920"/>
            <a:ext cx="1508040" cy="54756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duc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 company product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066680" y="3562200"/>
            <a:ext cx="1508400" cy="54792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duc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 company product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44760" y="5283360"/>
            <a:ext cx="1508040" cy="54756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duc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 company product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532560" y="5319720"/>
            <a:ext cx="1508040" cy="54756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duc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 company product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950160" y="3532320"/>
            <a:ext cx="1508040" cy="54756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duc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 company product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70400" y="1143000"/>
            <a:ext cx="349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a6f3"/>
            </a:gs>
            <a:gs pos="100000">
              <a:srgbClr val="ddf2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749160" y="4905360"/>
            <a:ext cx="3573720" cy="696960"/>
          </a:xfrm>
          <a:prstGeom prst="rect">
            <a:avLst/>
          </a:prstGeom>
          <a:gradFill rotWithShape="0">
            <a:gsLst>
              <a:gs pos="0">
                <a:srgbClr val="53aadb"/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49160" y="3975120"/>
            <a:ext cx="3573720" cy="698400"/>
          </a:xfrm>
          <a:prstGeom prst="rect">
            <a:avLst/>
          </a:prstGeom>
          <a:gradFill rotWithShape="0">
            <a:gsLst>
              <a:gs pos="0">
                <a:srgbClr val="eec100"/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49160" y="3006720"/>
            <a:ext cx="3573720" cy="696960"/>
          </a:xfrm>
          <a:prstGeom prst="rect">
            <a:avLst/>
          </a:prstGeom>
          <a:gradFill rotWithShape="0">
            <a:gsLst>
              <a:gs pos="0">
                <a:srgbClr val="98c630"/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49160" y="2077920"/>
            <a:ext cx="3573720" cy="696960"/>
          </a:xfrm>
          <a:prstGeom prst="rect">
            <a:avLst/>
          </a:prstGeom>
          <a:gradFill rotWithShape="0">
            <a:gsLst>
              <a:gs pos="0">
                <a:srgbClr val="f29000"/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373040" y="2176560"/>
            <a:ext cx="262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73040" y="3111480"/>
            <a:ext cx="262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373040" y="4100400"/>
            <a:ext cx="262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73040" y="5021280"/>
            <a:ext cx="262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832280" y="3110040"/>
            <a:ext cx="1332000" cy="1490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832280" y="3375000"/>
            <a:ext cx="1940040" cy="157320"/>
          </a:xfrm>
          <a:prstGeom prst="rect">
            <a:avLst/>
          </a:prstGeom>
          <a:solidFill>
            <a:srgbClr val="98c630"/>
          </a:solidFill>
          <a:ln w="0">
            <a:noFill/>
          </a:ln>
          <a:effectLst>
            <a:outerShdw dist="17819" dir="2700000" blurRad="0" rotWithShape="0">
              <a:srgbClr val="5a76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832280" y="4100400"/>
            <a:ext cx="2855880" cy="1587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32280" y="4365720"/>
            <a:ext cx="2568600" cy="166680"/>
          </a:xfrm>
          <a:prstGeom prst="rect">
            <a:avLst/>
          </a:prstGeom>
          <a:solidFill>
            <a:srgbClr val="eec100"/>
          </a:solidFill>
          <a:ln w="0">
            <a:noFill/>
          </a:ln>
          <a:effectLst>
            <a:outerShdw dist="17819" dir="2700000" blurRad="0" rotWithShape="0">
              <a:srgbClr val="8e7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859280" y="2254320"/>
            <a:ext cx="2208240" cy="1569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859280" y="2509920"/>
            <a:ext cx="2781360" cy="147600"/>
          </a:xfrm>
          <a:prstGeom prst="rect">
            <a:avLst/>
          </a:prstGeom>
          <a:solidFill>
            <a:srgbClr val="f29000"/>
          </a:solidFill>
          <a:ln w="0">
            <a:noFill/>
          </a:ln>
          <a:effectLst>
            <a:outerShdw dist="17819" dir="2700000" blurRad="0" rotWithShape="0">
              <a:srgbClr val="905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746600" y="3083040"/>
            <a:ext cx="230040" cy="231840"/>
          </a:xfrm>
          <a:prstGeom prst="plus">
            <a:avLst>
              <a:gd name="adj" fmla="val 34176"/>
            </a:avLst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748040" y="3344760"/>
            <a:ext cx="230400" cy="233640"/>
          </a:xfrm>
          <a:prstGeom prst="plus">
            <a:avLst>
              <a:gd name="adj" fmla="val 34810"/>
            </a:avLst>
          </a:prstGeom>
          <a:solidFill>
            <a:srgbClr val="98c630"/>
          </a:solidFill>
          <a:ln w="0">
            <a:noFill/>
          </a:ln>
          <a:effectLst>
            <a:outerShdw dist="17819" dir="2700000" blurRad="0" rotWithShape="0">
              <a:srgbClr val="5a76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46600" y="4073400"/>
            <a:ext cx="230040" cy="231840"/>
          </a:xfrm>
          <a:prstGeom prst="plus">
            <a:avLst>
              <a:gd name="adj" fmla="val 36708"/>
            </a:avLst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48040" y="4335480"/>
            <a:ext cx="230400" cy="233280"/>
          </a:xfrm>
          <a:prstGeom prst="plus">
            <a:avLst>
              <a:gd name="adj" fmla="val 34176"/>
            </a:avLst>
          </a:prstGeom>
          <a:solidFill>
            <a:srgbClr val="eec100"/>
          </a:solidFill>
          <a:ln w="0">
            <a:noFill/>
          </a:ln>
          <a:effectLst>
            <a:outerShdw dist="17819" dir="2700000" blurRad="0" rotWithShape="0">
              <a:srgbClr val="8e7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746600" y="2217600"/>
            <a:ext cx="230040" cy="233640"/>
          </a:xfrm>
          <a:prstGeom prst="plus">
            <a:avLst>
              <a:gd name="adj" fmla="val 34810"/>
            </a:avLst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000" bIns="27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748040" y="2479680"/>
            <a:ext cx="230400" cy="233280"/>
          </a:xfrm>
          <a:prstGeom prst="plus">
            <a:avLst>
              <a:gd name="adj" fmla="val 34810"/>
            </a:avLst>
          </a:prstGeom>
          <a:solidFill>
            <a:srgbClr val="f29000"/>
          </a:solidFill>
          <a:ln w="0">
            <a:noFill/>
          </a:ln>
          <a:effectLst>
            <a:outerShdw dist="17819" dir="2700000" blurRad="0" rotWithShape="0">
              <a:srgbClr val="905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004160" y="2171880"/>
            <a:ext cx="74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073920" y="3022560"/>
            <a:ext cx="74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578720" y="4030560"/>
            <a:ext cx="74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宋体"/>
              </a:rPr>
              <a:t>8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543800" y="2427120"/>
            <a:ext cx="74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648480" y="3294000"/>
            <a:ext cx="74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302600" y="4282920"/>
            <a:ext cx="74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832280" y="5003640"/>
            <a:ext cx="1332000" cy="14940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832280" y="5268960"/>
            <a:ext cx="1940040" cy="156960"/>
          </a:xfrm>
          <a:prstGeom prst="rect">
            <a:avLst/>
          </a:prstGeom>
          <a:solidFill>
            <a:srgbClr val="53aadb"/>
          </a:solidFill>
          <a:ln w="0">
            <a:noFill/>
          </a:ln>
          <a:effectLst>
            <a:outerShdw dist="17819" dir="2700000" blurRad="0" rotWithShape="0">
              <a:srgbClr val="31658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746600" y="4976640"/>
            <a:ext cx="230040" cy="231840"/>
          </a:xfrm>
          <a:prstGeom prst="plus">
            <a:avLst>
              <a:gd name="adj" fmla="val 35444"/>
            </a:avLst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48040" y="5238720"/>
            <a:ext cx="230400" cy="233280"/>
          </a:xfrm>
          <a:prstGeom prst="plus">
            <a:avLst>
              <a:gd name="adj" fmla="val 34176"/>
            </a:avLst>
          </a:prstGeom>
          <a:solidFill>
            <a:srgbClr val="53aadb"/>
          </a:solidFill>
          <a:ln w="0">
            <a:noFill/>
          </a:ln>
          <a:effectLst>
            <a:outerShdw dist="17819" dir="2700000" blurRad="0" rotWithShape="0">
              <a:srgbClr val="31658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073920" y="4916520"/>
            <a:ext cx="74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648480" y="5187960"/>
            <a:ext cx="74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3902040" y="2046240"/>
            <a:ext cx="757440" cy="759960"/>
            <a:chOff x="3902040" y="2046240"/>
            <a:chExt cx="757440" cy="759960"/>
          </a:xfrm>
        </p:grpSpPr>
        <p:sp>
          <p:nvSpPr>
            <p:cNvPr id="384" name=""/>
            <p:cNvSpPr/>
            <p:nvPr/>
          </p:nvSpPr>
          <p:spPr>
            <a:xfrm>
              <a:off x="3902040" y="2049120"/>
              <a:ext cx="757440" cy="757080"/>
            </a:xfrm>
            <a:prstGeom prst="ellipse">
              <a:avLst/>
            </a:prstGeom>
            <a:solidFill>
              <a:srgbClr val="f29000"/>
            </a:solidFill>
            <a:ln w="28440">
              <a:solidFill>
                <a:srgbClr val="f8f8f8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5" name="" descr=""/>
            <p:cNvPicPr/>
            <p:nvPr/>
          </p:nvPicPr>
          <p:blipFill>
            <a:blip r:embed="rId1"/>
            <a:stretch/>
          </p:blipFill>
          <p:spPr>
            <a:xfrm>
              <a:off x="3920760" y="2046240"/>
              <a:ext cx="707760" cy="56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6" name=""/>
          <p:cNvGrpSpPr/>
          <p:nvPr/>
        </p:nvGrpSpPr>
        <p:grpSpPr>
          <a:xfrm>
            <a:off x="3902040" y="2965320"/>
            <a:ext cx="757440" cy="761760"/>
            <a:chOff x="3902040" y="2965320"/>
            <a:chExt cx="757440" cy="761760"/>
          </a:xfrm>
        </p:grpSpPr>
        <p:sp>
          <p:nvSpPr>
            <p:cNvPr id="387" name=""/>
            <p:cNvSpPr/>
            <p:nvPr/>
          </p:nvSpPr>
          <p:spPr>
            <a:xfrm>
              <a:off x="3902040" y="2968200"/>
              <a:ext cx="757440" cy="758880"/>
            </a:xfrm>
            <a:prstGeom prst="ellipse">
              <a:avLst/>
            </a:prstGeom>
            <a:solidFill>
              <a:srgbClr val="98c630"/>
            </a:solidFill>
            <a:ln w="28440">
              <a:solidFill>
                <a:srgbClr val="f8f8f8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8" name="" descr=""/>
            <p:cNvPicPr/>
            <p:nvPr/>
          </p:nvPicPr>
          <p:blipFill>
            <a:blip r:embed="rId2"/>
            <a:stretch/>
          </p:blipFill>
          <p:spPr>
            <a:xfrm>
              <a:off x="3920760" y="2965320"/>
              <a:ext cx="707760" cy="56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9" name=""/>
          <p:cNvGrpSpPr/>
          <p:nvPr/>
        </p:nvGrpSpPr>
        <p:grpSpPr>
          <a:xfrm>
            <a:off x="3902040" y="3956040"/>
            <a:ext cx="757440" cy="759960"/>
            <a:chOff x="3902040" y="3956040"/>
            <a:chExt cx="757440" cy="759960"/>
          </a:xfrm>
        </p:grpSpPr>
        <p:sp>
          <p:nvSpPr>
            <p:cNvPr id="390" name=""/>
            <p:cNvSpPr/>
            <p:nvPr/>
          </p:nvSpPr>
          <p:spPr>
            <a:xfrm>
              <a:off x="3902040" y="3958920"/>
              <a:ext cx="757440" cy="757080"/>
            </a:xfrm>
            <a:prstGeom prst="ellipse">
              <a:avLst/>
            </a:prstGeom>
            <a:solidFill>
              <a:srgbClr val="eec100"/>
            </a:solidFill>
            <a:ln w="28440">
              <a:solidFill>
                <a:srgbClr val="f8f8f8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1" name="" descr=""/>
            <p:cNvPicPr/>
            <p:nvPr/>
          </p:nvPicPr>
          <p:blipFill>
            <a:blip r:embed="rId3"/>
            <a:stretch/>
          </p:blipFill>
          <p:spPr>
            <a:xfrm>
              <a:off x="3920760" y="3956040"/>
              <a:ext cx="707760" cy="56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"/>
          <p:cNvGrpSpPr/>
          <p:nvPr/>
        </p:nvGrpSpPr>
        <p:grpSpPr>
          <a:xfrm>
            <a:off x="3890880" y="4846680"/>
            <a:ext cx="755640" cy="759960"/>
            <a:chOff x="3890880" y="4846680"/>
            <a:chExt cx="755640" cy="759960"/>
          </a:xfrm>
        </p:grpSpPr>
        <p:sp>
          <p:nvSpPr>
            <p:cNvPr id="393" name=""/>
            <p:cNvSpPr/>
            <p:nvPr/>
          </p:nvSpPr>
          <p:spPr>
            <a:xfrm>
              <a:off x="3890880" y="4849560"/>
              <a:ext cx="755640" cy="757080"/>
            </a:xfrm>
            <a:prstGeom prst="ellipse">
              <a:avLst/>
            </a:prstGeom>
            <a:solidFill>
              <a:srgbClr val="53aadb"/>
            </a:solidFill>
            <a:ln w="28440">
              <a:solidFill>
                <a:srgbClr val="f8f8f8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4" name="" descr=""/>
            <p:cNvPicPr/>
            <p:nvPr/>
          </p:nvPicPr>
          <p:blipFill>
            <a:blip r:embed="rId4"/>
            <a:stretch/>
          </p:blipFill>
          <p:spPr>
            <a:xfrm>
              <a:off x="3909600" y="4846680"/>
              <a:ext cx="706320" cy="56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5" name=""/>
          <p:cNvGrpSpPr/>
          <p:nvPr/>
        </p:nvGrpSpPr>
        <p:grpSpPr>
          <a:xfrm>
            <a:off x="4073400" y="2259000"/>
            <a:ext cx="414360" cy="314280"/>
            <a:chOff x="4073400" y="2259000"/>
            <a:chExt cx="414360" cy="314280"/>
          </a:xfrm>
        </p:grpSpPr>
        <p:sp>
          <p:nvSpPr>
            <p:cNvPr id="396" name="未知"/>
            <p:cNvSpPr/>
            <p:nvPr/>
          </p:nvSpPr>
          <p:spPr>
            <a:xfrm>
              <a:off x="4073400" y="2259000"/>
              <a:ext cx="207720" cy="314280"/>
            </a:xfrm>
            <a:custGeom>
              <a:avLst/>
              <a:gdLst/>
              <a:ahLst/>
              <a:rect l="l" t="t" r="r" b="b"/>
              <a:pathLst>
                <a:path w="200" h="300">
                  <a:moveTo>
                    <a:pt x="200" y="172"/>
                  </a:moveTo>
                  <a:lnTo>
                    <a:pt x="195" y="172"/>
                  </a:lnTo>
                  <a:lnTo>
                    <a:pt x="192" y="169"/>
                  </a:lnTo>
                  <a:lnTo>
                    <a:pt x="65" y="42"/>
                  </a:lnTo>
                  <a:lnTo>
                    <a:pt x="200" y="4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00"/>
                  </a:lnTo>
                  <a:lnTo>
                    <a:pt x="200" y="300"/>
                  </a:lnTo>
                  <a:lnTo>
                    <a:pt x="200" y="258"/>
                  </a:lnTo>
                  <a:lnTo>
                    <a:pt x="65" y="258"/>
                  </a:lnTo>
                  <a:lnTo>
                    <a:pt x="150" y="174"/>
                  </a:lnTo>
                  <a:lnTo>
                    <a:pt x="186" y="208"/>
                  </a:lnTo>
                  <a:lnTo>
                    <a:pt x="189" y="211"/>
                  </a:lnTo>
                  <a:lnTo>
                    <a:pt x="195" y="214"/>
                  </a:lnTo>
                  <a:lnTo>
                    <a:pt x="200" y="214"/>
                  </a:lnTo>
                  <a:lnTo>
                    <a:pt x="200" y="172"/>
                  </a:lnTo>
                  <a:close/>
                  <a:moveTo>
                    <a:pt x="42" y="64"/>
                  </a:moveTo>
                  <a:lnTo>
                    <a:pt x="126" y="150"/>
                  </a:lnTo>
                  <a:lnTo>
                    <a:pt x="42" y="23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4281120" y="2259000"/>
              <a:ext cx="206640" cy="314280"/>
            </a:xfrm>
            <a:custGeom>
              <a:avLst/>
              <a:gdLst/>
              <a:ahLst/>
              <a:rect l="l" t="t" r="r" b="b"/>
              <a:pathLst>
                <a:path w="199" h="300">
                  <a:moveTo>
                    <a:pt x="0" y="214"/>
                  </a:moveTo>
                  <a:lnTo>
                    <a:pt x="6" y="214"/>
                  </a:lnTo>
                  <a:lnTo>
                    <a:pt x="10" y="211"/>
                  </a:lnTo>
                  <a:lnTo>
                    <a:pt x="15" y="208"/>
                  </a:lnTo>
                  <a:lnTo>
                    <a:pt x="51" y="174"/>
                  </a:lnTo>
                  <a:lnTo>
                    <a:pt x="135" y="258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199" y="300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35" y="42"/>
                  </a:lnTo>
                  <a:lnTo>
                    <a:pt x="7" y="169"/>
                  </a:lnTo>
                  <a:lnTo>
                    <a:pt x="4" y="172"/>
                  </a:lnTo>
                  <a:lnTo>
                    <a:pt x="0" y="172"/>
                  </a:lnTo>
                  <a:lnTo>
                    <a:pt x="0" y="214"/>
                  </a:lnTo>
                  <a:close/>
                  <a:moveTo>
                    <a:pt x="157" y="234"/>
                  </a:moveTo>
                  <a:lnTo>
                    <a:pt x="73" y="150"/>
                  </a:lnTo>
                  <a:lnTo>
                    <a:pt x="157" y="64"/>
                  </a:lnTo>
                  <a:lnTo>
                    <a:pt x="157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未知"/>
          <p:cNvSpPr/>
          <p:nvPr/>
        </p:nvSpPr>
        <p:spPr>
          <a:xfrm>
            <a:off x="4119480" y="5029200"/>
            <a:ext cx="401760" cy="419040"/>
          </a:xfrm>
          <a:custGeom>
            <a:avLst/>
            <a:gdLst/>
            <a:ahLst/>
            <a:rect l="l" t="t" r="r" b="b"/>
            <a:pathLst>
              <a:path w="366" h="377">
                <a:moveTo>
                  <a:pt x="357" y="288"/>
                </a:moveTo>
                <a:lnTo>
                  <a:pt x="309" y="288"/>
                </a:lnTo>
                <a:lnTo>
                  <a:pt x="306" y="290"/>
                </a:lnTo>
                <a:lnTo>
                  <a:pt x="303" y="291"/>
                </a:lnTo>
                <a:lnTo>
                  <a:pt x="277" y="306"/>
                </a:lnTo>
                <a:lnTo>
                  <a:pt x="250" y="318"/>
                </a:lnTo>
                <a:lnTo>
                  <a:pt x="223" y="326"/>
                </a:lnTo>
                <a:lnTo>
                  <a:pt x="193" y="327"/>
                </a:lnTo>
                <a:lnTo>
                  <a:pt x="163" y="326"/>
                </a:lnTo>
                <a:lnTo>
                  <a:pt x="136" y="318"/>
                </a:lnTo>
                <a:lnTo>
                  <a:pt x="112" y="306"/>
                </a:lnTo>
                <a:lnTo>
                  <a:pt x="91" y="291"/>
                </a:lnTo>
                <a:lnTo>
                  <a:pt x="75" y="270"/>
                </a:lnTo>
                <a:lnTo>
                  <a:pt x="61" y="248"/>
                </a:lnTo>
                <a:lnTo>
                  <a:pt x="55" y="222"/>
                </a:lnTo>
                <a:lnTo>
                  <a:pt x="52" y="192"/>
                </a:lnTo>
                <a:lnTo>
                  <a:pt x="55" y="161"/>
                </a:lnTo>
                <a:lnTo>
                  <a:pt x="63" y="134"/>
                </a:lnTo>
                <a:lnTo>
                  <a:pt x="75" y="110"/>
                </a:lnTo>
                <a:lnTo>
                  <a:pt x="93" y="89"/>
                </a:lnTo>
                <a:lnTo>
                  <a:pt x="114" y="71"/>
                </a:lnTo>
                <a:lnTo>
                  <a:pt x="139" y="59"/>
                </a:lnTo>
                <a:lnTo>
                  <a:pt x="166" y="53"/>
                </a:lnTo>
                <a:lnTo>
                  <a:pt x="196" y="50"/>
                </a:lnTo>
                <a:lnTo>
                  <a:pt x="225" y="53"/>
                </a:lnTo>
                <a:lnTo>
                  <a:pt x="249" y="60"/>
                </a:lnTo>
                <a:lnTo>
                  <a:pt x="271" y="72"/>
                </a:lnTo>
                <a:lnTo>
                  <a:pt x="264" y="72"/>
                </a:lnTo>
                <a:lnTo>
                  <a:pt x="253" y="72"/>
                </a:lnTo>
                <a:lnTo>
                  <a:pt x="243" y="72"/>
                </a:lnTo>
                <a:lnTo>
                  <a:pt x="234" y="72"/>
                </a:lnTo>
                <a:lnTo>
                  <a:pt x="229" y="72"/>
                </a:lnTo>
                <a:lnTo>
                  <a:pt x="226" y="72"/>
                </a:lnTo>
                <a:lnTo>
                  <a:pt x="223" y="75"/>
                </a:lnTo>
                <a:lnTo>
                  <a:pt x="220" y="80"/>
                </a:lnTo>
                <a:lnTo>
                  <a:pt x="220" y="80"/>
                </a:lnTo>
                <a:lnTo>
                  <a:pt x="220" y="81"/>
                </a:lnTo>
                <a:lnTo>
                  <a:pt x="220" y="84"/>
                </a:lnTo>
                <a:lnTo>
                  <a:pt x="214" y="78"/>
                </a:lnTo>
                <a:lnTo>
                  <a:pt x="207" y="74"/>
                </a:lnTo>
                <a:lnTo>
                  <a:pt x="192" y="68"/>
                </a:lnTo>
                <a:lnTo>
                  <a:pt x="174" y="65"/>
                </a:lnTo>
                <a:lnTo>
                  <a:pt x="151" y="68"/>
                </a:lnTo>
                <a:lnTo>
                  <a:pt x="130" y="77"/>
                </a:lnTo>
                <a:lnTo>
                  <a:pt x="112" y="90"/>
                </a:lnTo>
                <a:lnTo>
                  <a:pt x="96" y="110"/>
                </a:lnTo>
                <a:lnTo>
                  <a:pt x="78" y="140"/>
                </a:lnTo>
                <a:lnTo>
                  <a:pt x="69" y="171"/>
                </a:lnTo>
                <a:lnTo>
                  <a:pt x="64" y="207"/>
                </a:lnTo>
                <a:lnTo>
                  <a:pt x="67" y="234"/>
                </a:lnTo>
                <a:lnTo>
                  <a:pt x="75" y="257"/>
                </a:lnTo>
                <a:lnTo>
                  <a:pt x="88" y="276"/>
                </a:lnTo>
                <a:lnTo>
                  <a:pt x="105" y="291"/>
                </a:lnTo>
                <a:lnTo>
                  <a:pt x="126" y="302"/>
                </a:lnTo>
                <a:lnTo>
                  <a:pt x="150" y="305"/>
                </a:lnTo>
                <a:lnTo>
                  <a:pt x="166" y="303"/>
                </a:lnTo>
                <a:lnTo>
                  <a:pt x="180" y="299"/>
                </a:lnTo>
                <a:lnTo>
                  <a:pt x="187" y="294"/>
                </a:lnTo>
                <a:lnTo>
                  <a:pt x="193" y="290"/>
                </a:lnTo>
                <a:lnTo>
                  <a:pt x="201" y="285"/>
                </a:lnTo>
                <a:lnTo>
                  <a:pt x="205" y="293"/>
                </a:lnTo>
                <a:lnTo>
                  <a:pt x="214" y="299"/>
                </a:lnTo>
                <a:lnTo>
                  <a:pt x="225" y="303"/>
                </a:lnTo>
                <a:lnTo>
                  <a:pt x="240" y="305"/>
                </a:lnTo>
                <a:lnTo>
                  <a:pt x="268" y="300"/>
                </a:lnTo>
                <a:lnTo>
                  <a:pt x="297" y="287"/>
                </a:lnTo>
                <a:lnTo>
                  <a:pt x="324" y="266"/>
                </a:lnTo>
                <a:lnTo>
                  <a:pt x="343" y="243"/>
                </a:lnTo>
                <a:lnTo>
                  <a:pt x="355" y="219"/>
                </a:lnTo>
                <a:lnTo>
                  <a:pt x="364" y="191"/>
                </a:lnTo>
                <a:lnTo>
                  <a:pt x="366" y="158"/>
                </a:lnTo>
                <a:lnTo>
                  <a:pt x="364" y="126"/>
                </a:lnTo>
                <a:lnTo>
                  <a:pt x="355" y="98"/>
                </a:lnTo>
                <a:lnTo>
                  <a:pt x="343" y="74"/>
                </a:lnTo>
                <a:lnTo>
                  <a:pt x="325" y="51"/>
                </a:lnTo>
                <a:lnTo>
                  <a:pt x="306" y="35"/>
                </a:lnTo>
                <a:lnTo>
                  <a:pt x="285" y="20"/>
                </a:lnTo>
                <a:lnTo>
                  <a:pt x="259" y="9"/>
                </a:lnTo>
                <a:lnTo>
                  <a:pt x="229" y="3"/>
                </a:lnTo>
                <a:lnTo>
                  <a:pt x="195" y="0"/>
                </a:lnTo>
                <a:lnTo>
                  <a:pt x="160" y="3"/>
                </a:lnTo>
                <a:lnTo>
                  <a:pt x="129" y="9"/>
                </a:lnTo>
                <a:lnTo>
                  <a:pt x="100" y="21"/>
                </a:lnTo>
                <a:lnTo>
                  <a:pt x="75" y="36"/>
                </a:lnTo>
                <a:lnTo>
                  <a:pt x="52" y="57"/>
                </a:lnTo>
                <a:lnTo>
                  <a:pt x="30" y="86"/>
                </a:lnTo>
                <a:lnTo>
                  <a:pt x="13" y="119"/>
                </a:lnTo>
                <a:lnTo>
                  <a:pt x="4" y="155"/>
                </a:lnTo>
                <a:lnTo>
                  <a:pt x="0" y="194"/>
                </a:lnTo>
                <a:lnTo>
                  <a:pt x="4" y="233"/>
                </a:lnTo>
                <a:lnTo>
                  <a:pt x="15" y="269"/>
                </a:lnTo>
                <a:lnTo>
                  <a:pt x="31" y="299"/>
                </a:lnTo>
                <a:lnTo>
                  <a:pt x="55" y="326"/>
                </a:lnTo>
                <a:lnTo>
                  <a:pt x="85" y="348"/>
                </a:lnTo>
                <a:lnTo>
                  <a:pt x="118" y="363"/>
                </a:lnTo>
                <a:lnTo>
                  <a:pt x="154" y="374"/>
                </a:lnTo>
                <a:lnTo>
                  <a:pt x="193" y="377"/>
                </a:lnTo>
                <a:lnTo>
                  <a:pt x="240" y="372"/>
                </a:lnTo>
                <a:lnTo>
                  <a:pt x="286" y="359"/>
                </a:lnTo>
                <a:lnTo>
                  <a:pt x="315" y="344"/>
                </a:lnTo>
                <a:lnTo>
                  <a:pt x="340" y="326"/>
                </a:lnTo>
                <a:lnTo>
                  <a:pt x="363" y="303"/>
                </a:lnTo>
                <a:lnTo>
                  <a:pt x="366" y="300"/>
                </a:lnTo>
                <a:lnTo>
                  <a:pt x="366" y="297"/>
                </a:lnTo>
                <a:lnTo>
                  <a:pt x="364" y="294"/>
                </a:lnTo>
                <a:lnTo>
                  <a:pt x="363" y="291"/>
                </a:lnTo>
                <a:lnTo>
                  <a:pt x="360" y="290"/>
                </a:lnTo>
                <a:lnTo>
                  <a:pt x="357" y="288"/>
                </a:lnTo>
                <a:close/>
                <a:moveTo>
                  <a:pt x="277" y="242"/>
                </a:moveTo>
                <a:lnTo>
                  <a:pt x="265" y="249"/>
                </a:lnTo>
                <a:lnTo>
                  <a:pt x="253" y="251"/>
                </a:lnTo>
                <a:lnTo>
                  <a:pt x="255" y="249"/>
                </a:lnTo>
                <a:lnTo>
                  <a:pt x="255" y="248"/>
                </a:lnTo>
                <a:lnTo>
                  <a:pt x="255" y="246"/>
                </a:lnTo>
                <a:lnTo>
                  <a:pt x="283" y="83"/>
                </a:lnTo>
                <a:lnTo>
                  <a:pt x="283" y="81"/>
                </a:lnTo>
                <a:lnTo>
                  <a:pt x="283" y="81"/>
                </a:lnTo>
                <a:lnTo>
                  <a:pt x="301" y="104"/>
                </a:lnTo>
                <a:lnTo>
                  <a:pt x="312" y="129"/>
                </a:lnTo>
                <a:lnTo>
                  <a:pt x="315" y="159"/>
                </a:lnTo>
                <a:lnTo>
                  <a:pt x="312" y="186"/>
                </a:lnTo>
                <a:lnTo>
                  <a:pt x="304" y="209"/>
                </a:lnTo>
                <a:lnTo>
                  <a:pt x="292" y="228"/>
                </a:lnTo>
                <a:lnTo>
                  <a:pt x="277" y="242"/>
                </a:lnTo>
                <a:close/>
                <a:moveTo>
                  <a:pt x="130" y="219"/>
                </a:moveTo>
                <a:lnTo>
                  <a:pt x="135" y="182"/>
                </a:lnTo>
                <a:lnTo>
                  <a:pt x="145" y="146"/>
                </a:lnTo>
                <a:lnTo>
                  <a:pt x="154" y="129"/>
                </a:lnTo>
                <a:lnTo>
                  <a:pt x="166" y="119"/>
                </a:lnTo>
                <a:lnTo>
                  <a:pt x="180" y="116"/>
                </a:lnTo>
                <a:lnTo>
                  <a:pt x="187" y="117"/>
                </a:lnTo>
                <a:lnTo>
                  <a:pt x="192" y="119"/>
                </a:lnTo>
                <a:lnTo>
                  <a:pt x="196" y="123"/>
                </a:lnTo>
                <a:lnTo>
                  <a:pt x="202" y="135"/>
                </a:lnTo>
                <a:lnTo>
                  <a:pt x="204" y="149"/>
                </a:lnTo>
                <a:lnTo>
                  <a:pt x="201" y="177"/>
                </a:lnTo>
                <a:lnTo>
                  <a:pt x="195" y="209"/>
                </a:lnTo>
                <a:lnTo>
                  <a:pt x="187" y="230"/>
                </a:lnTo>
                <a:lnTo>
                  <a:pt x="181" y="242"/>
                </a:lnTo>
                <a:lnTo>
                  <a:pt x="175" y="248"/>
                </a:lnTo>
                <a:lnTo>
                  <a:pt x="169" y="252"/>
                </a:lnTo>
                <a:lnTo>
                  <a:pt x="163" y="255"/>
                </a:lnTo>
                <a:lnTo>
                  <a:pt x="156" y="257"/>
                </a:lnTo>
                <a:lnTo>
                  <a:pt x="150" y="255"/>
                </a:lnTo>
                <a:lnTo>
                  <a:pt x="145" y="254"/>
                </a:lnTo>
                <a:lnTo>
                  <a:pt x="142" y="251"/>
                </a:lnTo>
                <a:lnTo>
                  <a:pt x="138" y="246"/>
                </a:lnTo>
                <a:lnTo>
                  <a:pt x="133" y="234"/>
                </a:lnTo>
                <a:lnTo>
                  <a:pt x="130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4076640" y="3124080"/>
            <a:ext cx="385560" cy="436680"/>
            <a:chOff x="4076640" y="3124080"/>
            <a:chExt cx="385560" cy="436680"/>
          </a:xfrm>
        </p:grpSpPr>
        <p:sp>
          <p:nvSpPr>
            <p:cNvPr id="400" name="未知"/>
            <p:cNvSpPr/>
            <p:nvPr/>
          </p:nvSpPr>
          <p:spPr>
            <a:xfrm>
              <a:off x="4076640" y="3162600"/>
              <a:ext cx="143280" cy="397800"/>
            </a:xfrm>
            <a:custGeom>
              <a:avLst/>
              <a:gdLst/>
              <a:ahLst/>
              <a:rect l="l" t="t" r="r" b="b"/>
              <a:pathLst>
                <a:path w="127" h="350">
                  <a:moveTo>
                    <a:pt x="34" y="0"/>
                  </a:moveTo>
                  <a:lnTo>
                    <a:pt x="21" y="2"/>
                  </a:lnTo>
                  <a:lnTo>
                    <a:pt x="10" y="9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0" y="315"/>
                  </a:lnTo>
                  <a:lnTo>
                    <a:pt x="3" y="329"/>
                  </a:lnTo>
                  <a:lnTo>
                    <a:pt x="10" y="341"/>
                  </a:lnTo>
                  <a:lnTo>
                    <a:pt x="21" y="348"/>
                  </a:lnTo>
                  <a:lnTo>
                    <a:pt x="34" y="350"/>
                  </a:lnTo>
                  <a:lnTo>
                    <a:pt x="127" y="350"/>
                  </a:lnTo>
                  <a:lnTo>
                    <a:pt x="127" y="314"/>
                  </a:lnTo>
                  <a:lnTo>
                    <a:pt x="36" y="314"/>
                  </a:lnTo>
                  <a:lnTo>
                    <a:pt x="3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4169160" y="3124080"/>
              <a:ext cx="293040" cy="436680"/>
            </a:xfrm>
            <a:custGeom>
              <a:avLst/>
              <a:gdLst/>
              <a:ahLst/>
              <a:rect l="l" t="t" r="r" b="b"/>
              <a:pathLst>
                <a:path w="260" h="384">
                  <a:moveTo>
                    <a:pt x="225" y="384"/>
                  </a:moveTo>
                  <a:lnTo>
                    <a:pt x="239" y="382"/>
                  </a:lnTo>
                  <a:lnTo>
                    <a:pt x="249" y="375"/>
                  </a:lnTo>
                  <a:lnTo>
                    <a:pt x="257" y="363"/>
                  </a:lnTo>
                  <a:lnTo>
                    <a:pt x="260" y="349"/>
                  </a:lnTo>
                  <a:lnTo>
                    <a:pt x="260" y="34"/>
                  </a:lnTo>
                  <a:lnTo>
                    <a:pt x="257" y="21"/>
                  </a:lnTo>
                  <a:lnTo>
                    <a:pt x="249" y="10"/>
                  </a:lnTo>
                  <a:lnTo>
                    <a:pt x="239" y="3"/>
                  </a:lnTo>
                  <a:lnTo>
                    <a:pt x="225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8" y="7"/>
                  </a:lnTo>
                  <a:lnTo>
                    <a:pt x="47" y="12"/>
                  </a:lnTo>
                  <a:lnTo>
                    <a:pt x="45" y="18"/>
                  </a:lnTo>
                  <a:lnTo>
                    <a:pt x="45" y="118"/>
                  </a:lnTo>
                  <a:lnTo>
                    <a:pt x="44" y="123"/>
                  </a:lnTo>
                  <a:lnTo>
                    <a:pt x="39" y="133"/>
                  </a:lnTo>
                  <a:lnTo>
                    <a:pt x="33" y="145"/>
                  </a:lnTo>
                  <a:lnTo>
                    <a:pt x="26" y="160"/>
                  </a:lnTo>
                  <a:lnTo>
                    <a:pt x="18" y="175"/>
                  </a:lnTo>
                  <a:lnTo>
                    <a:pt x="12" y="190"/>
                  </a:lnTo>
                  <a:lnTo>
                    <a:pt x="6" y="202"/>
                  </a:lnTo>
                  <a:lnTo>
                    <a:pt x="3" y="210"/>
                  </a:lnTo>
                  <a:lnTo>
                    <a:pt x="2" y="213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6"/>
                  </a:lnTo>
                  <a:lnTo>
                    <a:pt x="2" y="231"/>
                  </a:lnTo>
                  <a:lnTo>
                    <a:pt x="6" y="235"/>
                  </a:lnTo>
                  <a:lnTo>
                    <a:pt x="12" y="238"/>
                  </a:lnTo>
                  <a:lnTo>
                    <a:pt x="18" y="238"/>
                  </a:lnTo>
                  <a:lnTo>
                    <a:pt x="21" y="238"/>
                  </a:lnTo>
                  <a:lnTo>
                    <a:pt x="32" y="238"/>
                  </a:lnTo>
                  <a:lnTo>
                    <a:pt x="45" y="238"/>
                  </a:lnTo>
                  <a:lnTo>
                    <a:pt x="45" y="384"/>
                  </a:lnTo>
                  <a:lnTo>
                    <a:pt x="225" y="384"/>
                  </a:lnTo>
                  <a:close/>
                  <a:moveTo>
                    <a:pt x="224" y="348"/>
                  </a:moveTo>
                  <a:lnTo>
                    <a:pt x="81" y="348"/>
                  </a:lnTo>
                  <a:lnTo>
                    <a:pt x="81" y="334"/>
                  </a:lnTo>
                  <a:lnTo>
                    <a:pt x="81" y="316"/>
                  </a:lnTo>
                  <a:lnTo>
                    <a:pt x="81" y="295"/>
                  </a:lnTo>
                  <a:lnTo>
                    <a:pt x="81" y="274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5"/>
                  </a:lnTo>
                  <a:lnTo>
                    <a:pt x="81" y="220"/>
                  </a:lnTo>
                  <a:lnTo>
                    <a:pt x="81" y="216"/>
                  </a:lnTo>
                  <a:lnTo>
                    <a:pt x="78" y="211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68" y="204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5" y="202"/>
                  </a:lnTo>
                  <a:lnTo>
                    <a:pt x="53" y="187"/>
                  </a:lnTo>
                  <a:lnTo>
                    <a:pt x="60" y="171"/>
                  </a:lnTo>
                  <a:lnTo>
                    <a:pt x="68" y="156"/>
                  </a:lnTo>
                  <a:lnTo>
                    <a:pt x="74" y="142"/>
                  </a:lnTo>
                  <a:lnTo>
                    <a:pt x="78" y="133"/>
                  </a:lnTo>
                  <a:lnTo>
                    <a:pt x="80" y="130"/>
                  </a:lnTo>
                  <a:lnTo>
                    <a:pt x="81" y="126"/>
                  </a:lnTo>
                  <a:lnTo>
                    <a:pt x="81" y="123"/>
                  </a:lnTo>
                  <a:lnTo>
                    <a:pt x="81" y="118"/>
                  </a:lnTo>
                  <a:lnTo>
                    <a:pt x="81" y="106"/>
                  </a:lnTo>
                  <a:lnTo>
                    <a:pt x="81" y="88"/>
                  </a:lnTo>
                  <a:lnTo>
                    <a:pt x="81" y="70"/>
                  </a:lnTo>
                  <a:lnTo>
                    <a:pt x="81" y="52"/>
                  </a:lnTo>
                  <a:lnTo>
                    <a:pt x="81" y="36"/>
                  </a:lnTo>
                  <a:lnTo>
                    <a:pt x="224" y="36"/>
                  </a:lnTo>
                  <a:lnTo>
                    <a:pt x="224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279680" y="3240000"/>
              <a:ext cx="30240" cy="45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117320" y="3162600"/>
              <a:ext cx="102600" cy="4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4041720" y="4089240"/>
            <a:ext cx="490680" cy="495360"/>
            <a:chOff x="4041720" y="4089240"/>
            <a:chExt cx="490680" cy="495360"/>
          </a:xfrm>
        </p:grpSpPr>
        <p:sp>
          <p:nvSpPr>
            <p:cNvPr id="405" name="未知"/>
            <p:cNvSpPr/>
            <p:nvPr/>
          </p:nvSpPr>
          <p:spPr>
            <a:xfrm>
              <a:off x="4041720" y="4089240"/>
              <a:ext cx="490680" cy="49536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4165920" y="4245480"/>
              <a:ext cx="243000" cy="22896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685800" y="1905120"/>
            <a:ext cx="7848720" cy="3890880"/>
          </a:xfrm>
          <a:prstGeom prst="roundRect">
            <a:avLst>
              <a:gd name="adj" fmla="val 4657"/>
            </a:avLst>
          </a:prstGeom>
          <a:noFill/>
          <a:ln cap="rnd" w="3240">
            <a:solidFill>
              <a:srgbClr val="000000">
                <a:alpha val="28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914400" y="1295280"/>
            <a:ext cx="556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a6f3"/>
            </a:gs>
            <a:gs pos="100000">
              <a:srgbClr val="ddf2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4370400" y="1771560"/>
            <a:ext cx="3471840" cy="10000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c67600"/>
              </a:gs>
              <a:gs pos="100000">
                <a:srgbClr val="f29000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373640" y="3016080"/>
            <a:ext cx="3471840" cy="10004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7ca227"/>
              </a:gs>
              <a:gs pos="100000">
                <a:srgbClr val="98c630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376880" y="4264200"/>
            <a:ext cx="3471840" cy="10000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448bb3"/>
              </a:gs>
              <a:gs pos="100000">
                <a:srgbClr val="53aadb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4432320" y="1819440"/>
            <a:ext cx="743040" cy="6318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4430880" y="3067200"/>
            <a:ext cx="742680" cy="6318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3"/>
          <a:stretch/>
        </p:blipFill>
        <p:spPr>
          <a:xfrm>
            <a:off x="4429080" y="4308480"/>
            <a:ext cx="743040" cy="631800"/>
          </a:xfrm>
          <a:prstGeom prst="rect">
            <a:avLst/>
          </a:prstGeom>
          <a:ln w="0">
            <a:noFill/>
          </a:ln>
        </p:spPr>
      </p:pic>
      <p:grpSp>
        <p:nvGrpSpPr>
          <p:cNvPr id="416" name=""/>
          <p:cNvGrpSpPr/>
          <p:nvPr/>
        </p:nvGrpSpPr>
        <p:grpSpPr>
          <a:xfrm>
            <a:off x="1376280" y="1552680"/>
            <a:ext cx="1761840" cy="1799640"/>
            <a:chOff x="1376280" y="1552680"/>
            <a:chExt cx="1761840" cy="1799640"/>
          </a:xfrm>
        </p:grpSpPr>
        <p:pic>
          <p:nvPicPr>
            <p:cNvPr id="417" name="" descr=""/>
            <p:cNvPicPr/>
            <p:nvPr/>
          </p:nvPicPr>
          <p:blipFill>
            <a:blip r:embed="rId4"/>
            <a:stretch/>
          </p:blipFill>
          <p:spPr>
            <a:xfrm>
              <a:off x="1376280" y="1552680"/>
              <a:ext cx="1761840" cy="170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1376280" y="1552680"/>
              <a:ext cx="1750320" cy="1712520"/>
            </a:xfrm>
            <a:prstGeom prst="ellipse">
              <a:avLst/>
            </a:prstGeom>
            <a:gradFill rotWithShape="0">
              <a:gsLst>
                <a:gs pos="0">
                  <a:srgbClr val="404040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0404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1558080" y="1586880"/>
              <a:ext cx="1374840" cy="5943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1501200" y="2734920"/>
              <a:ext cx="1544760" cy="617400"/>
              <a:chOff x="1501200" y="2734920"/>
              <a:chExt cx="1544760" cy="61740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1770840" y="2734920"/>
                <a:ext cx="1275120" cy="578880"/>
                <a:chOff x="1770840" y="2734920"/>
                <a:chExt cx="1275120" cy="578880"/>
              </a:xfrm>
            </p:grpSpPr>
            <p:sp>
              <p:nvSpPr>
                <p:cNvPr id="422" name=""/>
                <p:cNvSpPr/>
                <p:nvPr/>
              </p:nvSpPr>
              <p:spPr>
                <a:xfrm flipH="1" flipV="1" rot="3964800">
                  <a:off x="2466000" y="2560680"/>
                  <a:ext cx="221760" cy="927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 flipV="1" rot="4780200">
                  <a:off x="2323080" y="2618280"/>
                  <a:ext cx="221760" cy="927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H="1" flipV="1" rot="5076000">
                  <a:off x="2235240" y="2629800"/>
                  <a:ext cx="221760" cy="927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H="1" flipV="1" rot="5608200">
                  <a:off x="2129040" y="2639520"/>
                  <a:ext cx="221760" cy="927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1501200" y="2744640"/>
                <a:ext cx="1273680" cy="607680"/>
                <a:chOff x="1501200" y="2744640"/>
                <a:chExt cx="1273680" cy="607680"/>
              </a:xfrm>
            </p:grpSpPr>
            <p:sp>
              <p:nvSpPr>
                <p:cNvPr id="427" name=""/>
                <p:cNvSpPr/>
                <p:nvPr/>
              </p:nvSpPr>
              <p:spPr>
                <a:xfrm flipH="1" flipV="1" rot="5317800">
                  <a:off x="2197080" y="2640240"/>
                  <a:ext cx="222840" cy="927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flipH="1" flipV="1" rot="6133800">
                  <a:off x="2043360" y="2637360"/>
                  <a:ext cx="22284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flipH="1" flipV="1" rot="6429000">
                  <a:off x="1956240" y="2615760"/>
                  <a:ext cx="222840" cy="927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flipH="1" flipV="1" rot="6961200">
                  <a:off x="1854360" y="2584800"/>
                  <a:ext cx="222840" cy="927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31" name=""/>
          <p:cNvGrpSpPr/>
          <p:nvPr/>
        </p:nvGrpSpPr>
        <p:grpSpPr>
          <a:xfrm>
            <a:off x="1420920" y="3762360"/>
            <a:ext cx="1761480" cy="1798200"/>
            <a:chOff x="1420920" y="3762360"/>
            <a:chExt cx="1761480" cy="1798200"/>
          </a:xfrm>
        </p:grpSpPr>
        <p:pic>
          <p:nvPicPr>
            <p:cNvPr id="432" name="" descr=""/>
            <p:cNvPicPr/>
            <p:nvPr/>
          </p:nvPicPr>
          <p:blipFill>
            <a:blip r:embed="rId5"/>
            <a:stretch/>
          </p:blipFill>
          <p:spPr>
            <a:xfrm>
              <a:off x="1420920" y="3762360"/>
              <a:ext cx="1761480" cy="170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1420920" y="3762360"/>
              <a:ext cx="1749960" cy="1711080"/>
            </a:xfrm>
            <a:prstGeom prst="ellipse">
              <a:avLst/>
            </a:prstGeom>
            <a:gradFill rotWithShape="0">
              <a:gsLst>
                <a:gs pos="0">
                  <a:srgbClr val="404040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0404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未知"/>
            <p:cNvSpPr/>
            <p:nvPr/>
          </p:nvSpPr>
          <p:spPr>
            <a:xfrm>
              <a:off x="1602720" y="3796560"/>
              <a:ext cx="1374480" cy="5936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1545840" y="4944600"/>
              <a:ext cx="1544760" cy="615960"/>
              <a:chOff x="1545840" y="4944600"/>
              <a:chExt cx="1544760" cy="615960"/>
            </a:xfrm>
          </p:grpSpPr>
          <p:grpSp>
            <p:nvGrpSpPr>
              <p:cNvPr id="436" name=""/>
              <p:cNvGrpSpPr/>
              <p:nvPr/>
            </p:nvGrpSpPr>
            <p:grpSpPr>
              <a:xfrm>
                <a:off x="1815480" y="4944600"/>
                <a:ext cx="1275120" cy="577800"/>
                <a:chOff x="1815480" y="4944600"/>
                <a:chExt cx="1275120" cy="577800"/>
              </a:xfrm>
            </p:grpSpPr>
            <p:sp>
              <p:nvSpPr>
                <p:cNvPr id="437" name=""/>
                <p:cNvSpPr/>
                <p:nvPr/>
              </p:nvSpPr>
              <p:spPr>
                <a:xfrm flipH="1" flipV="1" rot="3964800">
                  <a:off x="2511360" y="4769640"/>
                  <a:ext cx="221400" cy="926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flipH="1" flipV="1" rot="4780200">
                  <a:off x="2368440" y="4826520"/>
                  <a:ext cx="221400" cy="926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flipH="1" flipV="1" rot="5076000">
                  <a:off x="2279880" y="4838400"/>
                  <a:ext cx="221400" cy="927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flipH="1" flipV="1" rot="5608200">
                  <a:off x="2174040" y="4848840"/>
                  <a:ext cx="221400" cy="927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1545840" y="4953960"/>
                <a:ext cx="1273680" cy="606600"/>
                <a:chOff x="1545840" y="4953960"/>
                <a:chExt cx="1273680" cy="606600"/>
              </a:xfrm>
            </p:grpSpPr>
            <p:sp>
              <p:nvSpPr>
                <p:cNvPr id="442" name=""/>
                <p:cNvSpPr/>
                <p:nvPr/>
              </p:nvSpPr>
              <p:spPr>
                <a:xfrm flipH="1" flipV="1" rot="5317800">
                  <a:off x="2241720" y="4849200"/>
                  <a:ext cx="222480" cy="927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flipH="1" flipV="1" rot="6133800">
                  <a:off x="2087280" y="4847040"/>
                  <a:ext cx="222480" cy="927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H="1" flipV="1" rot="6429000">
                  <a:off x="2002320" y="4824360"/>
                  <a:ext cx="222480" cy="927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H="1" flipV="1" rot="6961200">
                  <a:off x="1899360" y="4793400"/>
                  <a:ext cx="222480" cy="927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46" name=""/>
          <p:cNvSpPr/>
          <p:nvPr/>
        </p:nvSpPr>
        <p:spPr>
          <a:xfrm>
            <a:off x="4497480" y="3139920"/>
            <a:ext cx="3213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Description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company’s sub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497480" y="1887480"/>
            <a:ext cx="3213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Description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company’s sub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97480" y="4370400"/>
            <a:ext cx="3213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Description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company’s sub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371600" y="2124000"/>
            <a:ext cx="178740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42880" y="4332240"/>
            <a:ext cx="178776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未知"/>
          <p:cNvSpPr/>
          <p:nvPr/>
        </p:nvSpPr>
        <p:spPr>
          <a:xfrm rot="16200000">
            <a:off x="3068640" y="4269960"/>
            <a:ext cx="1522440" cy="90972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未知"/>
          <p:cNvSpPr/>
          <p:nvPr/>
        </p:nvSpPr>
        <p:spPr>
          <a:xfrm rot="16200000">
            <a:off x="3599640" y="3006000"/>
            <a:ext cx="295200" cy="103032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未知"/>
          <p:cNvSpPr/>
          <p:nvPr/>
        </p:nvSpPr>
        <p:spPr>
          <a:xfrm flipH="1" rot="16200000">
            <a:off x="3031200" y="1865880"/>
            <a:ext cx="1522440" cy="90792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5" name=""/>
          <p:cNvSpPr/>
          <p:nvPr/>
        </p:nvSpPr>
        <p:spPr>
          <a:xfrm>
            <a:off x="716184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a6f3"/>
            </a:gs>
            <a:gs pos="100000">
              <a:srgbClr val="ddf2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7" name=""/>
          <p:cNvSpPr/>
          <p:nvPr/>
        </p:nvSpPr>
        <p:spPr>
          <a:xfrm rot="17973000">
            <a:off x="4868640" y="2704680"/>
            <a:ext cx="730440" cy="266760"/>
          </a:xfrm>
          <a:prstGeom prst="rightArrow">
            <a:avLst>
              <a:gd name="adj1" fmla="val 35167"/>
              <a:gd name="adj2" fmla="val 110884"/>
            </a:avLst>
          </a:prstGeom>
          <a:gradFill rotWithShape="0">
            <a:gsLst>
              <a:gs pos="0">
                <a:srgbClr val="5f5f5f"/>
              </a:gs>
              <a:gs pos="100000">
                <a:srgbClr val="3c3c3c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3465600">
            <a:off x="4869000" y="4696920"/>
            <a:ext cx="728640" cy="266760"/>
          </a:xfrm>
          <a:prstGeom prst="rightArrow">
            <a:avLst>
              <a:gd name="adj1" fmla="val 35167"/>
              <a:gd name="adj2" fmla="val 110611"/>
            </a:avLst>
          </a:prstGeom>
          <a:gradFill rotWithShape="0">
            <a:gsLst>
              <a:gs pos="0">
                <a:srgbClr val="5f5f5f"/>
              </a:gs>
              <a:gs pos="100000">
                <a:srgbClr val="3c3c3c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14368800">
            <a:off x="3747960" y="2776320"/>
            <a:ext cx="728640" cy="265320"/>
          </a:xfrm>
          <a:prstGeom prst="rightArrow">
            <a:avLst>
              <a:gd name="adj1" fmla="val 35167"/>
              <a:gd name="adj2" fmla="val 111211"/>
            </a:avLst>
          </a:prstGeom>
          <a:gradFill rotWithShape="0">
            <a:gsLst>
              <a:gs pos="0">
                <a:srgbClr val="5f5f5f"/>
              </a:gs>
              <a:gs pos="100000">
                <a:srgbClr val="3c3c3c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rot="7534800">
            <a:off x="3712680" y="4667040"/>
            <a:ext cx="728640" cy="265320"/>
          </a:xfrm>
          <a:prstGeom prst="rightArrow">
            <a:avLst>
              <a:gd name="adj1" fmla="val 35167"/>
              <a:gd name="adj2" fmla="val 111211"/>
            </a:avLst>
          </a:prstGeom>
          <a:gradFill rotWithShape="0">
            <a:gsLst>
              <a:gs pos="0">
                <a:srgbClr val="5f5f5f"/>
              </a:gs>
              <a:gs pos="100000">
                <a:srgbClr val="3c3c3c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402160" y="3743280"/>
            <a:ext cx="728640" cy="266760"/>
          </a:xfrm>
          <a:prstGeom prst="rightArrow">
            <a:avLst>
              <a:gd name="adj1" fmla="val 35167"/>
              <a:gd name="adj2" fmla="val 110611"/>
            </a:avLst>
          </a:prstGeom>
          <a:gradFill rotWithShape="0">
            <a:gsLst>
              <a:gs pos="0">
                <a:srgbClr val="5f5f5f"/>
              </a:gs>
              <a:gs pos="100000">
                <a:srgbClr val="3c3c3c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rot="10800000">
            <a:off x="3184200" y="3738600"/>
            <a:ext cx="795240" cy="264960"/>
          </a:xfrm>
          <a:prstGeom prst="rightArrow">
            <a:avLst>
              <a:gd name="adj1" fmla="val 35167"/>
              <a:gd name="adj2" fmla="val 121541"/>
            </a:avLst>
          </a:prstGeom>
          <a:gradFill rotWithShape="0">
            <a:gsLst>
              <a:gs pos="0">
                <a:srgbClr val="5f5f5f"/>
              </a:gs>
              <a:gs pos="100000">
                <a:srgbClr val="3c3c3c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951280" y="2116080"/>
            <a:ext cx="3444840" cy="3446640"/>
          </a:xfrm>
          <a:prstGeom prst="ellipse">
            <a:avLst/>
          </a:prstGeom>
          <a:noFill/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3637080" y="2874960"/>
            <a:ext cx="1989000" cy="1987560"/>
            <a:chOff x="3637080" y="2874960"/>
            <a:chExt cx="1989000" cy="1987560"/>
          </a:xfrm>
        </p:grpSpPr>
        <p:sp>
          <p:nvSpPr>
            <p:cNvPr id="465" name=""/>
            <p:cNvSpPr/>
            <p:nvPr/>
          </p:nvSpPr>
          <p:spPr>
            <a:xfrm>
              <a:off x="3637080" y="2874960"/>
              <a:ext cx="1989000" cy="1987560"/>
            </a:xfrm>
            <a:prstGeom prst="ellipse">
              <a:avLst/>
            </a:prstGeom>
            <a:gradFill rotWithShape="0">
              <a:gsLst>
                <a:gs pos="0">
                  <a:srgbClr val="92d2e8"/>
                </a:gs>
                <a:gs pos="50000">
                  <a:srgbClr val="0099cc"/>
                </a:gs>
                <a:gs pos="100000">
                  <a:srgbClr val="92d2e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766680" y="3004560"/>
              <a:ext cx="1728720" cy="1727280"/>
            </a:xfrm>
            <a:prstGeom prst="ellipse">
              <a:avLst/>
            </a:prstGeom>
            <a:gradFill rotWithShape="0">
              <a:gsLst>
                <a:gs pos="0">
                  <a:srgbClr val="00526d"/>
                </a:gs>
                <a:gs pos="50000">
                  <a:srgbClr val="0099cc"/>
                </a:gs>
                <a:gs pos="100000">
                  <a:srgbClr val="0052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68480" y="3007440"/>
              <a:ext cx="1728720" cy="1727280"/>
            </a:xfrm>
            <a:prstGeom prst="ellipse">
              <a:avLst/>
            </a:prstGeom>
            <a:gradFill rotWithShape="0">
              <a:gsLst>
                <a:gs pos="0">
                  <a:srgbClr val="0099cc">
                    <a:alpha val="0"/>
                  </a:srgbClr>
                </a:gs>
                <a:gs pos="100000">
                  <a:srgbClr val="006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860640" y="3090960"/>
              <a:ext cx="1555920" cy="1554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3888000" y="3108600"/>
              <a:ext cx="1506600" cy="1505160"/>
              <a:chOff x="3888000" y="3108600"/>
              <a:chExt cx="1506600" cy="1505160"/>
            </a:xfrm>
          </p:grpSpPr>
          <p:sp>
            <p:nvSpPr>
              <p:cNvPr id="470" name=""/>
              <p:cNvSpPr/>
              <p:nvPr/>
            </p:nvSpPr>
            <p:spPr>
              <a:xfrm>
                <a:off x="3888000" y="3108600"/>
                <a:ext cx="1506600" cy="1505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907080" y="3116880"/>
                <a:ext cx="1470240" cy="1467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922920" y="3131280"/>
                <a:ext cx="1398240" cy="1371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004640" y="3169800"/>
                <a:ext cx="1242720" cy="1113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4262040" y="3664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762120" y="3668760"/>
            <a:ext cx="2384280" cy="420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d5800"/>
              </a:gs>
              <a:gs pos="100000">
                <a:srgbClr val="eec100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393920" y="2197080"/>
            <a:ext cx="2384280" cy="420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f4200"/>
              </a:gs>
              <a:gs pos="100000">
                <a:srgbClr val="f29000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393920" y="5002200"/>
            <a:ext cx="2384280" cy="420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64e64"/>
              </a:gs>
              <a:gs pos="100000">
                <a:srgbClr val="53aadb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232680" y="3668760"/>
            <a:ext cx="2454120" cy="420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ec100"/>
              </a:gs>
              <a:gs pos="100000">
                <a:srgbClr val="6d5800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530680" y="2197080"/>
            <a:ext cx="2454480" cy="420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9000"/>
              </a:gs>
              <a:gs pos="100000">
                <a:srgbClr val="6f4200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530680" y="5002200"/>
            <a:ext cx="2454480" cy="420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3aadb"/>
              </a:gs>
              <a:gs pos="100000">
                <a:srgbClr val="264e64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04:48:21Z</dcterms:created>
  <dc:creator/>
  <dc:description/>
  <dc:language>en-US</dc:language>
  <cp:lastModifiedBy>computer</cp:lastModifiedBy>
  <dcterms:modified xsi:type="dcterms:W3CDTF">2014-11-21T01:23:35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