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BD2-E6C9-4105-B156-A42C938A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8BF-FA88-41B2-B416-B5C22F97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01C-0367-43B0-9222-D5095295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5FB-0083-426E-A031-1F345896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BB74-C1AC-47B8-913C-E0C9D637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976E-30D5-412A-8C08-441A4C58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6DFE-D02D-42F3-AA00-5624721B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8031-1055-4C9E-BA18-258E4F4B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37AA-02C2-4072-8A19-123BB100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4A0C-C92D-460B-91CE-6FD17A09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984E-9843-4DD7-8811-A146C29C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E1A-3436-49E3-91E1-87E0AAB3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7296-4129-4041-B891-070D8415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938D-3829-4998-BC68-652044E2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9BE3-3012-45AE-824C-019D7BD8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D9DA-59A3-4F70-95A5-DB8C524E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5C30-C038-4358-B16F-BD4DCE1A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D7B-324F-4577-A582-9710D8F2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01B-A83E-491E-A60F-4B57B6EC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D52-9F0C-4920-ADDB-5CE40C3E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B70-7617-4950-BA58-6954FD84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BB6-ED0C-4B4F-927B-21382A45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327-6928-438A-A96D-2C77A3B9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DEA-5595-4BF3-91BE-DA770E7B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F2BA-3B5B-418C-94D9-F65C947879CE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224D-3A87-42D9-8976-2476BDF6E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308720" y="1440"/>
            <a:ext cx="1835280" cy="3068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472000" y="1440"/>
            <a:ext cx="1836720" cy="3068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35280" y="3240"/>
            <a:ext cx="1836720" cy="3068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800360" y="4680"/>
            <a:ext cx="1839600" cy="3068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-20520" y="3240"/>
            <a:ext cx="1820880" cy="3070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60720" y="3436920"/>
            <a:ext cx="179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草檀斋毛泽东字体"/>
              </a:rPr>
              <a:t>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61360" y="4653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草檀斋毛泽东字体"/>
              </a:rPr>
              <a:t>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2160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46560" y="2205000"/>
            <a:ext cx="2504880" cy="271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1840" y="4149720"/>
            <a:ext cx="23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草檀斋毛泽东字体"/>
                <a:ea typeface="草檀斋毛泽东字体"/>
              </a:rPr>
              <a:t> </a:t>
            </a:r>
            <a:r>
              <a:rPr b="0" lang="zh-CN" sz="96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34960" y="1047600"/>
            <a:ext cx="176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草檀斋毛泽东字体"/>
              </a:rPr>
              <a:t>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4240" y="110484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旦</a:t>
            </a:r>
            <a:r>
              <a:rPr b="0" lang="zh-CN" sz="9600" spc="-1" strike="noStrike">
                <a:solidFill>
                  <a:srgbClr val="ff0000"/>
                </a:solidFill>
                <a:latin typeface="草檀斋毛泽东字体"/>
                <a:ea typeface="草檀斋毛泽东字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04800" y="4176720"/>
            <a:ext cx="184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净</a:t>
            </a:r>
            <a:r>
              <a:rPr b="0" lang="zh-CN" sz="9600" spc="-1" strike="noStrike">
                <a:solidFill>
                  <a:srgbClr val="ff0000"/>
                </a:solidFill>
                <a:latin typeface="草檀斋毛泽东字体"/>
                <a:ea typeface="草檀斋毛泽东字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72360" y="5910120"/>
            <a:ext cx="863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净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生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丑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35080" y="976320"/>
            <a:ext cx="1914480" cy="1847880"/>
          </a:xfrm>
          <a:prstGeom prst="donut">
            <a:avLst>
              <a:gd name="adj" fmla="val 489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37200" y="1004760"/>
            <a:ext cx="1914480" cy="1847880"/>
          </a:xfrm>
          <a:prstGeom prst="donut">
            <a:avLst>
              <a:gd name="adj" fmla="val 489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3080" y="4062240"/>
            <a:ext cx="1913040" cy="1847880"/>
          </a:xfrm>
          <a:prstGeom prst="donut">
            <a:avLst>
              <a:gd name="adj" fmla="val 489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83360" y="4062240"/>
            <a:ext cx="1914480" cy="1847880"/>
          </a:xfrm>
          <a:prstGeom prst="donut">
            <a:avLst>
              <a:gd name="adj" fmla="val 489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19080"/>
            <a:ext cx="0" cy="566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6308640"/>
            <a:ext cx="5902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982920" y="209520"/>
            <a:ext cx="15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生</a:t>
            </a:r>
            <a:r>
              <a:rPr b="1" lang="zh-CN" sz="40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旦 净 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6880" y="1741320"/>
            <a:ext cx="863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净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生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丑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4280"/>
            <a:ext cx="1440" cy="1297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7080" y="2924280"/>
            <a:ext cx="0" cy="3368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6000" y="2276640"/>
            <a:ext cx="3809880" cy="5074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47640" y="1969920"/>
            <a:ext cx="54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生”是除了花脸以及丑角以外的男性角色的统称，又分老生（须生）、小生、武生、娃娃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5240" y="3429000"/>
            <a:ext cx="431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3030480"/>
            <a:ext cx="0" cy="39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83480" y="1741320"/>
            <a:ext cx="430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213680" y="1740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66000" y="209520"/>
            <a:ext cx="158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生</a:t>
            </a:r>
            <a:r>
              <a:rPr b="1" lang="zh-CN" sz="40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旦 </a:t>
            </a:r>
            <a:r>
              <a:rPr b="0" lang="zh-CN" sz="32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净 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6880" y="1741320"/>
            <a:ext cx="863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净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生丑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44280"/>
            <a:ext cx="1440" cy="1297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7080" y="2924280"/>
            <a:ext cx="0" cy="3368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14840" y="1969920"/>
            <a:ext cx="3397320" cy="4524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3440" y="196992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旦”是女性角色的统称，内部又分为正旦、花旦、闺门旦、武旦、老旦、彩旦（揺旦）、刀马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325296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4760" y="2852640"/>
            <a:ext cx="0" cy="4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1741320"/>
            <a:ext cx="431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946920" y="1740960"/>
            <a:ext cx="14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27920" y="6311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054920" y="206280"/>
            <a:ext cx="15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生 旦 </a:t>
            </a:r>
            <a:r>
              <a:rPr b="1" lang="zh-CN" sz="40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净 </a:t>
            </a:r>
            <a:r>
              <a:rPr b="0" lang="zh-CN" sz="32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880" y="1741320"/>
            <a:ext cx="863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净生丑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44280"/>
            <a:ext cx="1440" cy="1297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7080" y="2924280"/>
            <a:ext cx="0" cy="3368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11880" y="2598840"/>
            <a:ext cx="3597120" cy="4790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58800" y="178596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净”，俗称花脸，大多是扮演性格、品质或相貌上有些特异的男性人物，化妆用脸谱，音色洪亮，风格粗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3179880"/>
            <a:ext cx="430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1680" y="2781360"/>
            <a:ext cx="1440" cy="39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1557360"/>
            <a:ext cx="431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946920" y="1557000"/>
            <a:ext cx="14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4167" t="7971" r="9468" b="23741"/>
          <a:stretch/>
        </p:blipFill>
        <p:spPr>
          <a:xfrm>
            <a:off x="5869080" y="3429000"/>
            <a:ext cx="3074760" cy="324000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</p:pic>
      <p:sp>
        <p:nvSpPr>
          <p:cNvPr id="135" name=""/>
          <p:cNvSpPr/>
          <p:nvPr/>
        </p:nvSpPr>
        <p:spPr>
          <a:xfrm>
            <a:off x="7020360" y="19836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生 旦 净 </a:t>
            </a:r>
            <a:r>
              <a:rPr b="1" lang="zh-CN" sz="40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6880" y="1741320"/>
            <a:ext cx="863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净生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丑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44280"/>
            <a:ext cx="1440" cy="1297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7080" y="2924280"/>
            <a:ext cx="0" cy="3368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89200" y="2101680"/>
            <a:ext cx="46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丑”，扮演喜剧角色，因在鼻梁上抹一小块白粉，俗称小花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3108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6040" y="270828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1844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588000" y="18428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144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72360" y="1773360"/>
            <a:ext cx="201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中國龍古印體"/>
              </a:rPr>
              <a:t>謝謝觀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4360" y="-11160"/>
            <a:ext cx="216000" cy="178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3960720"/>
            <a:ext cx="216000" cy="306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1844640"/>
            <a:ext cx="1889280" cy="2032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81440" y="3483000"/>
            <a:ext cx="688680" cy="689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64080" y="3673440"/>
            <a:ext cx="431640" cy="43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240" y="4305240"/>
            <a:ext cx="177840" cy="179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7240" y="4537080"/>
            <a:ext cx="125640" cy="12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97120" y="4129200"/>
            <a:ext cx="265320" cy="264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4960" y="4010040"/>
            <a:ext cx="384120" cy="384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97240" y="3673440"/>
            <a:ext cx="431640" cy="43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12880" y="475308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95720" y="4010040"/>
            <a:ext cx="385920" cy="384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30520" y="4129200"/>
            <a:ext cx="266760" cy="264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17880" y="4324320"/>
            <a:ext cx="177840" cy="17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71880" y="4502160"/>
            <a:ext cx="125280" cy="12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59080" y="4324320"/>
            <a:ext cx="1736640" cy="1368360"/>
          </a:xfrm>
          <a:prstGeom prst="blockArc">
            <a:avLst>
              <a:gd name="adj1" fmla="val 11999052"/>
              <a:gd name="adj2" fmla="val 20400948"/>
              <a:gd name="adj3" fmla="val 825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97120" y="46767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9560" y="458964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4040" y="453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3720" y="449892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0800" y="448452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87880" y="448452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40160" y="45226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2200" y="457524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64080" y="4665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53000" y="474192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曲线 144"/>
          <p:cNvSpPr/>
          <p:nvPr/>
        </p:nvSpPr>
        <p:spPr>
          <a:xfrm>
            <a:off x="723960" y="1041480"/>
            <a:ext cx="1673280" cy="241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" y="159"/>
                </a:moveTo>
                <a:cubicBezTo>
                  <a:pt x="1295" y="204"/>
                  <a:pt x="3934" y="0"/>
                  <a:pt x="5680" y="426"/>
                </a:cubicBezTo>
                <a:cubicBezTo>
                  <a:pt x="7426" y="852"/>
                  <a:pt x="9525" y="1568"/>
                  <a:pt x="11107" y="2710"/>
                </a:cubicBezTo>
                <a:cubicBezTo>
                  <a:pt x="12689" y="3852"/>
                  <a:pt x="13820" y="5284"/>
                  <a:pt x="15173" y="7273"/>
                </a:cubicBezTo>
                <a:cubicBezTo>
                  <a:pt x="16525" y="9262"/>
                  <a:pt x="18206" y="12536"/>
                  <a:pt x="19239" y="14661"/>
                </a:cubicBezTo>
                <a:cubicBezTo>
                  <a:pt x="20272" y="16786"/>
                  <a:pt x="21140" y="19002"/>
                  <a:pt x="21370" y="20031"/>
                </a:cubicBezTo>
                <a:cubicBezTo>
                  <a:pt x="21600" y="21060"/>
                  <a:pt x="21083" y="21600"/>
                  <a:pt x="20599" y="20838"/>
                </a:cubicBezTo>
                <a:cubicBezTo>
                  <a:pt x="20116" y="20077"/>
                  <a:pt x="19181" y="17144"/>
                  <a:pt x="18468" y="15468"/>
                </a:cubicBezTo>
                <a:cubicBezTo>
                  <a:pt x="17755" y="13791"/>
                  <a:pt x="17239" y="12490"/>
                  <a:pt x="16337" y="10768"/>
                </a:cubicBezTo>
                <a:cubicBezTo>
                  <a:pt x="15435" y="9046"/>
                  <a:pt x="14173" y="6535"/>
                  <a:pt x="13041" y="5125"/>
                </a:cubicBezTo>
                <a:cubicBezTo>
                  <a:pt x="11910" y="3716"/>
                  <a:pt x="10722" y="3068"/>
                  <a:pt x="9558" y="2307"/>
                </a:cubicBezTo>
                <a:cubicBezTo>
                  <a:pt x="8394" y="1545"/>
                  <a:pt x="7361" y="920"/>
                  <a:pt x="6066" y="562"/>
                </a:cubicBezTo>
                <a:cubicBezTo>
                  <a:pt x="4770" y="204"/>
                  <a:pt x="2705" y="227"/>
                  <a:pt x="1803" y="159"/>
                </a:cubicBezTo>
                <a:cubicBezTo>
                  <a:pt x="901" y="90"/>
                  <a:pt x="0" y="113"/>
                  <a:pt x="647" y="159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曲线 144"/>
          <p:cNvSpPr/>
          <p:nvPr/>
        </p:nvSpPr>
        <p:spPr>
          <a:xfrm flipH="1" rot="60000">
            <a:off x="3828240" y="1041120"/>
            <a:ext cx="1621080" cy="23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" y="159"/>
                </a:moveTo>
                <a:cubicBezTo>
                  <a:pt x="1295" y="204"/>
                  <a:pt x="3934" y="0"/>
                  <a:pt x="5680" y="426"/>
                </a:cubicBezTo>
                <a:cubicBezTo>
                  <a:pt x="7426" y="852"/>
                  <a:pt x="9525" y="1568"/>
                  <a:pt x="11107" y="2710"/>
                </a:cubicBezTo>
                <a:cubicBezTo>
                  <a:pt x="12689" y="3852"/>
                  <a:pt x="13820" y="5284"/>
                  <a:pt x="15173" y="7273"/>
                </a:cubicBezTo>
                <a:cubicBezTo>
                  <a:pt x="16525" y="9262"/>
                  <a:pt x="18206" y="12536"/>
                  <a:pt x="19239" y="14661"/>
                </a:cubicBezTo>
                <a:cubicBezTo>
                  <a:pt x="20272" y="16786"/>
                  <a:pt x="21140" y="19002"/>
                  <a:pt x="21370" y="20031"/>
                </a:cubicBezTo>
                <a:cubicBezTo>
                  <a:pt x="21600" y="21060"/>
                  <a:pt x="21083" y="21600"/>
                  <a:pt x="20599" y="20838"/>
                </a:cubicBezTo>
                <a:cubicBezTo>
                  <a:pt x="20116" y="20077"/>
                  <a:pt x="19181" y="17144"/>
                  <a:pt x="18468" y="15468"/>
                </a:cubicBezTo>
                <a:cubicBezTo>
                  <a:pt x="17755" y="13791"/>
                  <a:pt x="17239" y="12490"/>
                  <a:pt x="16337" y="10768"/>
                </a:cubicBezTo>
                <a:cubicBezTo>
                  <a:pt x="15435" y="9046"/>
                  <a:pt x="14173" y="6535"/>
                  <a:pt x="13041" y="5125"/>
                </a:cubicBezTo>
                <a:cubicBezTo>
                  <a:pt x="11910" y="3716"/>
                  <a:pt x="10722" y="3068"/>
                  <a:pt x="9558" y="2307"/>
                </a:cubicBezTo>
                <a:cubicBezTo>
                  <a:pt x="8394" y="1545"/>
                  <a:pt x="7361" y="920"/>
                  <a:pt x="6066" y="562"/>
                </a:cubicBezTo>
                <a:cubicBezTo>
                  <a:pt x="4770" y="204"/>
                  <a:pt x="2705" y="227"/>
                  <a:pt x="1803" y="159"/>
                </a:cubicBezTo>
                <a:cubicBezTo>
                  <a:pt x="901" y="90"/>
                  <a:pt x="0" y="113"/>
                  <a:pt x="647" y="159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 rot="20700000">
            <a:off x="2347920" y="3488400"/>
            <a:ext cx="2016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 rot="1380000">
            <a:off x="3695760" y="3412440"/>
            <a:ext cx="2030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42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/>
  <dcterms:modified xsi:type="dcterms:W3CDTF">2014-11-21T01:29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