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44F6-B2AC-4FA2-982A-323A22576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325D-DC0D-4806-900F-BE08D22D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0FF7-649F-43CD-AE61-3CA320F6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A438-7551-49A8-90B1-689E8FEA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1B08-37A5-484C-BA88-D00938DC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E424-FE95-410B-8668-03C19F7D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29FB-79E4-47F3-AAF0-7592AD32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612F-5CC9-40D3-AD76-DDA40456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5755-FB64-469A-9012-5429C91D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9B1E-C1AC-4344-88CD-214CF745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F351-7358-4B93-9EDC-5F961B13F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EF7C-275F-4C37-9069-8B393E655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9800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29492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76920" y="4876920"/>
            <a:ext cx="3657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Microsoft Sans Serif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Microsoft Sans Serif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0423-7C87-401C-A374-16A014A3CBF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876920" y="4876920"/>
            <a:ext cx="39621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精美彩蛋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ppt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模板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876920" y="5790960"/>
            <a:ext cx="3962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Microsoft Sans Serif"/>
                <a:ea typeface="宋体"/>
              </a:rPr>
              <a:t>单击此处添加副标题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1763640"/>
            <a:ext cx="746784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单击此处添加内容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228240" y="19800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4d4d4d"/>
              </a:solidFill>
              <a:latin typeface="Microsoft Sans Serif"/>
              <a:ea typeface="宋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81080" y="1831680"/>
            <a:ext cx="693432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4d4d"/>
                </a:solidFill>
                <a:latin typeface="18"/>
                <a:ea typeface="宋体"/>
              </a:rPr>
              <a:t>单击此处添加内容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12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20:32:41Z</dcterms:created>
  <dc:creator>Administrator</dc:creator>
  <dc:description/>
  <dc:language>en-US</dc:language>
  <cp:lastModifiedBy>a</cp:lastModifiedBy>
  <dcterms:modified xsi:type="dcterms:W3CDTF">2014-12-10T14:59:48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