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3DB-D3DC-436B-87C3-B2D6632F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C51-1CF3-4DE6-B7A1-FDB2282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B66-5355-432C-8FA2-6EFD9483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934-33D5-4FAD-AC03-4BBE5400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B11-130C-4EED-8016-9137BD5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F6E-77E2-4AF3-86C5-E6394EF7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1EC-CA04-4A26-B803-FE57EF99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896D-4EA0-4289-8AE9-388171C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9224-DB5A-4F78-A118-E6D41AE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811-4D35-4D9C-87AF-AF6B2B7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F5C-C806-4735-9882-D3D746A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877-CFF1-46E8-A4C4-3F59875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90B-D496-4785-A2D1-27EE9AE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C734-5651-4953-8323-46CA987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F3AF-AC80-4570-B184-9A7BF83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E65-863B-4AC4-A667-9C50BC34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1CEF-6E92-47AD-8DA5-F797A7E6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20F-D34D-4408-8A16-53E1317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DF1-A653-4BA8-A01F-3A7074E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5CE-F81C-4894-8A5E-D7AC9B2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3F8-60F5-4941-B6A1-0800DC60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393-33EA-4241-A90E-B577D7C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2D5-5BB1-412E-91DD-575A29E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A90-3AA3-48B2-8A5D-C5B3473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DF3-3486-4ED6-AF7B-51ADA30D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1773000"/>
            <a:ext cx="64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A0D-C015-4961-BCE5-C41C3BDF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1773000"/>
            <a:ext cx="64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3080" y="2781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1989000"/>
            <a:ext cx="51721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00">
                        <a:alpha val="8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江山如此多娇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ff00">
                      <a:alpha val="80000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00360" y="3141720"/>
            <a:ext cx="5737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00">
                        <a:alpha val="8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祝祖国繁荣昌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ff00">
                      <a:alpha val="80000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43:02Z</dcterms:created>
  <dc:creator/>
  <dc:description/>
  <dc:language>en-US</dc:language>
  <cp:lastModifiedBy/>
  <dcterms:modified xsi:type="dcterms:W3CDTF">2014-11-21T00:53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