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5EF-E06B-4441-AFD0-99FF1618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690-8184-4309-ADD4-C97C8C5E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0B9-68EE-48D8-9F08-C258E387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26B-61FA-4B52-9802-0A74EC80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387-69C4-430E-A3C9-D19163D1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D0D-4EAC-41A7-8466-3B5A0120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4800-DBD0-46D6-B26B-9D435D4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CAA8-8418-42BC-9819-2EC365B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F433-CCF0-4F05-8287-46723ECD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64B1-09A3-4EB1-9F8A-77577C34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6157-6937-4340-A3E9-0A3D6955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1B3-0F5E-46C9-A2EF-A7E057E9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FA3-89BB-4C5B-B4CB-81F5A41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AE75-9568-49D7-BC4D-6A516AEC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9701-F04D-4601-9B72-B627A81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6086-106E-46CC-9019-C3645E39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B86D-4546-46CE-B061-052323F6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496-4C6A-439B-B81F-670A1B7C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272-7B68-4DF9-93BD-7B0636A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E5C-3403-4F27-BEE0-47A01126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6F5-AA3E-4D48-AE2E-C53AA2CB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CD2-A60C-44B1-B178-E91DF29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2C6-3A5D-4AD2-9635-5552672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52F-96B2-4D4B-BC54-EAB7942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60B-64D1-4A37-AECC-112A7CB5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78603" t="0" r="15470" b="0"/>
          <a:stretch/>
        </p:blipFill>
        <p:spPr>
          <a:xfrm>
            <a:off x="8427960" y="0"/>
            <a:ext cx="716040" cy="524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8839" t="0" r="15470" b="0"/>
          <a:stretch/>
        </p:blipFill>
        <p:spPr>
          <a:xfrm>
            <a:off x="0" y="0"/>
            <a:ext cx="9144000" cy="524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695B-E828-4CB8-9C87-CE1C91A8F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8839" t="0" r="15470" b="0"/>
          <a:stretch/>
        </p:blipFill>
        <p:spPr>
          <a:xfrm>
            <a:off x="0" y="0"/>
            <a:ext cx="9144000" cy="5243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4419720" y="2496960"/>
            <a:ext cx="53337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金梅浪漫空心體"/>
                <a:ea typeface="方正兰亭粗黑简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192400"/>
            <a:ext cx="365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兰亭粗黑简体"/>
              </a:rPr>
              <a:t>WP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50920" y="48769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39440" y="466092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145120"/>
            <a:chOff x="0" y="0"/>
            <a:chExt cx="8466120" cy="51451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6280"/>
              <a:ext cx="84661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6880" y="267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/>
  <dc:description/>
  <dc:language>en-US</dc:language>
  <cp:lastModifiedBy>yk</cp:lastModifiedBy>
  <cp:lastPrinted>1899-12-30T00:00:00Z</cp:lastPrinted>
  <dcterms:modified xsi:type="dcterms:W3CDTF">2014-05-30T03:11:0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