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6BD30-0B8F-4BCE-A8D1-43752CC13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286BB-D9FD-46AF-9C01-4B5265E9A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FD6F1-3524-440F-85FC-909B39618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76330-4AC3-46CD-BAE8-CDF56B274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8EB1A-9327-438A-A17C-A8FEBA04D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255B6-FF3A-45C2-B289-B8008EF04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3DF8D-BE72-41DB-BB8F-04FFAF246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595B9-6384-4FD3-AD79-9840F666E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90601-06D3-4961-8DD8-3EFB32651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E3E5A-BB13-46DD-ACE7-B22A11EF0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F3B93-C278-4F56-B05F-EAE2859BE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1E50B-C2AA-41F1-BFAF-C49D7F71F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D9853-CE91-4D0D-96B2-72D03B79E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41F19-76D1-4834-9053-A0B3C7461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BF924-6974-493A-AAEC-7959860E3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5DF0B-B05A-4199-8886-3E2E20619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DACC2-7DA8-48D0-B1CB-AFCE4C1AC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04749-9B67-4EB1-9A8F-556CCC6E5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6C4CB-CFEA-46D9-B02A-24DB059AC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61C32-E4CF-4495-925E-4EB20805A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65A5C-F456-4E34-9CDA-F3FD7E2E3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B6B7-8B07-4855-BDD3-53961B66A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C5A7B-9929-4296-8315-FAA7B65B3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920A8-15E8-4178-BFDB-29BDDDD95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B8F5-3969-4A48-8DF6-0E47586867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31CC-15E7-4F22-8766-171E354F740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5589-CFCF-40ED-BC0A-C35C6A013EE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76720" y="404280"/>
            <a:ext cx="777240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ffff"/>
                </a:solidFill>
                <a:latin typeface="Tahoma"/>
              </a:rPr>
              <a:t>卡通小鸟</a:t>
            </a:r>
            <a:r>
              <a:rPr b="1" lang="ru-RU" sz="4400" spc="-1" strike="noStrike">
                <a:solidFill>
                  <a:srgbClr val="ccffff"/>
                </a:solidFill>
                <a:latin typeface="Tahoma"/>
              </a:rPr>
              <a:t>ppt</a:t>
            </a:r>
            <a:r>
              <a:rPr b="1" lang="ru-RU" sz="4400" spc="-1" strike="noStrike">
                <a:solidFill>
                  <a:srgbClr val="ccffff"/>
                </a:solidFill>
                <a:latin typeface="Tahoma"/>
              </a:rPr>
              <a:t>模板</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55280" y="152712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3" descr="图片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1" name="Group 2"/>
          <p:cNvGrpSpPr/>
          <p:nvPr/>
        </p:nvGrpSpPr>
        <p:grpSpPr>
          <a:xfrm>
            <a:off x="0" y="0"/>
            <a:ext cx="8466120" cy="6858000"/>
            <a:chOff x="0" y="0"/>
            <a:chExt cx="8466120" cy="6858000"/>
          </a:xfrm>
        </p:grpSpPr>
        <p:sp>
          <p:nvSpPr>
            <p:cNvPr id="9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9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29:11Z</dcterms:created>
  <dc:creator>FiSh</dc:creator>
  <dc:description/>
  <dc:language>en-US</dc:language>
  <cp:lastModifiedBy>a</cp:lastModifiedBy>
  <dcterms:modified xsi:type="dcterms:W3CDTF">2014-12-10T15:08:34Z</dcterms:modified>
  <cp:revision>5</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