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ECF-4CC1-46AB-8F95-E9F8D980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7E4-D5A5-4617-BD05-3598605E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E08-6E09-4EFF-972B-CB2091E1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A76-F12D-4F2B-88D9-B3E73238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7137-1379-49A0-AA9C-7512B66D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72A7-4B66-478C-B8D7-D8DD627A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C608-DC1D-4113-8756-0A05506F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9D55-82CE-455F-AE65-61BB87C7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7FA9-6FF1-4133-AC5E-AB546AE1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3AF7-3551-4912-9C44-3A676D10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9773-3E44-48BE-8E2D-2DF87C6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D7B-EE28-44B7-A336-2659AA3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5B3A-4F36-4C67-980F-6E6E184C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8777-8FC8-4FB2-8E70-1E3221B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6CD5-B400-49D9-A293-98AD7AE3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D569-DA93-4FA2-A745-99DCF90C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2F73-6B6D-4745-AB06-02A78107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E11-2807-4363-9C9D-A3329C67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7BF-234E-4F69-B4D1-7552B856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D90-E264-4CA4-8AED-015554DA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152-E7DD-4EA1-B05B-05DDC299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D78-0536-4AA8-BB43-31D24F25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A5A-B488-43F8-9EF6-C12341B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0D8-DEA8-47C6-BF3D-8AD86688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5690-2FC0-4341-BF83-42540C680268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53BD-AB79-4C00-A38E-B6CE8729DE4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730D-ED6D-4BF7-A6E0-20ED77128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1440" y="6480"/>
            <a:ext cx="9144000" cy="32781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11280" y="2062080"/>
            <a:ext cx="41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简约就是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34400" y="34480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绿色简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69240" y="508644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Blackadder ITC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40960" y="450720"/>
            <a:ext cx="5134680" cy="1501560"/>
            <a:chOff x="1740960" y="450720"/>
            <a:chExt cx="5134680" cy="1501560"/>
          </a:xfrm>
        </p:grpSpPr>
        <p:sp>
          <p:nvSpPr>
            <p:cNvPr id="90" name="TextBox 7"/>
            <p:cNvSpPr/>
            <p:nvPr/>
          </p:nvSpPr>
          <p:spPr>
            <a:xfrm>
              <a:off x="1740960" y="4507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9"/>
            <p:cNvSpPr/>
            <p:nvPr/>
          </p:nvSpPr>
          <p:spPr>
            <a:xfrm>
              <a:off x="2483640" y="11278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336400" y="941400"/>
              <a:ext cx="532080" cy="1010880"/>
              <a:chOff x="2336400" y="941400"/>
              <a:chExt cx="532080" cy="1010880"/>
            </a:xfrm>
          </p:grpSpPr>
          <p:sp>
            <p:nvSpPr>
              <p:cNvPr id="93" name="直角三角形 20"/>
              <p:cNvSpPr/>
              <p:nvPr/>
            </p:nvSpPr>
            <p:spPr>
              <a:xfrm flipV="1">
                <a:off x="2483280" y="10724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10"/>
              <p:cNvSpPr/>
              <p:nvPr/>
            </p:nvSpPr>
            <p:spPr>
              <a:xfrm flipH="1">
                <a:off x="2336400" y="9414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1740960" y="2138400"/>
            <a:ext cx="5134680" cy="1501560"/>
            <a:chOff x="1740960" y="2138400"/>
            <a:chExt cx="5134680" cy="1501560"/>
          </a:xfrm>
        </p:grpSpPr>
        <p:sp>
          <p:nvSpPr>
            <p:cNvPr id="96" name="TextBox 28"/>
            <p:cNvSpPr/>
            <p:nvPr/>
          </p:nvSpPr>
          <p:spPr>
            <a:xfrm>
              <a:off x="1740960" y="213840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29"/>
            <p:cNvSpPr/>
            <p:nvPr/>
          </p:nvSpPr>
          <p:spPr>
            <a:xfrm>
              <a:off x="2483640" y="281556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336400" y="2629080"/>
              <a:ext cx="532080" cy="1010880"/>
              <a:chOff x="2336400" y="2629080"/>
              <a:chExt cx="532080" cy="1010880"/>
            </a:xfrm>
          </p:grpSpPr>
          <p:sp>
            <p:nvSpPr>
              <p:cNvPr id="99" name="直角三角形 31"/>
              <p:cNvSpPr/>
              <p:nvPr/>
            </p:nvSpPr>
            <p:spPr>
              <a:xfrm flipV="1">
                <a:off x="2483280" y="2760120"/>
                <a:ext cx="338400" cy="60768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32"/>
              <p:cNvSpPr/>
              <p:nvPr/>
            </p:nvSpPr>
            <p:spPr>
              <a:xfrm flipH="1">
                <a:off x="2336400" y="262908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1812600" y="3803760"/>
            <a:ext cx="5064480" cy="1503360"/>
            <a:chOff x="1812600" y="3803760"/>
            <a:chExt cx="5064480" cy="1503360"/>
          </a:xfrm>
        </p:grpSpPr>
        <p:sp>
          <p:nvSpPr>
            <p:cNvPr id="102" name="TextBox 34"/>
            <p:cNvSpPr/>
            <p:nvPr/>
          </p:nvSpPr>
          <p:spPr>
            <a:xfrm>
              <a:off x="1812600" y="380376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35"/>
            <p:cNvSpPr/>
            <p:nvPr/>
          </p:nvSpPr>
          <p:spPr>
            <a:xfrm>
              <a:off x="2483280" y="4481640"/>
              <a:ext cx="4393800" cy="61740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简约与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336040" y="4295160"/>
              <a:ext cx="532440" cy="1011960"/>
              <a:chOff x="2336040" y="4295160"/>
              <a:chExt cx="532440" cy="1011960"/>
            </a:xfrm>
          </p:grpSpPr>
          <p:sp>
            <p:nvSpPr>
              <p:cNvPr id="105" name="直角三角形 37"/>
              <p:cNvSpPr/>
              <p:nvPr/>
            </p:nvSpPr>
            <p:spPr>
              <a:xfrm flipV="1">
                <a:off x="2483280" y="4426200"/>
                <a:ext cx="338760" cy="60840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38"/>
              <p:cNvSpPr/>
              <p:nvPr/>
            </p:nvSpPr>
            <p:spPr>
              <a:xfrm flipH="1">
                <a:off x="2336040" y="4295160"/>
                <a:ext cx="532440" cy="101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85320" y="2104920"/>
            <a:ext cx="5134680" cy="1501560"/>
            <a:chOff x="1885320" y="2104920"/>
            <a:chExt cx="5134680" cy="1501560"/>
          </a:xfrm>
        </p:grpSpPr>
        <p:sp>
          <p:nvSpPr>
            <p:cNvPr id="111" name="TextBox 7"/>
            <p:cNvSpPr/>
            <p:nvPr/>
          </p:nvSpPr>
          <p:spPr>
            <a:xfrm>
              <a:off x="1885320" y="21049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9"/>
            <p:cNvSpPr/>
            <p:nvPr/>
          </p:nvSpPr>
          <p:spPr>
            <a:xfrm>
              <a:off x="2628000" y="27820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480760" y="2595600"/>
              <a:ext cx="532080" cy="1010880"/>
              <a:chOff x="2480760" y="2595600"/>
              <a:chExt cx="532080" cy="1010880"/>
            </a:xfrm>
          </p:grpSpPr>
          <p:sp>
            <p:nvSpPr>
              <p:cNvPr id="114" name="直角三角形 20"/>
              <p:cNvSpPr/>
              <p:nvPr/>
            </p:nvSpPr>
            <p:spPr>
              <a:xfrm flipV="1">
                <a:off x="2627640" y="27266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10"/>
              <p:cNvSpPr/>
              <p:nvPr/>
            </p:nvSpPr>
            <p:spPr>
              <a:xfrm flipH="1">
                <a:off x="2480760" y="25956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66560" y="88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简约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539640" y="60948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"/>
          <p:cNvSpPr/>
          <p:nvPr/>
        </p:nvSpPr>
        <p:spPr>
          <a:xfrm>
            <a:off x="0" y="-25560"/>
            <a:ext cx="9144000" cy="5726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19120" y="1336680"/>
            <a:ext cx="706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0" y="3576600"/>
            <a:ext cx="9144000" cy="213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19120" y="234648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 your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8:02:13Z</dcterms:created>
  <dc:creator>yellownancy</dc:creator>
  <dc:description/>
  <dc:language>en-US</dc:language>
  <cp:lastModifiedBy>a</cp:lastModifiedBy>
  <dcterms:modified xsi:type="dcterms:W3CDTF">2014-12-10T15:11:1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