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47E-FEDF-4DA6-8AB1-624E1425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E5C-7059-415A-8D7F-DA86EBC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CB8-7DFD-4E60-A1E4-EAC613B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5B8-AB5A-481C-893B-0BABCB1B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EDCF-43C3-4AC1-898C-609F817F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DC69-1568-4F93-98A0-822B9F92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2E2-310B-4F90-81DF-33534B6D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7DA7-56BC-41FD-83E5-05E6162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DBC4-5F85-41A0-B62C-03970EED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504E-D810-42FC-94BB-3C01B025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C1F3-C8B4-4C1D-B4BB-E5622D4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2C7-D94C-45BA-9D80-0FC55151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A6E2-2E9F-4851-8E57-3C2B3229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944E-5D86-4607-906C-1353054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8275-B4E3-48E4-A87F-E9F6ABC0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3C10-CFD7-4F30-AC6D-82BF7DC5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7B9B-F8A1-4B6A-B038-5DFF5AE5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E405-B8CE-4DA2-BE84-98B7C361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A9C7-D92D-49EC-875D-B0F893F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DC31-B390-4265-854B-74048B4F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C132-00BC-4C93-89BB-45E4BD7D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8D82-2DC1-42C1-A862-A9C66790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D8E-C763-4A4A-899D-8D1571FD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6CD1-FD2E-412C-9A39-0A1A6EE6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2354-52C0-404C-A8D8-45387CF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3AD9-67E2-411D-BAA7-6DA3538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9AE2-0A3A-407D-8882-A885594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FEA9-4514-4C2F-AACC-EFD993F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251E-6E53-42AE-9A63-D2C7BC05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9F0D-DA8D-4AA4-9C30-389B1DB7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921-2D31-4F9E-88B3-0ED46AD6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8EF-5EA7-41CC-B572-F24467F5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26A-63DD-4E8E-934C-15624963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EB7-A2E7-4B61-ADA2-EFCE5A4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D61-7547-4288-B3D5-9EC1848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2B5-1E91-4E33-9CAD-3D47DBA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2"/>
          <p:cNvPicPr/>
          <p:nvPr/>
        </p:nvPicPr>
        <p:blipFill>
          <a:blip r:embed="rId2"/>
          <a:srcRect l="0" t="0" r="0" b="1141"/>
          <a:stretch/>
        </p:blipFill>
        <p:spPr>
          <a:xfrm>
            <a:off x="6480" y="506520"/>
            <a:ext cx="9159840" cy="580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7295-09BC-4448-AF4D-5EC201A76A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1"/>
          <p:cNvPicPr/>
          <p:nvPr/>
        </p:nvPicPr>
        <p:blipFill>
          <a:blip r:embed="rId2"/>
          <a:srcRect l="0" t="1615" r="0" b="1597"/>
          <a:stretch/>
        </p:blipFill>
        <p:spPr>
          <a:xfrm>
            <a:off x="0" y="512640"/>
            <a:ext cx="9144000" cy="581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583-8A31-4DCC-94EE-A36288C67BF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896-AFDE-4636-8455-39317F6371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8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6" name="beeth_5_life.mid" descr=""/>
          <p:cNvPicPr/>
          <p:nvPr/>
        </p:nvPicPr>
        <p:blipFill>
          <a:blip r:embed="rId1"/>
          <a:stretch/>
        </p:blipFill>
        <p:spPr>
          <a:xfrm>
            <a:off x="-588960" y="6283440"/>
            <a:ext cx="604800" cy="6094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生命的绿色从枝头凋零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春天的阳光不再明媚和清新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唯一的源泉从视野里消逝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最后的城郭被黄沙所掩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5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3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危在旦夕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充满危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95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25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孩子的目光找不到鸟雀的身影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城市的喧嚣只剩下机械的噪音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所有的珍禽都成为书本上的文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将失去那最后的绿色基因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4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35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危在旦夕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充满危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95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25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的代价无可替代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绿色才有希望和光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珍惜你所得到的所有资源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怕那只是毫不起眼的一点一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的家园是我们共同的期盼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绿色才能够唤醒沉睡的山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5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3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3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3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45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3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55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3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3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3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38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3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3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3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05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3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3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3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危在旦夕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家园啊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充满危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950"/>
                            </p:stCondLst>
                            <p:childTnLst>
                              <p:par>
                                <p:cTn id="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25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不要再观望和犹豫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原本要靠我们自己来获得延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700"/>
                            </p:stCondLst>
                            <p:childTnLst>
                              <p:par>
                                <p:cTn id="20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绿色家园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众志才能成城，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携手才能共进！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20:58:23Z</dcterms:created>
  <dc:creator/>
  <dc:description/>
  <cp:keywords/>
  <dc:language>en-US</dc:language>
  <cp:lastModifiedBy>a</cp:lastModifiedBy>
  <dcterms:modified xsi:type="dcterms:W3CDTF">2014-05-19T01:08:08Z</dcterms:modified>
  <cp:revision>3</cp:revision>
  <dc:subject/>
  <dc:title>绿色家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