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5AB-9C0E-4547-A999-FCEF06D6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A08-E088-446C-8605-54B094BB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14C-76EE-4CD9-934F-7C7EC9A9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A32-AB30-40BA-8497-1BE2D398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31D-B747-4E82-9AC8-904D24CA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8BF-E9E1-46FC-BA31-24124EBE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5BF-02D2-42C3-9C43-2D58A55E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E1D-3F53-4C72-BCF6-88D9CE79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959-319D-4144-B659-DBAC35D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B4B-A2F1-414A-9C26-40125D03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2A4-1E6A-45EC-8F5D-8B448196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D61-6D11-4664-ACAF-B2FC8837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E8C1-A507-4039-967C-CC1DD0010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绿色色块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0:58:51Z</dcterms:created>
  <dc:creator>微软用户</dc:creator>
  <dc:description/>
  <dc:language>en-US</dc:language>
  <cp:lastModifiedBy>a</cp:lastModifiedBy>
  <dcterms:modified xsi:type="dcterms:W3CDTF">2014-12-10T15:10:44Z</dcterms:modified>
  <cp:revision>9</cp:revision>
  <dc:subject/>
  <dc:title>第一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