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625-5DF0-4FDF-9FDD-0A51F48F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2D9-296E-4750-8777-5433059A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13C-9BB6-4782-A7BB-A6B181EC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AC9-45CD-47B9-B4A7-67DCD4AD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DAF-9067-472D-BA3A-877D2C26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A7E-6983-4D40-B68B-9C86111A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D01-C81E-41DF-8332-6AE65435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9B3-C915-4D86-A002-875A0DFC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4E9-5BF9-4534-93B6-C33A28FB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064-5177-46FC-B3E1-C18F652E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5C3-9002-442F-A57B-D19C7F6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C94-010A-4A32-82A5-E0BC1FA7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4CB9-759B-40D8-A4E8-2CB325E8F34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4680" y="477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ab5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63374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5"/>
              </a:solidFill>
              <a:latin typeface="Arial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56000" y="1599840"/>
            <a:ext cx="613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1794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36:17Z</dcterms:created>
  <dc:creator>Moyea PPT</dc:creator>
  <dc:description/>
  <dc:language>en-US</dc:language>
  <cp:lastModifiedBy>David Taylor</cp:lastModifiedBy>
  <cp:lastPrinted>1899-12-30T00:00:00Z</cp:lastPrinted>
  <dcterms:modified xsi:type="dcterms:W3CDTF">2014-05-29T06:36:22Z</dcterms:modified>
  <cp:revision>3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