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560" y="23724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b2a2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447560" y="404136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3724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b2a2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4000" y="129492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7560" y="404136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74000" y="404136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7560" y="23724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b2a2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72600" y="129492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97640" y="129492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447560" y="404136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972600" y="404136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97640" y="404136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7560" y="23724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b2a2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447560" y="129492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b2a2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560" y="23724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b2a2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23724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b2a2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4000" y="129492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560" y="23724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b2a2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47560" y="304560"/>
            <a:ext cx="74674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3b2a2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560" y="23724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b2a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74000" y="129492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447560" y="404136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560" y="23724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b2a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447560" y="129492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b2a2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3724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b2a2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74000" y="129492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274000" y="404136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23724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b2a2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4000" y="129492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47560" y="404136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23724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b2a2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447560" y="404136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560" y="23724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b2a2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4000" y="129492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47560" y="404136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274000" y="404136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560" y="23724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b2a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72600" y="129492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97640" y="129492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447560" y="404136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972600" y="404136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97640" y="4041360"/>
            <a:ext cx="240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47560" y="23724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b2a2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560" y="23724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b2a2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74000" y="129492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3724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b2a2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47560" y="304560"/>
            <a:ext cx="74674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3b2a2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560" y="23724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b2a2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74000" y="129492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447560" y="404136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560" y="23724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b2a2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3643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4000" y="129492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74000" y="404136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560" y="237240"/>
            <a:ext cx="746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b2a2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29492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4000" y="1294920"/>
            <a:ext cx="3643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4041360"/>
            <a:ext cx="7467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4674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2a22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b2a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29492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162920" cy="8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2a2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b2a2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b2a22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3b2a22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836280"/>
            <a:ext cx="71629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b2a22"/>
                </a:solidFill>
                <a:latin typeface="Arial"/>
                <a:ea typeface="宋体"/>
              </a:rPr>
              <a:t>蒲公英植物</a:t>
            </a:r>
            <a:r>
              <a:rPr b="1" lang="zh-CN" sz="4800" spc="-1" strike="noStrike">
                <a:solidFill>
                  <a:srgbClr val="3b2a22"/>
                </a:solidFill>
                <a:latin typeface="Arial"/>
                <a:ea typeface="宋体"/>
              </a:rPr>
              <a:t>ppt</a:t>
            </a:r>
            <a:r>
              <a:rPr b="1" lang="zh-CN" sz="4800" spc="-1" strike="noStrike">
                <a:solidFill>
                  <a:srgbClr val="3b2a22"/>
                </a:solidFill>
                <a:latin typeface="Arial"/>
                <a:ea typeface="宋体"/>
              </a:rPr>
              <a:t>模板</a:t>
            </a:r>
            <a:endParaRPr b="1" lang="en-US" sz="4800" spc="-1" strike="noStrike">
              <a:solidFill>
                <a:srgbClr val="3b2a22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47840" y="152280"/>
            <a:ext cx="7632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3b2a2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47480" y="1371240"/>
            <a:ext cx="7643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828720" y="2060640"/>
            <a:ext cx="37447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79a55"/>
                    </a:gs>
                    <a:gs pos="100000">
                      <a:srgbClr val="000000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79a55"/>
                  </a:gs>
                  <a:gs pos="100000">
                    <a:srgbClr val="000000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72440" y="6453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79a55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d79a55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d79a55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d79a55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1:45:36Z</dcterms:created>
  <dc:creator>微软用户</dc:creator>
  <dc:description/>
  <dc:language>en-US</dc:language>
  <cp:lastModifiedBy>yang</cp:lastModifiedBy>
  <dcterms:modified xsi:type="dcterms:W3CDTF">2014-12-04T15:24:32Z</dcterms:modified>
  <cp:revision>3</cp:revision>
  <dc:subject/>
  <dc:title>PPT宝藏 www.pptbz.com 提供下载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