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F70-353D-4F4C-ABC1-C34810B8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970-331F-4107-BE52-A3F5A8C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13B-56B8-4D79-982A-9E8259C2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62C-3449-412B-9EE5-EAAEB407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F20E-D290-41BB-AD19-78A62335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DC84-E265-4095-ABFF-924CF44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82DD-1547-4463-9ACD-218A251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BA3-92AB-435F-AECA-3C5EC90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B119-78EB-45B3-B85E-592676C4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8BE3-1CA7-4670-BB01-354A9F11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A514-4A7B-49F6-9C41-7503796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EC8-22E1-413F-9861-0E376343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5975-327C-4DDD-9011-5595540D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9641-E799-4A47-8DC3-CE57C54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12C4-CC14-4BB5-9F9F-5875463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BC4B-CF49-465F-93B9-4B1EFA9E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CEB8-AA83-468B-BB1A-377C180B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36C-90B9-40AE-8E8A-0B40321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161-1018-465D-BC71-BC727593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A21-4DAC-4C87-8419-4730294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568-CE47-42CA-8787-11AF1266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319-F105-4EDD-8965-DC99AB1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A45-27E4-458F-B73A-4473C3D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ACE-EE5F-4E10-9938-9EB50BC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1D2-3C9A-4744-AD49-3358C9824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54AC-66E5-47DA-BA35-3F1CBBE560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790-888B-4164-A2E1-433AAD6160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页"/>
          <p:cNvPicPr/>
          <p:nvPr/>
        </p:nvPicPr>
        <p:blipFill>
          <a:blip r:embed="rId1"/>
          <a:stretch/>
        </p:blipFill>
        <p:spPr>
          <a:xfrm>
            <a:off x="0" y="6480"/>
            <a:ext cx="918216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2349360"/>
            <a:ext cx="915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传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皮影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创艺简老宋"/>
              </a:rPr>
              <a:t>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1160640"/>
            <a:ext cx="915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迷你简美黑"/>
                <a:ea typeface="迷你简美黑"/>
              </a:rPr>
              <a:t>传统艺术  皮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过渡页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105520" y="292428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皮影</a:t>
            </a:r>
            <a:r>
              <a:rPr b="0" lang="zh-CN" sz="5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·</a:t>
            </a:r>
            <a:r>
              <a:rPr b="0" lang="zh-CN" sz="5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历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9182160" cy="6880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418040" y="47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"/>
              </a:rPr>
              <a:t>皮影戏的传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8000" y="1158840"/>
            <a:ext cx="8967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渊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皮影是一门结合了戏剧，音乐等多种艺术手段的表演形式，它有着悠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久历史的形式，也是最早传入西方的中国传统艺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目前，皮影戏的现状却不容乐观。当年的制作和表演艺人如今都已年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逾百岁，这门精湛的技艺眼看着就要失传。而当今，越来越多的娱乐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方式使得皮影戏在人们心目中的地位一落千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遗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申请世界非物质遗产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未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皮影的制作工艺正在从曾经的娱乐为主，欣赏为辅向现如今以欣赏为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主，娱乐为辅缓慢过渡。将来的皮影更强调与突出其静态的艺术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值，通过场景的布置，角色的表情，丰富的色彩等，展示着它独特的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魅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结束页"/>
          <p:cNvPicPr/>
          <p:nvPr/>
        </p:nvPicPr>
        <p:blipFill>
          <a:blip r:embed="rId1"/>
          <a:stretch/>
        </p:blipFill>
        <p:spPr>
          <a:xfrm>
            <a:off x="0" y="0"/>
            <a:ext cx="9182160" cy="6880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2906640"/>
            <a:ext cx="91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美黑"/>
              </a:rPr>
              <a:t>谢谢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迷你简美黑"/>
              </a:rPr>
              <a:t>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0T07:50:12Z</dcterms:modified>
  <cp:revision>1</cp:revision>
  <dc:subject/>
  <dc:title>PowerPoint 演示文稿</dc:title>
</cp:coreProperties>
</file>