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4E0-EAD1-4E6A-B9B6-285FA688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814-A8B3-44AE-B75C-4C9868FD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A49-CE70-46C9-AD6F-675D3AC7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F57-0E45-4ECE-98CB-641A2C48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D6C-2F82-4B9F-8D46-745D4FD2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186-E5D0-4D6F-A34A-7C700E5F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32D-190D-46CA-A263-32D33C2D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786-7D30-4BF4-8CA7-2DCEF988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453-BFB6-4068-8D45-9625C426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BA4-36B7-4CD9-A4DA-75448502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A43-F1A2-4876-AABC-9A67F42B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011-42B6-424F-A8DC-E9CE0123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51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5451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51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5451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CCE0-8AA8-4515-B2D0-486C9106A0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EA3C-4101-4716-8BFC-93CACDE20A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2960" y="30002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451f"/>
                </a:solidFill>
                <a:latin typeface="Tahoma"/>
              </a:rPr>
              <a:t>浅绿</a:t>
            </a:r>
            <a:r>
              <a:rPr b="1" lang="en-US" sz="3600" spc="-1" strike="noStrike">
                <a:solidFill>
                  <a:srgbClr val="35451f"/>
                </a:solidFill>
                <a:latin typeface="Tahoma"/>
              </a:rPr>
              <a:t>ppt</a:t>
            </a:r>
            <a:r>
              <a:rPr b="1" lang="en-US" sz="3600" spc="-1" strike="noStrike">
                <a:solidFill>
                  <a:srgbClr val="35451f"/>
                </a:solidFill>
                <a:latin typeface="Tahoma"/>
              </a:rPr>
              <a:t>模板在线下载</a:t>
            </a:r>
            <a:endParaRPr b="0" lang="en-US" sz="3600" spc="-1" strike="noStrike">
              <a:solidFill>
                <a:srgbClr val="35451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71280" y="4000680"/>
            <a:ext cx="7561080" cy="94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- Create software video tutorials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451f"/>
                </a:solidFill>
                <a:latin typeface="Tahoma"/>
              </a:rPr>
              <a:t>How it helps software users and provider</a:t>
            </a:r>
            <a:endParaRPr b="0" lang="en-US" sz="2800" spc="-1" strike="noStrike">
              <a:solidFill>
                <a:srgbClr val="35451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Create “How-to” videos to guide users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Rapid help technical support to solve the user’s software troubles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Build the presentation videos of the special features for new product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Make training videos to helps users or distributors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451f"/>
                </a:solidFill>
                <a:latin typeface="Tahoma"/>
              </a:rPr>
              <a:t>How DemoCreator works</a:t>
            </a:r>
            <a:r>
              <a:rPr b="0" lang="en-US" sz="3600" spc="-1" strike="noStrike">
                <a:solidFill>
                  <a:srgbClr val="35451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5451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62864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Record the actions taken on the application 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5451f"/>
                </a:solidFill>
                <a:latin typeface="Tahoma"/>
              </a:rPr>
              <a:t>- Record</a:t>
            </a: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5451f"/>
                </a:solidFill>
                <a:latin typeface="Tahoma"/>
              </a:rPr>
              <a:t>mouse movements and keystrokes</a:t>
            </a:r>
            <a:endParaRPr b="0" lang="en-US" sz="20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Record narrations as instruction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Add balloons, highlights and animations to enhance the video tutorials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Publish to Flash movie, auto-running CD/EXE, LMS and email with AICC/SCROM compliance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30002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451f"/>
                </a:solidFill>
                <a:latin typeface="Tahoma"/>
              </a:rPr>
              <a:t>Thank You!</a:t>
            </a:r>
            <a:endParaRPr b="0" lang="en-US" sz="3600" spc="-1" strike="noStrike">
              <a:solidFill>
                <a:srgbClr val="35451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1:09:07Z</dcterms:created>
  <dc:creator/>
  <dc:description/>
  <dc:language>en-US</dc:language>
  <cp:lastModifiedBy>a</cp:lastModifiedBy>
  <dcterms:modified xsi:type="dcterms:W3CDTF">2014-12-10T15:10:14Z</dcterms:modified>
  <cp:revision>24</cp:revision>
  <dc:subject/>
  <dc:title>Wondershare DemoCreat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