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32B-EFF4-4A3E-9CF3-45BC5AC6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B69-8634-4449-BE52-6FDCF02A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A2D-1A79-4278-A3D6-C325E94E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B2C-7892-42E4-BC2A-608EBC2B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F964-E7BC-4141-A3BF-377B037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A67F-FB8B-45AC-B44A-515295A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1330-E3A9-40AA-A4E2-F1238B0C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BA95-2FCD-4BC8-ADBD-FE159082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D753-2A7C-4627-884D-E271BC6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7B1-DC9B-49DE-9104-D04EAFA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1612-13D7-4430-8E74-95A00CE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A83-42D0-40DB-B785-C17E54E8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FB36-95DA-4DAE-A16C-1AADADC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1DF-A5E4-46D8-975D-ABF4BE9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CA5A-6CD4-4B03-A265-63FC059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882-A8F1-4D6D-AAC0-D496497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9B7-A06C-4FF3-81CC-10FA72C9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95D-8815-4277-83F6-7625821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06B-B40F-4EEB-AD03-C3037025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68E-45E6-4962-8FFA-91A7ACA8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4AE-1795-4941-B7A5-13EF013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483-9A3F-4B08-BF0B-40388DF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0E0-4C44-4A52-A69B-8BE65A2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649-53F3-4F93-AB81-A843D03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356760"/>
            <a:ext cx="8048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FC2-215B-49B0-B94B-BFDA1B8F5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687A-62C7-47CD-B8EB-630C4670CE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1428840" y="24764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浅蓝色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359000" y="313992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-1188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356760"/>
            <a:ext cx="8048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1357200" y="24289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14480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5:14:07Z</dcterms:created>
  <dc:creator/>
  <dc:description/>
  <dc:language>en-US</dc:language>
  <cp:lastModifiedBy>dell</cp:lastModifiedBy>
  <dcterms:modified xsi:type="dcterms:W3CDTF">2014-12-04T15:29:14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