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0FE132D7-A2D6-48AF-827B-BF5975F41785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-20520"/>
            <a:ext cx="9180360" cy="68785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789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4.png"/><Relationship Id="rId8" Type="http://schemas.openxmlformats.org/officeDocument/2006/relationships/image" Target="../media/image5.wmf"/><Relationship Id="rId9" Type="http://schemas.openxmlformats.org/officeDocument/2006/relationships/image" Target="../media/image4.png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68360" y="474948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68360" y="3789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77160" y="6292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85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86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ff8a1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4639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fff0a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95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7080" y="1341360"/>
            <a:ext cx="5543640" cy="792000"/>
            <a:chOff x="2197080" y="1341360"/>
            <a:chExt cx="5543640" cy="792000"/>
          </a:xfrm>
        </p:grpSpPr>
        <p:sp>
          <p:nvSpPr>
            <p:cNvPr id="106" name=""/>
            <p:cNvSpPr/>
            <p:nvPr/>
          </p:nvSpPr>
          <p:spPr>
            <a:xfrm>
              <a:off x="2197080" y="1341360"/>
              <a:ext cx="5543640" cy="792000"/>
            </a:xfrm>
            <a:prstGeom prst="roundRect">
              <a:avLst>
                <a:gd name="adj" fmla="val 13028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463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25520" y="137772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197080" y="2422440"/>
            <a:ext cx="5543640" cy="792000"/>
            <a:chOff x="2197080" y="2422440"/>
            <a:chExt cx="5543640" cy="792000"/>
          </a:xfrm>
        </p:grpSpPr>
        <p:sp>
          <p:nvSpPr>
            <p:cNvPr id="109" name=""/>
            <p:cNvSpPr/>
            <p:nvPr/>
          </p:nvSpPr>
          <p:spPr>
            <a:xfrm>
              <a:off x="2197080" y="242244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25520" y="245880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197080" y="3502080"/>
            <a:ext cx="5543640" cy="792000"/>
            <a:chOff x="2197080" y="3502080"/>
            <a:chExt cx="5543640" cy="792000"/>
          </a:xfrm>
        </p:grpSpPr>
        <p:sp>
          <p:nvSpPr>
            <p:cNvPr id="112" name=""/>
            <p:cNvSpPr/>
            <p:nvPr/>
          </p:nvSpPr>
          <p:spPr>
            <a:xfrm>
              <a:off x="2197080" y="3502080"/>
              <a:ext cx="554364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25520" y="353844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197080" y="4581360"/>
            <a:ext cx="5543640" cy="792000"/>
            <a:chOff x="2197080" y="4581360"/>
            <a:chExt cx="5543640" cy="792000"/>
          </a:xfrm>
        </p:grpSpPr>
        <p:sp>
          <p:nvSpPr>
            <p:cNvPr id="115" name=""/>
            <p:cNvSpPr/>
            <p:nvPr/>
          </p:nvSpPr>
          <p:spPr>
            <a:xfrm>
              <a:off x="2197080" y="4581360"/>
              <a:ext cx="5543640" cy="792000"/>
            </a:xfrm>
            <a:prstGeom prst="roundRect">
              <a:avLst>
                <a:gd name="adj" fmla="val 11824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   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25520" y="4617720"/>
              <a:ext cx="548604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332000" y="1341360"/>
            <a:ext cx="792000" cy="792000"/>
            <a:chOff x="1332000" y="1341360"/>
            <a:chExt cx="792000" cy="792000"/>
          </a:xfrm>
        </p:grpSpPr>
        <p:sp>
          <p:nvSpPr>
            <p:cNvPr id="118" name=""/>
            <p:cNvSpPr/>
            <p:nvPr/>
          </p:nvSpPr>
          <p:spPr>
            <a:xfrm>
              <a:off x="1332000" y="134136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1586160" y="155556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463900"/>
                  </a:solidFill>
                  <a:latin typeface="Arial Black"/>
                </a:rPr>
                <a:t>1</a:t>
              </a:r>
              <a:endParaRPr b="0" i="1" lang="en-US" sz="1400" spc="-1" strike="noStrike">
                <a:ln w="0">
                  <a:noFill/>
                </a:ln>
                <a:solidFill>
                  <a:srgbClr val="4639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68360" y="13777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332000" y="2422440"/>
            <a:ext cx="792000" cy="792000"/>
            <a:chOff x="1332000" y="2422440"/>
            <a:chExt cx="792000" cy="792000"/>
          </a:xfrm>
        </p:grpSpPr>
        <p:sp>
          <p:nvSpPr>
            <p:cNvPr id="122" name=""/>
            <p:cNvSpPr/>
            <p:nvPr/>
          </p:nvSpPr>
          <p:spPr>
            <a:xfrm>
              <a:off x="1332000" y="242244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1586160" y="263664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68360" y="245880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332000" y="3502080"/>
            <a:ext cx="792000" cy="792000"/>
            <a:chOff x="1332000" y="3502080"/>
            <a:chExt cx="792000" cy="792000"/>
          </a:xfrm>
        </p:grpSpPr>
        <p:sp>
          <p:nvSpPr>
            <p:cNvPr id="126" name=""/>
            <p:cNvSpPr/>
            <p:nvPr/>
          </p:nvSpPr>
          <p:spPr>
            <a:xfrm>
              <a:off x="1332000" y="350208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1586160" y="371628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68360" y="353700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332000" y="4581360"/>
            <a:ext cx="792000" cy="792000"/>
            <a:chOff x="1332000" y="4581360"/>
            <a:chExt cx="792000" cy="792000"/>
          </a:xfrm>
        </p:grpSpPr>
        <p:sp>
          <p:nvSpPr>
            <p:cNvPr id="130" name=""/>
            <p:cNvSpPr/>
            <p:nvPr/>
          </p:nvSpPr>
          <p:spPr>
            <a:xfrm>
              <a:off x="1332000" y="4581360"/>
              <a:ext cx="792000" cy="792000"/>
            </a:xfrm>
            <a:prstGeom prst="roundRect">
              <a:avLst>
                <a:gd name="adj" fmla="val 14227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1586160" y="4795560"/>
              <a:ext cx="285480" cy="3621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68360" y="46177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042920" y="2133720"/>
            <a:ext cx="3313080" cy="3456000"/>
            <a:chOff x="1042920" y="2133720"/>
            <a:chExt cx="3313080" cy="3456000"/>
          </a:xfrm>
        </p:grpSpPr>
        <p:sp>
          <p:nvSpPr>
            <p:cNvPr id="135" name=""/>
            <p:cNvSpPr/>
            <p:nvPr/>
          </p:nvSpPr>
          <p:spPr>
            <a:xfrm>
              <a:off x="104292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463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79280" y="2170080"/>
              <a:ext cx="320832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060560" y="1573200"/>
            <a:ext cx="3295440" cy="487440"/>
            <a:chOff x="1060560" y="1573200"/>
            <a:chExt cx="3295440" cy="487440"/>
          </a:xfrm>
        </p:grpSpPr>
        <p:sp>
          <p:nvSpPr>
            <p:cNvPr id="138" name=""/>
            <p:cNvSpPr/>
            <p:nvPr/>
          </p:nvSpPr>
          <p:spPr>
            <a:xfrm>
              <a:off x="1060560" y="1573200"/>
              <a:ext cx="3295440" cy="48744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463900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91880" y="1609560"/>
              <a:ext cx="322668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896000" y="2133720"/>
            <a:ext cx="3313080" cy="3456000"/>
            <a:chOff x="4896000" y="2133720"/>
            <a:chExt cx="3313080" cy="3456000"/>
          </a:xfrm>
        </p:grpSpPr>
        <p:sp>
          <p:nvSpPr>
            <p:cNvPr id="141" name=""/>
            <p:cNvSpPr/>
            <p:nvPr/>
          </p:nvSpPr>
          <p:spPr>
            <a:xfrm>
              <a:off x="4896000" y="2133720"/>
              <a:ext cx="3313080" cy="3456000"/>
            </a:xfrm>
            <a:custGeom>
              <a:avLst/>
              <a:gdLst>
                <a:gd name="textAreaLeft" fmla="*/ 28440 w 3313080"/>
                <a:gd name="textAreaRight" fmla="*/ 3284640 w 3313080"/>
                <a:gd name="textAreaTop" fmla="*/ 28440 h 3456000"/>
                <a:gd name="textAreaBottom" fmla="*/ 3427560 h 3456000"/>
              </a:gdLst>
              <a:ahLst/>
              <a:rect l="textAreaLeft" t="textAreaTop" r="textAreaRight" b="textAreaBottom"/>
              <a:pathLst>
                <a:path w="21600" h="22532">
                  <a:moveTo>
                    <a:pt x="638" y="0"/>
                  </a:moveTo>
                  <a:arcTo wR="638" hR="638" stAng="16200000" swAng="-5400000"/>
                  <a:lnTo>
                    <a:pt x="0" y="21894"/>
                  </a:lnTo>
                  <a:arcTo wR="638" hR="638" stAng="10800000" swAng="-5400000"/>
                  <a:lnTo>
                    <a:pt x="20962" y="22532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6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32360" y="2170080"/>
              <a:ext cx="320832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913280" y="1573200"/>
            <a:ext cx="3295800" cy="487440"/>
            <a:chOff x="4913280" y="1573200"/>
            <a:chExt cx="3295800" cy="487440"/>
          </a:xfrm>
        </p:grpSpPr>
        <p:sp>
          <p:nvSpPr>
            <p:cNvPr id="144" name=""/>
            <p:cNvSpPr/>
            <p:nvPr/>
          </p:nvSpPr>
          <p:spPr>
            <a:xfrm>
              <a:off x="4913280" y="1573200"/>
              <a:ext cx="3295800" cy="487440"/>
            </a:xfrm>
            <a:prstGeom prst="roundRect">
              <a:avLst>
                <a:gd name="adj" fmla="val 13028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44960" y="1609560"/>
              <a:ext cx="3227400" cy="2001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977160" y="6292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826920" y="1268280"/>
            <a:ext cx="3745080" cy="4232160"/>
            <a:chOff x="826920" y="1268280"/>
            <a:chExt cx="3745080" cy="4232160"/>
          </a:xfrm>
        </p:grpSpPr>
        <p:sp>
          <p:nvSpPr>
            <p:cNvPr id="149" name=""/>
            <p:cNvSpPr/>
            <p:nvPr/>
          </p:nvSpPr>
          <p:spPr>
            <a:xfrm>
              <a:off x="826920" y="1268280"/>
              <a:ext cx="3745080" cy="4232160"/>
            </a:xfrm>
            <a:custGeom>
              <a:avLst/>
              <a:gdLst>
                <a:gd name="textAreaLeft" fmla="*/ 32400 w 3745080"/>
                <a:gd name="textAreaRight" fmla="*/ 3712680 w 3745080"/>
                <a:gd name="textAreaTop" fmla="*/ 32400 h 4232160"/>
                <a:gd name="textAreaBottom" fmla="*/ 4199760 h 4232160"/>
              </a:gdLst>
              <a:ahLst/>
              <a:rect l="textAreaLeft" t="textAreaTop" r="textAreaRight" b="textAreaBottom"/>
              <a:pathLst>
                <a:path w="21600" h="24409">
                  <a:moveTo>
                    <a:pt x="638" y="0"/>
                  </a:moveTo>
                  <a:arcTo wR="638" hR="638" stAng="16200000" swAng="-5400000"/>
                  <a:lnTo>
                    <a:pt x="0" y="23771"/>
                  </a:lnTo>
                  <a:arcTo wR="638" hR="638" stAng="10800000" swAng="-5400000"/>
                  <a:lnTo>
                    <a:pt x="20962" y="24409"/>
                  </a:lnTo>
                  <a:arcTo wR="638" hR="638" stAng="5400000" swAng="-5400000"/>
                  <a:lnTo>
                    <a:pt x="21600" y="638"/>
                  </a:lnTo>
                  <a:arcTo wR="638" hR="638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463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8320" y="1311120"/>
              <a:ext cx="3625560" cy="38592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37880" y="2082600"/>
              <a:ext cx="3321360" cy="3218040"/>
            </a:xfrm>
            <a:prstGeom prst="roundRect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3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187280" y="1484280"/>
            <a:ext cx="3024360" cy="447840"/>
            <a:chOff x="1187280" y="1484280"/>
            <a:chExt cx="3024360" cy="447840"/>
          </a:xfrm>
        </p:grpSpPr>
        <p:sp>
          <p:nvSpPr>
            <p:cNvPr id="153" name=""/>
            <p:cNvSpPr/>
            <p:nvPr/>
          </p:nvSpPr>
          <p:spPr>
            <a:xfrm>
              <a:off x="1187280" y="1484280"/>
              <a:ext cx="3024360" cy="44784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463900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16080" y="1517400"/>
              <a:ext cx="2961000" cy="1836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859280" y="2346480"/>
            <a:ext cx="3714840" cy="288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62640" y="1916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61080" y="2419200"/>
            <a:ext cx="3671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61080" y="3427560"/>
            <a:ext cx="3671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28720" y="38592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28720" y="45799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28720" y="494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28720" y="42210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28720" y="350208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28720" y="314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28720" y="278136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28720" y="242100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28720" y="206208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28720" y="1701720"/>
            <a:ext cx="648036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2744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1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4816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2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6744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3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8816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4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0744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5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2816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6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708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7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96780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8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80600" y="53863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9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836720" y="4579920"/>
            <a:ext cx="503280" cy="720720"/>
            <a:chOff x="1836720" y="4579920"/>
            <a:chExt cx="503280" cy="720720"/>
          </a:xfrm>
        </p:grpSpPr>
        <p:sp>
          <p:nvSpPr>
            <p:cNvPr id="180" name=""/>
            <p:cNvSpPr/>
            <p:nvPr/>
          </p:nvSpPr>
          <p:spPr>
            <a:xfrm>
              <a:off x="1836720" y="4579920"/>
              <a:ext cx="503280" cy="72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720720"/>
                <a:gd name="textAreaBottom" fmla="*/ 701640 h 720720"/>
              </a:gdLst>
              <a:ahLst/>
              <a:rect l="textAreaLeft" t="textAreaTop" r="textAreaRight" b="textAreaBottom"/>
              <a:pathLst>
                <a:path w="21600" h="30926">
                  <a:moveTo>
                    <a:pt x="2814" y="0"/>
                  </a:moveTo>
                  <a:arcTo wR="2814" hR="2814" stAng="16200000" swAng="-5400000"/>
                  <a:lnTo>
                    <a:pt x="0" y="28112"/>
                  </a:lnTo>
                  <a:arcTo wR="2814" hR="2814" stAng="10800000" swAng="-5400000"/>
                  <a:lnTo>
                    <a:pt x="18786" y="30926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73080" y="461628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557440" y="4219560"/>
            <a:ext cx="503280" cy="1081080"/>
            <a:chOff x="2557440" y="4219560"/>
            <a:chExt cx="503280" cy="1081080"/>
          </a:xfrm>
        </p:grpSpPr>
        <p:sp>
          <p:nvSpPr>
            <p:cNvPr id="183" name=""/>
            <p:cNvSpPr/>
            <p:nvPr/>
          </p:nvSpPr>
          <p:spPr>
            <a:xfrm>
              <a:off x="2557440" y="4219560"/>
              <a:ext cx="503280" cy="108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081080"/>
                <a:gd name="textAreaBottom" fmla="*/ 1062000 h 1081080"/>
              </a:gdLst>
              <a:ahLst/>
              <a:rect l="textAreaLeft" t="textAreaTop" r="textAreaRight" b="textAreaBottom"/>
              <a:pathLst>
                <a:path w="21600" h="46381">
                  <a:moveTo>
                    <a:pt x="2814" y="0"/>
                  </a:moveTo>
                  <a:arcTo wR="2814" hR="2814" stAng="16200000" swAng="-5400000"/>
                  <a:lnTo>
                    <a:pt x="0" y="43567"/>
                  </a:lnTo>
                  <a:arcTo wR="2814" hR="2814" stAng="10800000" swAng="-5400000"/>
                  <a:lnTo>
                    <a:pt x="18786" y="46381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92360" y="425592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276720" y="3860640"/>
            <a:ext cx="503280" cy="1440000"/>
            <a:chOff x="3276720" y="3860640"/>
            <a:chExt cx="503280" cy="1440000"/>
          </a:xfrm>
        </p:grpSpPr>
        <p:sp>
          <p:nvSpPr>
            <p:cNvPr id="186" name=""/>
            <p:cNvSpPr/>
            <p:nvPr/>
          </p:nvSpPr>
          <p:spPr>
            <a:xfrm>
              <a:off x="3276720" y="3860640"/>
              <a:ext cx="503280" cy="144000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440000"/>
                <a:gd name="textAreaBottom" fmla="*/ 1420920 h 1440000"/>
              </a:gdLst>
              <a:ahLst/>
              <a:rect l="textAreaLeft" t="textAreaTop" r="textAreaRight" b="textAreaBottom"/>
              <a:pathLst>
                <a:path w="21600" h="61774">
                  <a:moveTo>
                    <a:pt x="2814" y="0"/>
                  </a:moveTo>
                  <a:arcTo wR="2814" hR="2814" stAng="16200000" swAng="-5400000"/>
                  <a:lnTo>
                    <a:pt x="0" y="58960"/>
                  </a:lnTo>
                  <a:arcTo wR="2814" hR="2814" stAng="10800000" swAng="-5400000"/>
                  <a:lnTo>
                    <a:pt x="18786" y="6177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13080" y="389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995640" y="3500280"/>
            <a:ext cx="503280" cy="1800360"/>
            <a:chOff x="3995640" y="3500280"/>
            <a:chExt cx="503280" cy="1800360"/>
          </a:xfrm>
        </p:grpSpPr>
        <p:sp>
          <p:nvSpPr>
            <p:cNvPr id="189" name=""/>
            <p:cNvSpPr/>
            <p:nvPr/>
          </p:nvSpPr>
          <p:spPr>
            <a:xfrm>
              <a:off x="3995640" y="3500280"/>
              <a:ext cx="503280" cy="180036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1800360"/>
                <a:gd name="textAreaBottom" fmla="*/ 1781280 h 1800360"/>
              </a:gdLst>
              <a:ahLst/>
              <a:rect l="textAreaLeft" t="textAreaTop" r="textAreaRight" b="textAreaBottom"/>
              <a:pathLst>
                <a:path w="21600" h="77229">
                  <a:moveTo>
                    <a:pt x="2814" y="0"/>
                  </a:moveTo>
                  <a:arcTo wR="2814" hR="2814" stAng="16200000" swAng="-5400000"/>
                  <a:lnTo>
                    <a:pt x="0" y="74415"/>
                  </a:lnTo>
                  <a:arcTo wR="2814" hR="2814" stAng="10800000" swAng="-5400000"/>
                  <a:lnTo>
                    <a:pt x="18786" y="7722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32000" y="353520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437080" y="2779560"/>
            <a:ext cx="503280" cy="2521080"/>
            <a:chOff x="5437080" y="2779560"/>
            <a:chExt cx="503280" cy="2521080"/>
          </a:xfrm>
        </p:grpSpPr>
        <p:sp>
          <p:nvSpPr>
            <p:cNvPr id="192" name=""/>
            <p:cNvSpPr/>
            <p:nvPr/>
          </p:nvSpPr>
          <p:spPr>
            <a:xfrm>
              <a:off x="5437080" y="2779560"/>
              <a:ext cx="503280" cy="252108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521080"/>
                <a:gd name="textAreaBottom" fmla="*/ 2502000 h 2521080"/>
              </a:gdLst>
              <a:ahLst/>
              <a:rect l="textAreaLeft" t="textAreaTop" r="textAreaRight" b="textAreaBottom"/>
              <a:pathLst>
                <a:path w="21600" h="108139">
                  <a:moveTo>
                    <a:pt x="2814" y="0"/>
                  </a:moveTo>
                  <a:arcTo wR="2814" hR="2814" stAng="16200000" swAng="-5400000"/>
                  <a:lnTo>
                    <a:pt x="0" y="105325"/>
                  </a:lnTo>
                  <a:arcTo wR="2814" hR="2814" stAng="10800000" swAng="-5400000"/>
                  <a:lnTo>
                    <a:pt x="18786" y="108139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73440" y="281592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156360" y="2419200"/>
            <a:ext cx="503280" cy="2881440"/>
            <a:chOff x="6156360" y="2419200"/>
            <a:chExt cx="503280" cy="2881440"/>
          </a:xfrm>
        </p:grpSpPr>
        <p:sp>
          <p:nvSpPr>
            <p:cNvPr id="195" name=""/>
            <p:cNvSpPr/>
            <p:nvPr/>
          </p:nvSpPr>
          <p:spPr>
            <a:xfrm>
              <a:off x="6156360" y="2419200"/>
              <a:ext cx="503280" cy="288144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881440"/>
                <a:gd name="textAreaBottom" fmla="*/ 2862360 h 2881440"/>
              </a:gdLst>
              <a:ahLst/>
              <a:rect l="textAreaLeft" t="textAreaTop" r="textAreaRight" b="textAreaBottom"/>
              <a:pathLst>
                <a:path w="21600" h="123594">
                  <a:moveTo>
                    <a:pt x="2814" y="0"/>
                  </a:moveTo>
                  <a:arcTo wR="2814" hR="2814" stAng="16200000" swAng="-5400000"/>
                  <a:lnTo>
                    <a:pt x="0" y="120780"/>
                  </a:lnTo>
                  <a:arcTo wR="2814" hR="2814" stAng="10800000" swAng="-5400000"/>
                  <a:lnTo>
                    <a:pt x="18786" y="12359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92720" y="245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877080" y="2060640"/>
            <a:ext cx="503280" cy="3240000"/>
            <a:chOff x="6877080" y="2060640"/>
            <a:chExt cx="503280" cy="3240000"/>
          </a:xfrm>
        </p:grpSpPr>
        <p:sp>
          <p:nvSpPr>
            <p:cNvPr id="198" name=""/>
            <p:cNvSpPr/>
            <p:nvPr/>
          </p:nvSpPr>
          <p:spPr>
            <a:xfrm>
              <a:off x="6877080" y="2060640"/>
              <a:ext cx="503280" cy="324000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3240000"/>
                <a:gd name="textAreaBottom" fmla="*/ 3220920 h 3240000"/>
              </a:gdLst>
              <a:ahLst/>
              <a:rect l="textAreaLeft" t="textAreaTop" r="textAreaRight" b="textAreaBottom"/>
              <a:pathLst>
                <a:path w="21600" h="138972">
                  <a:moveTo>
                    <a:pt x="2814" y="0"/>
                  </a:moveTo>
                  <a:arcTo wR="2814" hR="2814" stAng="16200000" swAng="-5400000"/>
                  <a:lnTo>
                    <a:pt x="0" y="136158"/>
                  </a:lnTo>
                  <a:arcTo wR="2814" hR="2814" stAng="10800000" swAng="-5400000"/>
                  <a:lnTo>
                    <a:pt x="18786" y="138972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13440" y="209556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7596360" y="1700280"/>
            <a:ext cx="502920" cy="3600360"/>
            <a:chOff x="7596360" y="1700280"/>
            <a:chExt cx="502920" cy="3600360"/>
          </a:xfrm>
        </p:grpSpPr>
        <p:sp>
          <p:nvSpPr>
            <p:cNvPr id="201" name=""/>
            <p:cNvSpPr/>
            <p:nvPr/>
          </p:nvSpPr>
          <p:spPr>
            <a:xfrm>
              <a:off x="7596360" y="1700280"/>
              <a:ext cx="502920" cy="3600360"/>
            </a:xfrm>
            <a:custGeom>
              <a:avLst/>
              <a:gdLst>
                <a:gd name="textAreaLeft" fmla="*/ 19080 w 502920"/>
                <a:gd name="textAreaRight" fmla="*/ 483840 w 502920"/>
                <a:gd name="textAreaTop" fmla="*/ 19080 h 3600360"/>
                <a:gd name="textAreaBottom" fmla="*/ 3581280 h 3600360"/>
              </a:gdLst>
              <a:ahLst/>
              <a:rect l="textAreaLeft" t="textAreaTop" r="textAreaRight" b="textAreaBottom"/>
              <a:pathLst>
                <a:path w="21600" h="154537">
                  <a:moveTo>
                    <a:pt x="2814" y="0"/>
                  </a:moveTo>
                  <a:arcTo wR="2814" hR="2814" stAng="16200000" swAng="-5400000"/>
                  <a:lnTo>
                    <a:pt x="0" y="151723"/>
                  </a:lnTo>
                  <a:arcTo wR="2814" hR="2814" stAng="10800000" swAng="-5400000"/>
                  <a:lnTo>
                    <a:pt x="18786" y="154537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463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32360" y="1735200"/>
              <a:ext cx="431640" cy="576360"/>
            </a:xfrm>
            <a:custGeom>
              <a:avLst/>
              <a:gdLst>
                <a:gd name="textAreaLeft" fmla="*/ 14040 w 431640"/>
                <a:gd name="textAreaRight" fmla="*/ 417600 w 43164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36">
                  <a:moveTo>
                    <a:pt x="2435" y="0"/>
                  </a:moveTo>
                  <a:arcTo wR="2435" hR="2435" stAng="16200000" swAng="-5400000"/>
                  <a:lnTo>
                    <a:pt x="0" y="26401"/>
                  </a:lnTo>
                  <a:arcTo wR="2435" hR="2435" stAng="10800000" swAng="-5400000"/>
                  <a:lnTo>
                    <a:pt x="19165" y="28836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37400" y="1989360"/>
              <a:ext cx="401040" cy="32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单击此处添加文字</a:t>
              </a:r>
              <a:r>
                <a:rPr b="1" i="1" lang="zh-CN" sz="1800" spc="-1" strike="noStrike">
                  <a:solidFill>
                    <a:srgbClr val="ffffff"/>
                  </a:solidFill>
                  <a:latin typeface="Arial"/>
                </a:rPr>
                <a:t>内容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未知"/>
          <p:cNvSpPr/>
          <p:nvPr/>
        </p:nvSpPr>
        <p:spPr>
          <a:xfrm>
            <a:off x="1728720" y="1482840"/>
            <a:ext cx="6769080" cy="381780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3333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66160" y="16732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66160" y="498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66160" y="461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6160" y="4249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66160" y="3881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66160" y="3513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6160" y="3144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66160" y="2776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66160" y="2408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6160" y="2039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80808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716360" y="3139920"/>
            <a:ext cx="503280" cy="2160720"/>
            <a:chOff x="4716360" y="3139920"/>
            <a:chExt cx="503280" cy="2160720"/>
          </a:xfrm>
        </p:grpSpPr>
        <p:sp>
          <p:nvSpPr>
            <p:cNvPr id="216" name=""/>
            <p:cNvSpPr/>
            <p:nvPr/>
          </p:nvSpPr>
          <p:spPr>
            <a:xfrm>
              <a:off x="4716360" y="3139920"/>
              <a:ext cx="503280" cy="2160720"/>
            </a:xfrm>
            <a:custGeom>
              <a:avLst/>
              <a:gdLst>
                <a:gd name="textAreaLeft" fmla="*/ 19080 w 503280"/>
                <a:gd name="textAreaRight" fmla="*/ 484200 w 503280"/>
                <a:gd name="textAreaTop" fmla="*/ 19080 h 2160720"/>
                <a:gd name="textAreaBottom" fmla="*/ 2141640 h 2160720"/>
              </a:gdLst>
              <a:ahLst/>
              <a:rect l="textAreaLeft" t="textAreaTop" r="textAreaRight" b="textAreaBottom"/>
              <a:pathLst>
                <a:path w="21600" h="92684">
                  <a:moveTo>
                    <a:pt x="2814" y="0"/>
                  </a:moveTo>
                  <a:arcTo wR="2814" hR="2814" stAng="16200000" swAng="-5400000"/>
                  <a:lnTo>
                    <a:pt x="0" y="89870"/>
                  </a:lnTo>
                  <a:arcTo wR="2814" hR="2814" stAng="10800000" swAng="-5400000"/>
                  <a:lnTo>
                    <a:pt x="18786" y="92684"/>
                  </a:lnTo>
                  <a:arcTo wR="2814" hR="2814" stAng="5400000" swAng="-5400000"/>
                  <a:lnTo>
                    <a:pt x="21600" y="2814"/>
                  </a:lnTo>
                  <a:arcTo wR="2814" hR="2814" stAng="0" swAng="-5400000"/>
                  <a:close/>
                </a:path>
              </a:pathLst>
            </a:cu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52720" y="3176280"/>
              <a:ext cx="432000" cy="576360"/>
            </a:xfrm>
            <a:custGeom>
              <a:avLst/>
              <a:gdLst>
                <a:gd name="textAreaLeft" fmla="*/ 14040 w 432000"/>
                <a:gd name="textAreaRight" fmla="*/ 417960 w 432000"/>
                <a:gd name="textAreaTop" fmla="*/ 14040 h 576360"/>
                <a:gd name="textAreaBottom" fmla="*/ 562320 h 576360"/>
              </a:gdLst>
              <a:ahLst/>
              <a:rect l="textAreaLeft" t="textAreaTop" r="textAreaRight" b="textAreaBottom"/>
              <a:pathLst>
                <a:path w="21600" h="28812">
                  <a:moveTo>
                    <a:pt x="2435" y="0"/>
                  </a:moveTo>
                  <a:arcTo wR="2435" hR="2435" stAng="16200000" swAng="-5400000"/>
                  <a:lnTo>
                    <a:pt x="0" y="26377"/>
                  </a:lnTo>
                  <a:arcTo wR="2435" hR="2435" stAng="10800000" swAng="-5400000"/>
                  <a:lnTo>
                    <a:pt x="19165" y="28812"/>
                  </a:lnTo>
                  <a:arcTo wR="2435" hR="2435" stAng="5400000" swAng="-5400000"/>
                  <a:lnTo>
                    <a:pt x="21600" y="2435"/>
                  </a:lnTo>
                  <a:arcTo wR="2435" hR="2435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55960" y="3357360"/>
              <a:ext cx="3920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463900"/>
                  </a:solidFill>
                  <a:latin typeface="Arial"/>
                </a:rPr>
                <a:t>单击添加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7873200">
            <a:off x="1360080" y="2298600"/>
            <a:ext cx="2628360" cy="262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463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3306600">
            <a:off x="1651680" y="2079720"/>
            <a:ext cx="2628360" cy="26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463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1977800">
            <a:off x="1180800" y="2138400"/>
            <a:ext cx="2628360" cy="26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189080" y="1773360"/>
            <a:ext cx="3022200" cy="3022200"/>
            <a:chOff x="1189080" y="1773360"/>
            <a:chExt cx="3022200" cy="3022200"/>
          </a:xfrm>
        </p:grpSpPr>
        <p:sp>
          <p:nvSpPr>
            <p:cNvPr id="224" name=""/>
            <p:cNvSpPr/>
            <p:nvPr/>
          </p:nvSpPr>
          <p:spPr>
            <a:xfrm flipH="1">
              <a:off x="1676520" y="1773360"/>
              <a:ext cx="1072440" cy="302220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49320" y="1773360"/>
              <a:ext cx="975600" cy="3022200"/>
            </a:xfrm>
            <a:prstGeom prst="line">
              <a:avLst/>
            </a:prstGeom>
            <a:ln w="38160">
              <a:solidFill>
                <a:srgbClr val="463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676880" y="2942640"/>
              <a:ext cx="2534400" cy="185292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89080" y="2942640"/>
              <a:ext cx="2536200" cy="1852920"/>
            </a:xfrm>
            <a:prstGeom prst="line">
              <a:avLst/>
            </a:prstGeom>
            <a:ln w="38160">
              <a:solidFill>
                <a:srgbClr val="463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89080" y="2942640"/>
              <a:ext cx="2990160" cy="0"/>
            </a:xfrm>
            <a:prstGeom prst="line">
              <a:avLst/>
            </a:prstGeom>
            <a:ln w="381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 rot="16542000">
            <a:off x="1162800" y="1680480"/>
            <a:ext cx="2628360" cy="26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32000" y="5138640"/>
            <a:ext cx="1152720" cy="451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073680" y="4106880"/>
            <a:ext cx="1282320" cy="1326960"/>
            <a:chOff x="3073680" y="4106880"/>
            <a:chExt cx="1282320" cy="1326960"/>
          </a:xfrm>
        </p:grpSpPr>
        <p:grpSp>
          <p:nvGrpSpPr>
            <p:cNvPr id="232" name=""/>
            <p:cNvGrpSpPr/>
            <p:nvPr/>
          </p:nvGrpSpPr>
          <p:grpSpPr>
            <a:xfrm>
              <a:off x="3089160" y="4106880"/>
              <a:ext cx="1266840" cy="1247760"/>
              <a:chOff x="3089160" y="4106880"/>
              <a:chExt cx="1266840" cy="1247760"/>
            </a:xfrm>
          </p:grpSpPr>
          <p:pic>
            <p:nvPicPr>
              <p:cNvPr id="23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89160" y="4106880"/>
                <a:ext cx="1266840" cy="12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3089160" y="4106880"/>
                <a:ext cx="1258200" cy="1247760"/>
              </a:xfrm>
              <a:prstGeom prst="ellipse">
                <a:avLst/>
              </a:prstGeom>
              <a:gradFill rotWithShape="0">
                <a:gsLst>
                  <a:gs pos="0">
                    <a:srgbClr val="153b8f"/>
                  </a:gs>
                  <a:gs pos="100000">
                    <a:srgbClr val="1967b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Arial"/>
                  </a:rPr>
                  <a:t>单击此处</a:t>
                </a: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Arial"/>
                  </a:rPr>
                  <a:t>添加文字</a:t>
                </a: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3216240" y="4119480"/>
              <a:ext cx="1000080" cy="43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6" name=""/>
            <p:cNvGrpSpPr/>
            <p:nvPr/>
          </p:nvGrpSpPr>
          <p:grpSpPr>
            <a:xfrm>
              <a:off x="3073680" y="4922280"/>
              <a:ext cx="1281240" cy="511560"/>
              <a:chOff x="3073680" y="4922280"/>
              <a:chExt cx="1281240" cy="51156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3297600" y="4922280"/>
                <a:ext cx="1057320" cy="480960"/>
                <a:chOff x="3297600" y="4922280"/>
                <a:chExt cx="1057320" cy="480960"/>
              </a:xfrm>
            </p:grpSpPr>
            <p:sp>
              <p:nvSpPr>
                <p:cNvPr id="238" name=""/>
                <p:cNvSpPr/>
                <p:nvPr/>
              </p:nvSpPr>
              <p:spPr>
                <a:xfrm flipH="1" flipV="1" rot="3964800">
                  <a:off x="3873240" y="477864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 flipV="1" rot="4780200">
                  <a:off x="3754440" y="4826160"/>
                  <a:ext cx="185400" cy="76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H="1" flipV="1" rot="5076000">
                  <a:off x="3681720" y="4836240"/>
                  <a:ext cx="185400" cy="76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 flipV="1" rot="5608200">
                  <a:off x="3593160" y="4843800"/>
                  <a:ext cx="18540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073680" y="4929120"/>
                <a:ext cx="1055880" cy="504720"/>
                <a:chOff x="3073680" y="4929120"/>
                <a:chExt cx="1055880" cy="504720"/>
              </a:xfrm>
            </p:grpSpPr>
            <p:sp>
              <p:nvSpPr>
                <p:cNvPr id="243" name=""/>
                <p:cNvSpPr/>
                <p:nvPr/>
              </p:nvSpPr>
              <p:spPr>
                <a:xfrm flipH="1" flipV="1" rot="5317800">
                  <a:off x="3650040" y="4844160"/>
                  <a:ext cx="18612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 flipV="1" rot="6133800">
                  <a:off x="3521520" y="4842360"/>
                  <a:ext cx="186120" cy="76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flipV="1" rot="6429000">
                  <a:off x="3451320" y="4822200"/>
                  <a:ext cx="186120" cy="76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flipV="1" rot="6961200">
                  <a:off x="3366000" y="4797000"/>
                  <a:ext cx="186120" cy="768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7" name=""/>
          <p:cNvGrpSpPr/>
          <p:nvPr/>
        </p:nvGrpSpPr>
        <p:grpSpPr>
          <a:xfrm>
            <a:off x="1189080" y="4240080"/>
            <a:ext cx="1008000" cy="1016280"/>
            <a:chOff x="1189080" y="4240080"/>
            <a:chExt cx="1008000" cy="1016280"/>
          </a:xfrm>
        </p:grpSpPr>
        <p:grpSp>
          <p:nvGrpSpPr>
            <p:cNvPr id="248" name=""/>
            <p:cNvGrpSpPr/>
            <p:nvPr/>
          </p:nvGrpSpPr>
          <p:grpSpPr>
            <a:xfrm>
              <a:off x="1189080" y="4240080"/>
              <a:ext cx="1008000" cy="989280"/>
              <a:chOff x="1189080" y="4240080"/>
              <a:chExt cx="1008000" cy="9892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1189080" y="4240080"/>
                <a:ext cx="1008000" cy="989280"/>
                <a:chOff x="1189080" y="4240080"/>
                <a:chExt cx="1008000" cy="989280"/>
              </a:xfrm>
            </p:grpSpPr>
            <p:pic>
              <p:nvPicPr>
                <p:cNvPr id="25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89080" y="4240080"/>
                  <a:ext cx="100800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1" name=""/>
                <p:cNvSpPr/>
                <p:nvPr/>
              </p:nvSpPr>
              <p:spPr>
                <a:xfrm>
                  <a:off x="1189080" y="4240080"/>
                  <a:ext cx="100116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289520" y="4249440"/>
                <a:ext cx="795960" cy="349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3" name=""/>
            <p:cNvGrpSpPr/>
            <p:nvPr/>
          </p:nvGrpSpPr>
          <p:grpSpPr>
            <a:xfrm>
              <a:off x="1249920" y="4907520"/>
              <a:ext cx="874800" cy="348840"/>
              <a:chOff x="1249920" y="4907520"/>
              <a:chExt cx="874800" cy="34884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1402560" y="4907520"/>
                <a:ext cx="722160" cy="327600"/>
                <a:chOff x="1402560" y="4907520"/>
                <a:chExt cx="722160" cy="327600"/>
              </a:xfrm>
            </p:grpSpPr>
            <p:sp>
              <p:nvSpPr>
                <p:cNvPr id="255" name=""/>
                <p:cNvSpPr/>
                <p:nvPr/>
              </p:nvSpPr>
              <p:spPr>
                <a:xfrm flipH="1" flipV="1" rot="3964800">
                  <a:off x="1796040" y="480888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 flipV="1" rot="4780200">
                  <a:off x="1714680" y="48405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flipV="1" rot="5076000">
                  <a:off x="1665000" y="48470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 flipV="1" rot="5608200">
                  <a:off x="1604880" y="48535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1249920" y="4912560"/>
                <a:ext cx="720720" cy="343800"/>
                <a:chOff x="1249920" y="4912560"/>
                <a:chExt cx="720720" cy="343800"/>
              </a:xfrm>
            </p:grpSpPr>
            <p:sp>
              <p:nvSpPr>
                <p:cNvPr id="260" name=""/>
                <p:cNvSpPr/>
                <p:nvPr/>
              </p:nvSpPr>
              <p:spPr>
                <a:xfrm flipH="1" flipV="1" rot="5317800">
                  <a:off x="1643040" y="48531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 flipV="1" rot="6133800">
                  <a:off x="1555920" y="48524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 rot="6429000">
                  <a:off x="1506960" y="483876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flipV="1" rot="6961200">
                  <a:off x="1449720" y="482148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684360" y="2440080"/>
            <a:ext cx="1008000" cy="1016280"/>
            <a:chOff x="684360" y="2440080"/>
            <a:chExt cx="1008000" cy="1016280"/>
          </a:xfrm>
        </p:grpSpPr>
        <p:grpSp>
          <p:nvGrpSpPr>
            <p:cNvPr id="265" name=""/>
            <p:cNvGrpSpPr/>
            <p:nvPr/>
          </p:nvGrpSpPr>
          <p:grpSpPr>
            <a:xfrm>
              <a:off x="684360" y="2440080"/>
              <a:ext cx="1008000" cy="988920"/>
              <a:chOff x="684360" y="2440080"/>
              <a:chExt cx="1008000" cy="98892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684360" y="2440080"/>
                <a:ext cx="1008000" cy="988920"/>
                <a:chOff x="684360" y="2440080"/>
                <a:chExt cx="1008000" cy="988920"/>
              </a:xfrm>
            </p:grpSpPr>
            <p:pic>
              <p:nvPicPr>
                <p:cNvPr id="26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4360" y="2440080"/>
                  <a:ext cx="1008000" cy="98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"/>
                <p:cNvSpPr/>
                <p:nvPr/>
              </p:nvSpPr>
              <p:spPr>
                <a:xfrm>
                  <a:off x="684360" y="244008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6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84800" y="244944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0" name=""/>
            <p:cNvGrpSpPr/>
            <p:nvPr/>
          </p:nvGrpSpPr>
          <p:grpSpPr>
            <a:xfrm>
              <a:off x="745200" y="3107520"/>
              <a:ext cx="874800" cy="348840"/>
              <a:chOff x="745200" y="3107520"/>
              <a:chExt cx="874800" cy="34884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897840" y="3107520"/>
                <a:ext cx="722160" cy="327600"/>
                <a:chOff x="897840" y="3107520"/>
                <a:chExt cx="722160" cy="327600"/>
              </a:xfrm>
            </p:grpSpPr>
            <p:sp>
              <p:nvSpPr>
                <p:cNvPr id="272" name=""/>
                <p:cNvSpPr/>
                <p:nvPr/>
              </p:nvSpPr>
              <p:spPr>
                <a:xfrm flipH="1" flipV="1" rot="3964800">
                  <a:off x="1291320" y="300888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flipV="1" rot="4780200">
                  <a:off x="1209960" y="30405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 flipV="1" rot="5076000">
                  <a:off x="1160280" y="30470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 flipV="1" rot="5608200">
                  <a:off x="1100160" y="30535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745200" y="3112560"/>
                <a:ext cx="720720" cy="343800"/>
                <a:chOff x="745200" y="3112560"/>
                <a:chExt cx="720720" cy="343800"/>
              </a:xfrm>
            </p:grpSpPr>
            <p:sp>
              <p:nvSpPr>
                <p:cNvPr id="277" name=""/>
                <p:cNvSpPr/>
                <p:nvPr/>
              </p:nvSpPr>
              <p:spPr>
                <a:xfrm flipH="1" flipV="1" rot="5317800">
                  <a:off x="1138320" y="30531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 flipV="1" rot="6133800">
                  <a:off x="1051200" y="30524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 flipV="1" rot="6429000">
                  <a:off x="1002240" y="303876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 flipV="1" rot="6961200">
                  <a:off x="945000" y="302148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708360" y="2421000"/>
            <a:ext cx="1008000" cy="1016280"/>
            <a:chOff x="3708360" y="2421000"/>
            <a:chExt cx="1008000" cy="1016280"/>
          </a:xfrm>
        </p:grpSpPr>
        <p:grpSp>
          <p:nvGrpSpPr>
            <p:cNvPr id="282" name=""/>
            <p:cNvGrpSpPr/>
            <p:nvPr/>
          </p:nvGrpSpPr>
          <p:grpSpPr>
            <a:xfrm>
              <a:off x="3708360" y="2421000"/>
              <a:ext cx="1008000" cy="988920"/>
              <a:chOff x="3708360" y="2421000"/>
              <a:chExt cx="1008000" cy="98892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3708360" y="2421000"/>
                <a:ext cx="1008000" cy="988920"/>
                <a:chOff x="3708360" y="2421000"/>
                <a:chExt cx="1008000" cy="988920"/>
              </a:xfrm>
            </p:grpSpPr>
            <p:pic>
              <p:nvPicPr>
                <p:cNvPr id="28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708360" y="2421000"/>
                  <a:ext cx="1008000" cy="98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5" name=""/>
                <p:cNvSpPr/>
                <p:nvPr/>
              </p:nvSpPr>
              <p:spPr>
                <a:xfrm>
                  <a:off x="3708360" y="2421000"/>
                  <a:ext cx="1001160" cy="98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8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808800" y="2430360"/>
                <a:ext cx="79596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7" name=""/>
            <p:cNvGrpSpPr/>
            <p:nvPr/>
          </p:nvGrpSpPr>
          <p:grpSpPr>
            <a:xfrm>
              <a:off x="3769200" y="3088440"/>
              <a:ext cx="874800" cy="348840"/>
              <a:chOff x="3769200" y="3088440"/>
              <a:chExt cx="874800" cy="34884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3921840" y="3088440"/>
                <a:ext cx="722160" cy="327600"/>
                <a:chOff x="3921840" y="3088440"/>
                <a:chExt cx="722160" cy="327600"/>
              </a:xfrm>
            </p:grpSpPr>
            <p:sp>
              <p:nvSpPr>
                <p:cNvPr id="289" name=""/>
                <p:cNvSpPr/>
                <p:nvPr/>
              </p:nvSpPr>
              <p:spPr>
                <a:xfrm flipH="1" flipV="1" rot="3964800">
                  <a:off x="4315320" y="298980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flipV="1" rot="4780200">
                  <a:off x="4233960" y="302148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flipV="1" rot="5076000">
                  <a:off x="4184280" y="302796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flipV="1" rot="5608200">
                  <a:off x="4124160" y="30344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3769200" y="3093480"/>
                <a:ext cx="720720" cy="343800"/>
                <a:chOff x="3769200" y="3093480"/>
                <a:chExt cx="720720" cy="343800"/>
              </a:xfrm>
            </p:grpSpPr>
            <p:sp>
              <p:nvSpPr>
                <p:cNvPr id="294" name=""/>
                <p:cNvSpPr/>
                <p:nvPr/>
              </p:nvSpPr>
              <p:spPr>
                <a:xfrm flipH="1" flipV="1" rot="5317800">
                  <a:off x="4162320" y="303408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 flipV="1" rot="6133800">
                  <a:off x="4075200" y="30333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 flipV="1" rot="6429000">
                  <a:off x="4026240" y="301968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 flipV="1" rot="6961200">
                  <a:off x="3969000" y="300240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8" name=""/>
          <p:cNvGrpSpPr/>
          <p:nvPr/>
        </p:nvGrpSpPr>
        <p:grpSpPr>
          <a:xfrm>
            <a:off x="2197080" y="1268280"/>
            <a:ext cx="1008000" cy="1016280"/>
            <a:chOff x="2197080" y="1268280"/>
            <a:chExt cx="1008000" cy="1016280"/>
          </a:xfrm>
        </p:grpSpPr>
        <p:grpSp>
          <p:nvGrpSpPr>
            <p:cNvPr id="299" name=""/>
            <p:cNvGrpSpPr/>
            <p:nvPr/>
          </p:nvGrpSpPr>
          <p:grpSpPr>
            <a:xfrm>
              <a:off x="2197080" y="1268280"/>
              <a:ext cx="1008000" cy="989280"/>
              <a:chOff x="2197080" y="1268280"/>
              <a:chExt cx="1008000" cy="98928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2197080" y="1268280"/>
                <a:ext cx="1008000" cy="989280"/>
                <a:chOff x="2197080" y="1268280"/>
                <a:chExt cx="1008000" cy="989280"/>
              </a:xfrm>
            </p:grpSpPr>
            <p:pic>
              <p:nvPicPr>
                <p:cNvPr id="30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197080" y="1268280"/>
                  <a:ext cx="1008000" cy="98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2" name=""/>
                <p:cNvSpPr/>
                <p:nvPr/>
              </p:nvSpPr>
              <p:spPr>
                <a:xfrm>
                  <a:off x="2197080" y="1268280"/>
                  <a:ext cx="1001160" cy="9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97520" y="1277640"/>
                <a:ext cx="795960" cy="349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4" name=""/>
            <p:cNvGrpSpPr/>
            <p:nvPr/>
          </p:nvGrpSpPr>
          <p:grpSpPr>
            <a:xfrm>
              <a:off x="2257920" y="1935720"/>
              <a:ext cx="874800" cy="348840"/>
              <a:chOff x="2257920" y="1935720"/>
              <a:chExt cx="874800" cy="34884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2410560" y="1935720"/>
                <a:ext cx="722160" cy="327600"/>
                <a:chOff x="2410560" y="1935720"/>
                <a:chExt cx="722160" cy="327600"/>
              </a:xfrm>
            </p:grpSpPr>
            <p:sp>
              <p:nvSpPr>
                <p:cNvPr id="306" name=""/>
                <p:cNvSpPr/>
                <p:nvPr/>
              </p:nvSpPr>
              <p:spPr>
                <a:xfrm flipH="1" flipV="1" rot="3964800">
                  <a:off x="2804040" y="1837080"/>
                  <a:ext cx="126360" cy="5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 flipV="1" rot="4780200">
                  <a:off x="2722680" y="1868760"/>
                  <a:ext cx="12636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 flipV="1" rot="5076000">
                  <a:off x="2673000" y="187524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 flipV="1" rot="5608200">
                  <a:off x="2612880" y="1881720"/>
                  <a:ext cx="12636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2257920" y="1940760"/>
                <a:ext cx="720720" cy="343800"/>
                <a:chOff x="2257920" y="1940760"/>
                <a:chExt cx="720720" cy="343800"/>
              </a:xfrm>
            </p:grpSpPr>
            <p:sp>
              <p:nvSpPr>
                <p:cNvPr id="311" name=""/>
                <p:cNvSpPr/>
                <p:nvPr/>
              </p:nvSpPr>
              <p:spPr>
                <a:xfrm flipH="1" flipV="1" rot="5317800">
                  <a:off x="2651040" y="188136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 flipV="1" rot="6133800">
                  <a:off x="2563920" y="1880640"/>
                  <a:ext cx="126720" cy="5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 flipV="1" rot="6429000">
                  <a:off x="2514960" y="186696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 flipV="1" rot="6961200">
                  <a:off x="2457720" y="1849680"/>
                  <a:ext cx="126720" cy="5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5" name=""/>
          <p:cNvSpPr/>
          <p:nvPr/>
        </p:nvSpPr>
        <p:spPr>
          <a:xfrm rot="21229800">
            <a:off x="1598400" y="1674000"/>
            <a:ext cx="2628360" cy="262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031" y="863"/>
                </a:moveTo>
                <a:arcTo wR="10800" hR="10800" stAng="-4016155" swAng="2645341"/>
                <a:lnTo>
                  <a:pt x="10800" y="10800"/>
                </a:lnTo>
                <a:close/>
              </a:path>
              <a:path fill="none" w="21600" h="21600">
                <a:moveTo>
                  <a:pt x="15031" y="863"/>
                </a:moveTo>
                <a:arcTo wR="10800" hR="10800" stAng="-4016155" swAng="2645341"/>
              </a:path>
            </a:pathLst>
          </a:custGeom>
          <a:noFill/>
          <a:ln cap="rnd" w="38160">
            <a:solidFill>
              <a:srgbClr val="9e9e9e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71440" y="5229360"/>
            <a:ext cx="895320" cy="36036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19640" y="2073240"/>
            <a:ext cx="2957400" cy="3084480"/>
          </a:xfrm>
          <a:custGeom>
            <a:avLst/>
            <a:gdLst>
              <a:gd name="textAreaLeft" fmla="*/ 25560 w 2957400"/>
              <a:gd name="textAreaRight" fmla="*/ 2931840 w 2957400"/>
              <a:gd name="textAreaTop" fmla="*/ 25560 h 3084480"/>
              <a:gd name="textAreaBottom" fmla="*/ 3058920 h 3084480"/>
            </a:gdLst>
            <a:ahLst/>
            <a:rect l="textAreaLeft" t="textAreaTop" r="textAreaRight" b="textAreaBottom"/>
            <a:pathLst>
              <a:path w="21600" h="22528">
                <a:moveTo>
                  <a:pt x="638" y="0"/>
                </a:moveTo>
                <a:arcTo wR="638" hR="638" stAng="16200000" swAng="-5400000"/>
                <a:lnTo>
                  <a:pt x="0" y="21890"/>
                </a:lnTo>
                <a:arcTo wR="638" hR="638" stAng="10800000" swAng="-5400000"/>
                <a:lnTo>
                  <a:pt x="20962" y="22528"/>
                </a:lnTo>
                <a:arcTo wR="638" hR="638" stAng="5400000" swAng="-5400000"/>
                <a:lnTo>
                  <a:pt x="21600" y="638"/>
                </a:lnTo>
                <a:arcTo wR="638" hR="638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463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单击此处添加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53120" y="2106720"/>
            <a:ext cx="2892240" cy="288720"/>
          </a:xfrm>
          <a:prstGeom prst="roundRect">
            <a:avLst>
              <a:gd name="adj" fmla="val 25981"/>
            </a:avLst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235480" y="1573200"/>
            <a:ext cx="2941560" cy="434880"/>
            <a:chOff x="5235480" y="1573200"/>
            <a:chExt cx="2941560" cy="434880"/>
          </a:xfrm>
        </p:grpSpPr>
        <p:sp>
          <p:nvSpPr>
            <p:cNvPr id="320" name=""/>
            <p:cNvSpPr/>
            <p:nvPr/>
          </p:nvSpPr>
          <p:spPr>
            <a:xfrm>
              <a:off x="5235480" y="1573200"/>
              <a:ext cx="2941560" cy="434880"/>
            </a:xfrm>
            <a:prstGeom prst="roundRect">
              <a:avLst>
                <a:gd name="adj" fmla="val 13028"/>
              </a:avLst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463900"/>
                  </a:solidFill>
                  <a:latin typeface="Arial"/>
                </a:rPr>
                <a:t>单击此处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63560" y="1605600"/>
              <a:ext cx="2880000" cy="17856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977160" y="6292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3"/>
          <p:cNvSpPr/>
          <p:nvPr/>
        </p:nvSpPr>
        <p:spPr>
          <a:xfrm>
            <a:off x="1477800" y="4005360"/>
            <a:ext cx="618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46880" y="609300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46390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26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4639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4639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4639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cp:lastPrinted>1899-12-30T00:00:00Z</cp:lastPrinted>
  <dcterms:modified xsi:type="dcterms:W3CDTF">2014-05-30T03:11:50Z</dcterms:modified>
  <cp:revision>26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