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C81-1740-428B-AAC5-559ECE58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982-7529-41F2-BE4F-7497E18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A8B-EEF5-4F0D-8CC5-5E685AB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081-FE92-4514-BF1B-16CD0F3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4F8-6F1E-4252-97F4-42EC5E8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598-2985-4C71-AC30-1A9688B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3B9-F975-4F8A-AD10-D3ADC6E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A96-D291-4016-9DD8-3D5BDCD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575-3685-4580-97F5-8BB9A63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070-3888-4598-B357-CB81B9A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DAF-DE56-4503-9953-AF9C728B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FB7-DB2B-4A94-AFF5-CAEE4CFC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62240" y="1924200"/>
            <a:ext cx="37335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78F-57D8-4E62-8720-75AE1A966B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95320" y="1905120"/>
            <a:ext cx="4496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圣经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PPT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模板免费下载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838240"/>
            <a:ext cx="412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297080"/>
            <a:ext cx="73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51920" y="127800"/>
            <a:ext cx="8791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5698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80808"/>
              </a:solidFill>
              <a:latin typeface="Microsoft Sans Serif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6720" y="0"/>
              <a:ext cx="6745320" cy="701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600" y="3572280"/>
              <a:ext cx="4667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7:01:19Z</dcterms:created>
  <dc:creator>SmileTemplates.com</dc:creator>
  <dc:description/>
  <dc:language>en-US</dc:language>
  <cp:lastModifiedBy>a</cp:lastModifiedBy>
  <dcterms:modified xsi:type="dcterms:W3CDTF">2014-12-10T15:02:45Z</dcterms:modified>
  <cp:revision>1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