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CB1-8FC9-4967-88BB-7D23FEA8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448-D15D-4603-AA2E-4D708D7B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6A13B-2BEE-4F8A-ADED-02DFB315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6498D-1E2E-4CB2-AD93-C2FB79E1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3C05A-3D64-43EE-AC2A-F8DDB902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AFC68-5D9A-4142-A396-FC3D48C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B28BA-9694-4707-980B-745FEAC2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5CE6E-5093-4ABF-82B3-EDC101C0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E8ED0-9DF9-4A1F-A31B-58E944AF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F5F46-AF95-451C-97EA-389A7D5D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2A1FB-37F9-437B-9524-FF7BB4D7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39A6D-ABD2-46CD-82D2-CC2075FF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AF3-FD69-40AE-90A0-B378D133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85665-89D0-4C54-87A4-6C14654D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EAD3F-5C81-4231-89D8-90BBCF11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52CB3-6185-4B0D-A0AE-ABEA3DFE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F58E8-0301-4736-B874-F3F41B15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3CEDF-59DF-49E8-858F-249C96C3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EEEFD-A7CF-4F66-81E0-414100A5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5BB03-CAE2-4C60-8FA7-9F61DD14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58037-9755-44A1-BA83-AD52FB0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48C94-569A-4A7D-9D99-B53B1A52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DBA04-D635-4C52-9EB3-D0E5B5E4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DF5-CE45-41C7-82AF-44074D87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8E9E8-AE95-4078-86DB-BF6BDB86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977D3-939A-4E36-A9E9-B35747A5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67052-10F0-4412-853F-5D89D6A0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FDB46-CCE9-4500-95B2-7DB21EAA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E71CF-ED2F-4744-96CC-148534F5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48033-580F-40C6-BCD2-AE720C6A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F025D-5351-431B-ACF6-D4ACEB7F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AA1E0-4844-42A9-AEA2-9BF3E45F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2A8BB-3AB4-49A5-95FD-1CCA5B5C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2C9E9-5139-439E-8494-7FC4F739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2588-5B72-4832-A130-C8CF1F0D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83414-10A7-4828-8B0D-14F51D03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40BAE-3F16-4364-B168-0B34F7EC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42793-BDCD-4B33-8077-4032F11F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7F1AC-A2C6-4470-80B1-36A2198B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234A3-46E2-4501-B93A-9A4FBE0C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93122-610A-4F6E-960A-848074F6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AE130-06B4-42A7-A46C-160677A9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DF2ED-E08D-47E9-828B-C8190B9F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CD922-E6F4-4FC2-9CC2-DE10BF3F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A2A5B-D9A3-4208-91D3-0ED431DC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9185-4B72-4028-8073-C73DEFB7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E702B-28D9-4B49-83D6-B46F7CB3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C7584-A068-4E4C-B696-79903057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967D8-57AE-4308-89A8-88181896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215FF-52AE-4310-B0A9-32B6A556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6B503-2E14-4550-B02F-CBB58024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6AF46-0BB7-4105-9355-157722DB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8BE6C-9456-4A53-8BCA-E9810ADD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F756A-2097-421E-9E42-8D04F45B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CF4F1-38A5-457D-9F1D-59E54740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F9746-C4D0-4680-9ADF-AAA4CD69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BD9D-0487-4797-BD78-8C74AB93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A182B-19E9-465E-9DA2-4BB26006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673DE-227F-4E0C-BE76-7666EAE2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D5257-126D-486C-9235-FD8FEB8B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D503B-A90A-4680-A681-FC21826E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95753-A3A0-4BEA-B34F-FACD1CCD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01A5F-6759-42C7-938F-BFE5AB8E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E2AFE-1AA7-4ACF-9C05-1201B30E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3446-AEE1-4DA9-A375-741E32B1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707F-6E6D-477A-8BF5-AB5993CB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D5D8-590B-45D4-B1EA-86E4F15C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A512-B5B6-4B0D-AF24-91BA2581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FA5-EEAF-479F-A078-6554910F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5B17-584B-4E26-A621-370ABF1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C37A-72C1-4442-9FFE-A2202860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AC77-8ADF-4103-9260-0826777E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7F68-DDD8-42B6-8A05-C481848E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5495-A254-448C-BCFB-6FA6B702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94681-0539-4D94-A11B-FFAD5A80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3D6A-6E72-48B1-B65F-99CDCDCF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D1E2-EDDB-4A3F-BBF1-3F9776A5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16CE-A63A-4029-B7E6-24B40E25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700E-B55B-419E-8000-D4CC3015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81C-DF02-44E0-9DD4-08A9B0AB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A714-A9AD-4E03-BE49-C2F6C60F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2201-1A4D-4F32-A813-C70055CE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5A74-0C2B-414F-8D7B-667B286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5F60-1126-46C5-8ABD-898AFFC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6AEF-2EB4-4622-A963-320374A4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8113-EA8A-4647-8528-096E6FB5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22110-DEB9-4EC9-9754-2A4B0680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F95F9-A0F5-4120-A1DA-A8B35885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E0F6-B8BB-4625-94CD-189519A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C5CC9-5349-43A8-9462-18189F41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99A-22CC-427F-B860-D4EE7D53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8F93C-5D61-41BD-B2F1-0786798E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FFD42-4B4C-4310-9547-BAAEFEAD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36C2-0ED6-4918-A1E0-70D3764C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8CC38-B0BC-466B-8EBD-3086F259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28847-F067-4C1F-9400-3B921FBC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5B55-0EC8-4B24-B70A-9C8A08B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187E-5B5A-44EE-A712-6A70716E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3DE1-858F-4D48-9CA9-07269EA4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6934-AE08-4ED9-9D34-E9A14D2C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DFB87-5886-4E64-9B63-C97AE45C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63D-3E67-4B8D-B05A-7C71DDE4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146FF-B7D1-4413-A90F-F44EDAD7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B0213-7C09-4088-8AAE-AEB39BF4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B7A0-E9CB-47BB-AB8E-480875E4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ED23D-FAB2-4DED-BBD9-CAEF42E3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487E7-9966-45A6-86C6-9619D49C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BB7F9-B9A1-4F48-9875-225718FA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00794-34C7-4620-9F65-B04BE435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02E52-2455-4579-824E-D0AD146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7C2F8-4FF6-4D8D-B32A-C1B731D4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5335-776D-48A4-9017-E6AEBD51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BDD-CD06-466C-93C4-FAA59FA6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8D5B-28DF-4FE9-AB53-F1516416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C250-25E0-4924-90C5-F3A501F8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B9EAB-BA02-4F95-9407-CC7FF0C7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D12A7-D97B-4507-8637-BC7E08E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04C30-050A-4AB7-BA12-016BDE33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034CD-176D-4B7B-A9C0-60A230F5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7984E-C828-442F-81DC-0AD05675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01733-ECA8-437F-A66B-5A860CE0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56964-4EEA-44F6-A75D-EB9E1BD0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119C9-A2DE-487C-8C29-E2B27D0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27A-CE45-47AD-BA2F-AC644A5F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06620-8DEF-4CE6-8F45-1F5905BE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860AC-B872-4D5B-AB69-D9D1780B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7718F-7165-4518-98AA-A2352388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6507D-054B-47B5-9E2D-6F5051D0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F7098-466D-4675-83CF-BE78BB64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B1685-6149-448B-9362-4DFD042F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4173C-7598-441D-8E7B-5945EB5B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05B8B-1F2F-4DAF-9B85-FA099C4E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EADFA-0C49-4182-AA35-AA314B21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8CDD-75FB-481A-9B11-CDD73795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CA8-DE52-4A9D-AB94-47170D8A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50475-94EE-4B14-B7D3-AE7C0924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C4271-E473-4FA8-9E35-D54A0D49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A034-0322-46E9-BE00-01B2B025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14AE0-1339-4657-B43E-D2E3EB66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E94E6-DD27-4995-A2DE-0CC41662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599C-9FF9-4DB1-B0DA-6D268CE6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B9D37-F45B-4D4F-979D-113EA26D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8CB4B-34A1-425E-AC7F-B4F3EACE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B03B9-FC41-48F1-BA30-4705405B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A30DE-C872-4E99-AC29-6C8C19CF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D3C-C8C6-4740-8A54-B139DC3E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31F2F-1AEB-45F3-BD33-54848B1B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EC332-8B71-44DA-815D-FE0E1065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55378-867A-448C-BC50-3FA82DD6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13C95-6F9B-4EE3-A904-CE047541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9DD4F-91BB-490C-AB33-A4E9AD98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DC7F7-F2C0-4A63-A0FA-07D2EC9B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CD910-96EA-4696-AB21-6111123B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082BA-817C-4723-91A1-4BC13ABB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C89AB-2DB2-4B7F-B2F3-EABE3C29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26609-97C6-4122-A08B-12DB4575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F5C9-1AF3-4D2A-BE7E-5B96377B1C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C079-C7DC-457E-AD07-4FDC407B8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图片1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8D96-FAEB-4897-A4D9-8F2886143D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5139-F487-431C-A35B-2481BACDFF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5FD5-7199-4BF6-95A9-CB666D6195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1C70-CAD1-441D-8905-1FF2C70DAE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438A-FAA5-44FF-8231-DD9BBF456A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ACF6-0E65-413E-BE99-26777EC60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1F92-0974-4929-B9C7-C979D5B459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EBC3-2EF5-465E-B340-05A1DFAAE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F13E-0EBE-487C-B326-446A962EB59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5540-DE31-401E-8953-FC6AAD761B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A188-1DE3-40CF-8F13-ECA5E7FFBA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F557-8C7D-45A6-BC8C-B7CDA9B9A6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FEA0-5286-4002-AEE7-400FFFB3A9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80EF-9AE6-4FD6-BB4E-06A5637E9D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ACA8-A8AF-4CCD-A408-5F9298B53D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414D-99C9-4080-ADC8-0B78FA44A2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3A08-C022-422C-9181-E7CB503CE9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8115-ABE8-4654-803E-1B90E150A7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941B-DB9E-4B94-BDFC-1350AA9BEF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3B96-CB75-4105-9C2E-5F32181570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9F2B-E09F-44B9-99EF-00986289D6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18EB-7159-4208-AD37-4824F76C48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6A4F-B8E3-4DA3-9C94-8ACA49DB4B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2CE9-0DFE-4E57-A895-FCABA74B51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立方</a:t>
            </a: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555480"/>
            <a:ext cx="4952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2:49:58Z</dcterms:created>
  <dc:creator>微软用户</dc:creator>
  <dc:description/>
  <dc:language>en-US</dc:language>
  <cp:lastModifiedBy>a</cp:lastModifiedBy>
  <dcterms:modified xsi:type="dcterms:W3CDTF">2014-12-10T15:08:15Z</dcterms:modified>
  <cp:revision>2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