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B16-AC86-4C36-9B53-D69DDA5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8C5-2683-416C-ADC0-97F259E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304-5169-40E8-B623-11C92BAB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FE9-C79C-4624-84AC-C8ECF7B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59B3-E2C1-4A85-B226-88145C66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A0F4-4962-414E-A518-BA7AEFFC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422-E858-45F1-AEE6-505A7B61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9361-A931-4F13-AAAA-BBA9AF4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D5F9-4DD2-42F3-B0D6-5AF5C67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52D-A233-4AA6-B9FB-759DAA2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D01F-B7F9-40EA-AF31-81BB212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240-E7ED-45C5-972D-CE935F8B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258E-99D3-4DC5-9E06-97F7201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EA6-4D0E-4B14-99C8-03922EB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EB84-CA1B-4C19-8B89-9318757C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DDD-BA9A-4D33-B199-B914674B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E006-981E-4211-8C36-500D7A86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443-5322-4724-B71D-E00BF54D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0EE-E70B-40E6-97EC-67D8E32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AE8-FE53-43B6-B40A-D18381A2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15C-3A36-42D4-9045-4A4EBF8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B54-F709-4A10-AA16-333D759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E8A-24DB-473A-9878-505ECFA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1E5-A644-417C-A553-4AEAFAA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D7F-497B-406E-896D-225B862F0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296-2469-4A9A-A996-CC1D67B67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752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4Z</dcterms:created>
  <dc:creator/>
  <dc:description/>
  <dc:language>en-US</dc:language>
  <cp:lastModifiedBy/>
  <cp:lastPrinted>1899-12-30T00:00:00Z</cp:lastPrinted>
  <dcterms:modified xsi:type="dcterms:W3CDTF">2014-05-30T07:30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