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7DE0-DFB1-44C7-B6F2-CE2D1702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AF48-CD1D-4CEC-8F63-03377DC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2868-CA43-4E76-8F4A-1264AF3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0433-7B92-444F-BB69-CC048947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1612-B345-4592-A824-6D67D23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4A750-6FDB-4F80-B054-2D23FEE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D9B4-F975-4EA5-A0FB-3E35E579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9A36-8742-4D5E-A37A-202F432A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D6FF-A304-4375-8040-7FDB0EF0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4150A-1906-4CC3-841A-C8C39AF3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18AC-C6E0-40FE-866A-CE6FC37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6685-AABC-411B-A454-8870F05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B6625-3FCA-440D-AA4F-EB24C76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B10E0-0B04-4F62-A5C2-8723B1BA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DB4DA-933A-4DAB-85FA-B58A3984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74B34-5170-47F9-AD23-2DD52FBE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BEC9-36EA-422D-9C81-AC4DA5E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64ED3-E5C8-475D-9DB3-09556A9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A7A3F-3999-4EC3-B54E-AA69AAC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6E429-DDC3-4404-882E-9C20CA31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475D-6BCA-4D48-93BB-956CF365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DE93C-87D4-408B-B3A2-2469E7CD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A172-730A-4206-9B71-C210875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9A348-37A3-4493-AAB2-EEC3E0C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53FCD-403C-4252-8B7C-C1B6048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343C-455D-4343-A266-6EF60D9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0AFB-8C71-4EC6-9260-9F0FCA9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7CD1C-2B53-4D6B-9122-0408B44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98C30-F879-4118-B7F5-717D60F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07486-8B87-40CC-A509-BABD16A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F6E03-2FC1-47A0-B73E-12D8ACA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56E27-378C-4543-B890-5AEE7E1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5054C-72BA-4EA1-B729-E84C7BA5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9818B-788D-4811-9636-FB294887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8FBF7-C6D9-464A-93AD-EC0F69DA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AC7A4-0E4D-4AE1-B5E7-A7E4BB2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96138-BD4E-4D23-B765-6B7FDFF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C9753-FA00-439B-9998-9BE9EA1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9F488-7A25-4D5F-B7D1-005A6CB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7524-B9CD-4534-8344-439F098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D1C5C-F9CB-4FEB-ABAF-92D9728D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72E39-5722-40DA-B23C-C533987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0D698-02A7-43EB-8793-106D00E6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C658A-0A9D-49FC-A4FE-A3DE23A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9A43B-B295-4EAC-860B-777CE90A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ADFC7-7D79-4CD2-B296-B435E850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F88F-FC0A-42E5-B771-B7D704F3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DF4AB-D65B-4309-ABFF-FBAD4A8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08FF-97BB-4052-A234-90235BA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D418-FB3A-4B56-96FA-D9C2EB5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D144-20E0-499B-B925-9EE3EABB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A579-CE37-4AF0-B4E2-30576D4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C88A-33AF-4239-940A-70AF436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1E8E-1DEC-4570-9FFC-660D585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12F06-0BCF-4171-8455-863B92E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6D7F-C56A-4A59-9B93-0EE664A1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B234-B749-41C7-9013-A9936FC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4496F-83CC-40AA-821B-C66B1CEB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4B7F6-6DFD-4026-A811-42BE658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3325-F955-463E-8324-1681663D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86AF0-6A97-43E6-9ABD-37F9482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E9677-3A67-4A42-93D3-D0A3489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C65A5-2A1E-41BF-9314-3DB847A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E6A8F-781C-4C84-9F59-EA3EFA5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2E5E-8E6F-4FFD-8002-64D61BC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5DED5-08B9-4DFF-AB5F-92E345F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BDF93-054B-4D98-BFFD-6217177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C9BC8-C57F-4F6F-AE42-B457E957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8726-ACB8-4130-BE2E-DE84C002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662-E5CE-4C31-B676-AC5C5012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327-8185-4BEE-811F-FE176B73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150-9747-4675-832D-CFCA564D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228-5096-4054-A635-B15BA8F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496-DCC7-4126-A606-E2AB2930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5CB-213C-46C9-B7CC-BCA50D2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9B7-FD4B-4C7E-8697-BFD79B6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C25-8F00-4635-BC31-F04FCBA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210-41E0-442E-A56D-3EBD556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7F1-7243-4460-9673-00A7E81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796-760F-4415-8E07-D29B4C42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8E1-7DC7-47FF-89FA-099819F7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D685-7035-4AA4-963F-921D30FA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FF2C-FA93-4F71-9F14-A28026E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A625-01AC-4064-8B71-40BDDD96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75EE-0112-4633-A33B-E5C01EB4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538B-CEC9-4649-A69A-36648FCE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12CA-9F85-4F7E-87C0-DF0079F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78A4-B9C5-4E1F-9DCB-812897D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821-6336-4C28-8122-5FB28B8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4867-2567-4593-B661-FB0CD9D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98F-181F-4EE6-B2CB-1F456958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8D77-0FE1-4C9D-8AF0-55720DC4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CFF3-D44B-4E5F-9904-8B30C428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9EE9-91CC-4539-9E67-4FCB05F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16DD-07AB-401B-BFDF-BB1D99B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33B6A-2781-42D2-8367-76868ACF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74A1-F498-4850-8BE8-6615976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0C3C-7B0C-44D6-BD30-7157B4B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097B-8ECC-4E51-93DE-90ED92E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D4FD-7B59-47F7-B76D-C3D26C5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176A-94BC-49EF-BBEB-E23BA68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E3EE-82D4-4A65-875A-E555D74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0A50-A6E0-4DAC-9B85-80A6F7F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2185-F12B-4009-8F3C-4A8B0ADA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F5AB-D00B-4ECE-AEC3-0D30B6CE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4FFB-0549-4EAA-A6EE-1DF6CBE2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0A58-AB45-497E-86F9-D241EDD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856F-FCDC-45A7-B77F-994CA05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9A759-3DA8-4D4C-9B4D-297262F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5CB2-7079-4478-B9A4-7A7A80A8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3FA6-9974-415F-BFF6-799475D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C76B-EFDD-4AB5-9F77-FFB15DC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0239-E269-4AF5-BDEC-A4261E3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FAA5-63DC-4D53-A735-9E196A5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ABE0-4841-47A2-8314-F360DDB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9049-5441-480F-8A48-EE9ED4E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BBC7-DDD5-4609-BC44-4A7946CE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1582-347A-4045-90DB-8DC41766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0271-817A-444B-80B2-51866341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BC93-AE45-452F-A742-A71C0127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F9C2-2C77-45A1-8861-162E4F6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6D18-8CE4-4C06-8037-B7D7D527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B57F-0A45-4582-B954-9CCD763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DD8B-2B78-4B01-806E-0AA2DAA7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A11F-280B-4324-9562-33A79A7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FF79D-C728-4E12-A943-CC4AFD7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6C78-536A-4B20-9276-5F19CF41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850A-8F84-4B1D-A0A5-33CF6518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1255-03F6-47A8-9ADE-9AF7F6D8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B059-C9AE-4D4D-9397-02201E8F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E79D-0B3E-41ED-A01B-7C7E8DA7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1F5C-9CAE-49A0-A5EA-EB15244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C8E0-CA21-48FD-8439-059037ED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5EC3B-7D1B-4A38-B8B3-D4D5600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54C5F-ED28-4CB6-8805-C95251C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C428-18B4-4DC3-B594-E722EEB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F414-A5FA-4600-9546-4ED3DE4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834AF-DA81-47CD-BC68-CD1340C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75F9-73C7-428E-AC17-434B768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949DC-6A04-40CF-AFBF-E804C65D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07559-FFB6-4635-99E1-9A34C461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7C8E-D4EB-49D9-B429-31502D4D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F4C6-9379-48B0-878A-9E73E2B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7DE5-F692-44E1-8A88-1E34F10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" name="Picture 159" descr="logo"/>
          <p:cNvPicPr/>
          <p:nvPr/>
        </p:nvPicPr>
        <p:blipFill>
          <a:blip r:embed="rId3"/>
          <a:stretch/>
        </p:blipFill>
        <p:spPr>
          <a:xfrm>
            <a:off x="0" y="85680"/>
            <a:ext cx="961920" cy="18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AF7-2952-4BC4-878C-CEAF6710253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76C8-FB6E-4370-9EF3-5A24305312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D4F-F72E-482D-BE30-8B46DCDA8CB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C61F-F5D4-439B-81E9-CEF518AD71D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0A7-819E-41EC-B61D-B56E3D36B9B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979-1E0C-4F4F-A677-118185CC193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D97-CEF0-4656-84EE-312BD8BB66C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3AB-10F1-476F-BF62-184E33A23C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1C95-A5A5-4CF0-8EBB-1A6DCABFEB3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5EF9-D2A6-47BB-B1B8-1094871BA4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625-C0D7-4342-837F-1F63B247A31A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6274-019F-4BCD-B32B-CFBD5F6C15C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7B5-911A-437F-B926-E0EB9579FC8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494-4612-4FB8-B829-3880540F6A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3B9-04D7-4E2C-9320-D87A51BFC5A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29C-A952-4CEC-8ED0-2450B42F92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71A1-C6A9-4243-9350-F1435719181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900-92B6-4AE5-B959-50BFAA3867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254C-A7D9-438E-AF5F-9EE73E14DE9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48B-763A-4132-88C6-AEF263DA4AE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620-23C3-48AF-81D6-D8BD087FA36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A89-3A13-43BA-BE8F-61F6C596A6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C5A0-A465-4DA8-8B61-14E037A16E3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674B-9C80-4BDA-B2CB-CADCFE6359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91640" y="2402640"/>
            <a:ext cx="763452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45a10"/>
                </a:solidFill>
                <a:latin typeface="Verdana"/>
                <a:ea typeface="Gulim"/>
              </a:rPr>
              <a:t>商务会谈</a:t>
            </a:r>
            <a:r>
              <a:rPr b="1" lang="en-US" sz="2800" spc="-1" strike="noStrike">
                <a:solidFill>
                  <a:srgbClr val="a45a10"/>
                </a:solidFill>
                <a:latin typeface="Verdana"/>
                <a:ea typeface="Gulim"/>
              </a:rPr>
              <a:t>PPT</a:t>
            </a:r>
            <a:r>
              <a:rPr b="1" lang="zh-CN" sz="2800" spc="-1" strike="noStrike">
                <a:solidFill>
                  <a:srgbClr val="a45a10"/>
                </a:solidFill>
                <a:latin typeface="Verdana"/>
                <a:ea typeface="Gulim"/>
              </a:rPr>
              <a:t>模板免费下载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pic>
        <p:nvPicPr>
          <p:cNvPr id="570" name="Picture 401" descr="logo"/>
          <p:cNvPicPr/>
          <p:nvPr/>
        </p:nvPicPr>
        <p:blipFill>
          <a:blip r:embed="rId2"/>
          <a:stretch/>
        </p:blipFill>
        <p:spPr>
          <a:xfrm>
            <a:off x="0" y="1873080"/>
            <a:ext cx="96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  <a:ea typeface="Gulim"/>
              </a:rPr>
              <a:t>How DemoCreator Works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73200" y="1423800"/>
            <a:ext cx="784368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宋体"/>
              </a:rPr>
              <a:t>Record the actions taken on the application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Record</a:t>
            </a: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mouse movements and keystrok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宋体"/>
              </a:rPr>
              <a:t>Record narrations as instruction</a:t>
            </a:r>
            <a:r>
              <a:rPr b="1" lang="zh-CN" sz="2000" spc="-1" strike="noStrike">
                <a:solidFill>
                  <a:srgbClr val="a45a10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Record narr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Import audio from local dis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5a10"/>
                </a:solidFill>
                <a:latin typeface="Verdana"/>
                <a:ea typeface="宋体"/>
              </a:rPr>
              <a:t>Add callouts to the video tutorial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Balloons, highlights and animations to enhance the video tutorial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5a10"/>
                </a:solidFill>
                <a:latin typeface="Verdana"/>
                <a:ea typeface="宋体"/>
              </a:rPr>
              <a:t>Publish the video tutorial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宋体"/>
              </a:rPr>
              <a:t>Publish to Flash movie, auto-running CD/EXE, LMS and email with AICC/SCROM compli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3" name="Picture 5" descr="logo"/>
          <p:cNvPicPr/>
          <p:nvPr/>
        </p:nvPicPr>
        <p:blipFill>
          <a:blip r:embed="rId2"/>
          <a:stretch/>
        </p:blipFill>
        <p:spPr>
          <a:xfrm>
            <a:off x="0" y="264960"/>
            <a:ext cx="96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42640" y="2653920"/>
            <a:ext cx="4024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  <a:ea typeface="宋体"/>
              </a:rPr>
              <a:t>Thank you !</a:t>
            </a:r>
            <a:endParaRPr b="1" lang="en-US" sz="3200" spc="-1" strike="noStrike">
              <a:solidFill>
                <a:srgbClr val="fcee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10:41Z</dcterms:created>
  <dc:creator/>
  <dc:description/>
  <dc:language>en-US</dc:language>
  <cp:lastModifiedBy>a</cp:lastModifiedBy>
  <dcterms:modified xsi:type="dcterms:W3CDTF">2014-12-10T15:07:18Z</dcterms:modified>
  <cp:revision>2</cp:revision>
  <dc:subject/>
  <dc:title>Wondershare DemoCreato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