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A8A-1B97-4D7D-8D84-7C3F7A8E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E65-5A7C-43B0-A7BA-51F462C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558-41F4-409F-A7DD-3825C25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B44-DE65-4FBA-B70A-561A73C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A4A-DB01-4F02-BAA8-FEE0E7B1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FC2-F3CC-4834-B97C-978D7D87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847-7F50-4528-A415-6A529E9E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982-2563-45A1-85D1-71F8F37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8F5-1EA9-46DA-ADDB-654ABBB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9E6-F59C-40FE-A1F8-E4D0116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23A-A203-44A3-B153-82E48599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225-52C5-4560-BB7E-D7A63256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AA3F-E0BC-441F-8490-DDFC94CE1E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67CF-50F2-4062-9113-66B23FADB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500280" y="5357880"/>
            <a:ext cx="55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商务全球化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占位符 12" descr=""/>
          <p:cNvPicPr/>
          <p:nvPr/>
        </p:nvPicPr>
        <p:blipFill>
          <a:blip r:embed="rId2"/>
          <a:srcRect l="9638" t="0" r="9638" b="0"/>
          <a:stretch/>
        </p:blipFill>
        <p:spPr>
          <a:xfrm>
            <a:off x="642960" y="714240"/>
            <a:ext cx="4643280" cy="457200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5643360" y="713880"/>
            <a:ext cx="278604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Calibri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st is in the knowledgeconomy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, in has satisfied in the materi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and situation, the people star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 pursue own individual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ment and the emo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and gradually, the desig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st have emphatically to carr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 the consideration to human'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otion deman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168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占位符 6" descr=""/>
          <p:cNvPicPr/>
          <p:nvPr/>
        </p:nvPicPr>
        <p:blipFill>
          <a:blip r:embed="rId2"/>
          <a:srcRect l="1225" t="0" r="1225" b="0"/>
          <a:stretch/>
        </p:blipFill>
        <p:spPr>
          <a:xfrm>
            <a:off x="4929120" y="642960"/>
            <a:ext cx="3643560" cy="242892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4928760" y="3143160"/>
            <a:ext cx="37148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, in h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tisfied in the material demand sit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714240" y="928800"/>
            <a:ext cx="3786480" cy="4286160"/>
            <a:chOff x="714240" y="928800"/>
            <a:chExt cx="3786480" cy="4286160"/>
          </a:xfrm>
        </p:grpSpPr>
        <p:sp>
          <p:nvSpPr>
            <p:cNvPr id="85" name="Rectangle 3"/>
            <p:cNvSpPr/>
            <p:nvPr/>
          </p:nvSpPr>
          <p:spPr>
            <a:xfrm>
              <a:off x="714240" y="141264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c0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903240" y="92880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903240" y="92880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14240" y="290052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bd99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"/>
            <p:cNvSpPr/>
            <p:nvPr/>
          </p:nvSpPr>
          <p:spPr>
            <a:xfrm>
              <a:off x="903240" y="241668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bd99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903240" y="241668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714240" y="438840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99ba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>
              <a:off x="903240" y="390456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99ba5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903240" y="390456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4642920" y="928440"/>
            <a:ext cx="37148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Calibri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, i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s satisfied in the material dem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uation, the people start to pursue ow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dividuality development and the emo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and gradually, the design must hav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phatically to carry on the consider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 human's emotion deman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143680" y="5429160"/>
            <a:ext cx="37144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7:17:00Z</dcterms:created>
  <dc:creator>User</dc:creator>
  <dc:description/>
  <dc:language>en-US</dc:language>
  <cp:lastModifiedBy>a</cp:lastModifiedBy>
  <dcterms:modified xsi:type="dcterms:W3CDTF">2014-12-10T15:03:11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