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C3EC-74B0-46F1-92A4-441E481A5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370D-9141-4D0D-B4AA-1211524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0FF7-42A1-4C72-910B-A794A13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60AE-5A7B-4C1C-B9DB-681FA2500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6606-7E9A-4408-8692-1C5577B9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CCFD-4894-45D2-9F5F-344E5636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F0D4-2B2E-41D6-B58D-714165B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CEE1-4CC9-424B-AE0D-0305D0C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419B-EC88-47AF-8E0C-1FCB096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FF254-1E47-4425-BCE0-94B1453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7A02-64C2-4111-82CE-6D8F945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6E81-0CE0-4A51-A409-0C77C7B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F1E1-332C-486E-94B3-BCE61ED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387EB-AA7E-4131-A042-BF81002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2809A-EFC1-4BE7-ABD7-3C77201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09B9-ABA6-46DC-AD93-E600A604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1AE5-DC68-4E51-8306-3A396915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7BFC-96ED-429A-89F7-7B1CC411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33E4-DE3A-4735-A13C-FEB8CA4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67A8-9B7E-4697-958F-6B213D81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A70C-5124-4052-93CD-24B4152F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D2C1-68FB-4D68-9933-E272A4B1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F9DC-395D-48B0-899D-7329473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B97B-D7B0-49E7-AF71-ED6023C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03" descr=""/>
          <p:cNvPicPr/>
          <p:nvPr/>
        </p:nvPicPr>
        <p:blipFill>
          <a:blip r:embed="rId3"/>
          <a:stretch/>
        </p:blipFill>
        <p:spPr>
          <a:xfrm>
            <a:off x="0" y="701640"/>
            <a:ext cx="9144000" cy="82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25000"/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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BE2-7890-47C3-9DFC-24302C842B5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2515-7CD7-467A-B2F6-9A924F8CB9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4172040"/>
            <a:ext cx="9144000" cy="360"/>
            <a:chOff x="0" y="4172040"/>
            <a:chExt cx="9144000" cy="360"/>
          </a:xfrm>
        </p:grpSpPr>
        <p:sp>
          <p:nvSpPr>
            <p:cNvPr id="83" name="Line 35"/>
            <p:cNvSpPr/>
            <p:nvPr/>
          </p:nvSpPr>
          <p:spPr>
            <a:xfrm>
              <a:off x="0" y="417204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0" y="4172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</p:grpSp>
      <p:sp>
        <p:nvSpPr>
          <p:cNvPr id="85" name="Rectangle 37"/>
          <p:cNvSpPr/>
          <p:nvPr/>
        </p:nvSpPr>
        <p:spPr>
          <a:xfrm>
            <a:off x="-3240" y="914400"/>
            <a:ext cx="91472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商务全球化</a:t>
            </a:r>
            <a:r>
              <a:rPr b="1" lang="en-US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819520" y="5562720"/>
            <a:ext cx="5943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zh-CN" sz="32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6720" y="0"/>
              <a:ext cx="6745320" cy="701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600" y="3572280"/>
              <a:ext cx="4667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1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0Z</dcterms:created>
  <dc:creator/>
  <dc:description/>
  <dc:language>en-US</dc:language>
  <cp:lastModifiedBy>a</cp:lastModifiedBy>
  <dcterms:modified xsi:type="dcterms:W3CDTF">2014-12-10T15:04:36Z</dcterms:modified>
  <cp:revision>10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