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754-8082-4DA7-855B-CB2D8F35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067-5D70-45EE-A028-BB3D92F4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07A-CCF3-48DE-89FF-FD390A2C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2F7-1AA9-4211-B825-D631ED38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1832-F092-4A75-BF27-AD60FB0E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C014-66B5-4436-903F-3F307A51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99EB-B182-4F29-8ABA-0221BC21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4DCC-1A78-4C19-8E05-B91E278A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C0D6-FC92-4D3D-8C28-2FF8AFEB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B814-2410-48FC-BBBB-27CAADC0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57F4-6374-463D-A7DB-7CB0CE23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129-FF42-4E01-AD3A-7C6BDB5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F47F-E53D-4E5A-85C6-518E9A99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3D50-DB7B-4746-B075-F42A5A2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D06C-D9A8-4F2D-BD1F-AFF45FDC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CB8E-0F2B-4F8A-885F-8BC34D31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CB7A-CA31-4F73-A28A-7525EE3B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353-75A0-48CA-8FA6-63E100BB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5BB-3C9C-4B54-8A2B-5DA707DB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AFB-A6BD-4470-A72B-1F63389D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A84-1BAE-4CB6-AE0A-6249DBD4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088-08B4-4A00-86C3-FE5F02E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212-166E-4025-8528-C8E1D36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642-AC86-4E1A-8CEE-D4E7ECA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-OTF Shin Go Pr6N U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-OTF Shin Go Pr6N U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-OTF Shin Go Pr6N U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-OTF Shin Go Pr6N U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-OTF Shin Go Pr6N U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-OTF Shin Go Pr6N U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-OTF Shin Go Pr6N U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-OTF Shin Go Pr6N 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-OTF Shin Go Pr6N 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-OTF Shin Go Pr6N 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05A3-F944-4A3C-B523-1548DFE68724}" type="slidenum">
              <a:rPr b="0" lang="zh-CN" sz="1200" spc="-1" strike="noStrike">
                <a:solidFill>
                  <a:srgbClr val="898989"/>
                </a:solidFill>
                <a:latin typeface="A-OTF Shin Go Pr6N 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7B39-5860-47A1-B469-E0FE35AEB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905200" y="1171440"/>
            <a:ext cx="6311880" cy="3659400"/>
            <a:chOff x="2905200" y="1171440"/>
            <a:chExt cx="6311880" cy="3659400"/>
          </a:xfrm>
        </p:grpSpPr>
        <p:sp>
          <p:nvSpPr>
            <p:cNvPr id="83" name="矩形 5"/>
            <p:cNvSpPr/>
            <p:nvPr/>
          </p:nvSpPr>
          <p:spPr>
            <a:xfrm>
              <a:off x="2905200" y="1171440"/>
              <a:ext cx="6311880" cy="365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4" descr=""/>
            <p:cNvPicPr/>
            <p:nvPr/>
          </p:nvPicPr>
          <p:blipFill>
            <a:blip r:embed="rId1"/>
            <a:srcRect l="0" t="12097" r="0" b="14191"/>
            <a:stretch/>
          </p:blipFill>
          <p:spPr>
            <a:xfrm>
              <a:off x="3125160" y="1330200"/>
              <a:ext cx="5891400" cy="331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2518200" y="1033920"/>
            <a:ext cx="1629720" cy="1165680"/>
            <a:chOff x="2518200" y="1033920"/>
            <a:chExt cx="1629720" cy="1165680"/>
          </a:xfrm>
        </p:grpSpPr>
        <p:sp>
          <p:nvSpPr>
            <p:cNvPr id="86" name="矩形 8"/>
            <p:cNvSpPr/>
            <p:nvPr/>
          </p:nvSpPr>
          <p:spPr>
            <a:xfrm rot="780600">
              <a:off x="2595240" y="1188720"/>
              <a:ext cx="1474920" cy="8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图片 9" descr=""/>
            <p:cNvPicPr/>
            <p:nvPr/>
          </p:nvPicPr>
          <p:blipFill>
            <a:blip r:embed="rId2"/>
            <a:srcRect l="0" t="12085" r="0" b="14207"/>
            <a:stretch/>
          </p:blipFill>
          <p:spPr>
            <a:xfrm rot="780600">
              <a:off x="2647080" y="1226520"/>
              <a:ext cx="1376640" cy="7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7837200" y="3718080"/>
            <a:ext cx="1599480" cy="1248840"/>
            <a:chOff x="7837200" y="3718080"/>
            <a:chExt cx="1599480" cy="1248840"/>
          </a:xfrm>
        </p:grpSpPr>
        <p:sp>
          <p:nvSpPr>
            <p:cNvPr id="89" name="矩形 11"/>
            <p:cNvSpPr/>
            <p:nvPr/>
          </p:nvSpPr>
          <p:spPr>
            <a:xfrm rot="20389200">
              <a:off x="7934400" y="3935160"/>
              <a:ext cx="1404720" cy="81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12" descr=""/>
            <p:cNvPicPr/>
            <p:nvPr/>
          </p:nvPicPr>
          <p:blipFill>
            <a:blip r:embed="rId3"/>
            <a:srcRect l="0" t="12114" r="0" b="14198"/>
            <a:stretch/>
          </p:blipFill>
          <p:spPr>
            <a:xfrm rot="20389200">
              <a:off x="7982280" y="3970080"/>
              <a:ext cx="1311120" cy="73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文本框 13"/>
          <p:cNvSpPr/>
          <p:nvPr/>
        </p:nvSpPr>
        <p:spPr>
          <a:xfrm>
            <a:off x="4816440" y="511956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通用图片展示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2" descr=""/>
          <p:cNvPicPr/>
          <p:nvPr/>
        </p:nvPicPr>
        <p:blipFill>
          <a:blip r:embed="rId1"/>
          <a:srcRect l="0" t="10306" r="0" b="4273"/>
          <a:stretch/>
        </p:blipFill>
        <p:spPr>
          <a:xfrm>
            <a:off x="2114640" y="1577880"/>
            <a:ext cx="1893960" cy="1065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3" name="矩形 3"/>
          <p:cNvSpPr/>
          <p:nvPr/>
        </p:nvSpPr>
        <p:spPr>
          <a:xfrm>
            <a:off x="4146480" y="1577880"/>
            <a:ext cx="6280200" cy="1065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8"/>
          <p:cNvSpPr/>
          <p:nvPr/>
        </p:nvSpPr>
        <p:spPr>
          <a:xfrm>
            <a:off x="4280040" y="1957320"/>
            <a:ext cx="60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26" descr=""/>
          <p:cNvPicPr/>
          <p:nvPr/>
        </p:nvPicPr>
        <p:blipFill>
          <a:blip r:embed="rId2"/>
          <a:srcRect l="0" t="10306" r="0" b="4273"/>
          <a:stretch/>
        </p:blipFill>
        <p:spPr>
          <a:xfrm>
            <a:off x="8532720" y="2882880"/>
            <a:ext cx="1893960" cy="1065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6" name="矩形 27"/>
          <p:cNvSpPr/>
          <p:nvPr/>
        </p:nvSpPr>
        <p:spPr>
          <a:xfrm>
            <a:off x="2114640" y="2882880"/>
            <a:ext cx="6280200" cy="1065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2247840" y="3260880"/>
            <a:ext cx="60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29" descr=""/>
          <p:cNvPicPr/>
          <p:nvPr/>
        </p:nvPicPr>
        <p:blipFill>
          <a:blip r:embed="rId3"/>
          <a:srcRect l="0" t="10306" r="0" b="4273"/>
          <a:stretch/>
        </p:blipFill>
        <p:spPr>
          <a:xfrm>
            <a:off x="2114640" y="4187880"/>
            <a:ext cx="1893960" cy="106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矩形 30"/>
          <p:cNvSpPr/>
          <p:nvPr/>
        </p:nvSpPr>
        <p:spPr>
          <a:xfrm>
            <a:off x="4146480" y="4187880"/>
            <a:ext cx="6280200" cy="1063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38"/>
          <p:cNvSpPr/>
          <p:nvPr/>
        </p:nvSpPr>
        <p:spPr>
          <a:xfrm>
            <a:off x="4280040" y="4565520"/>
            <a:ext cx="60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014480" y="2173320"/>
            <a:ext cx="2792520" cy="1617480"/>
            <a:chOff x="1014480" y="2173320"/>
            <a:chExt cx="2792520" cy="1617480"/>
          </a:xfrm>
        </p:grpSpPr>
        <p:sp>
          <p:nvSpPr>
            <p:cNvPr id="102" name="矩形 11"/>
            <p:cNvSpPr/>
            <p:nvPr/>
          </p:nvSpPr>
          <p:spPr>
            <a:xfrm>
              <a:off x="1014480" y="2173320"/>
              <a:ext cx="2792520" cy="161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图片 12" descr=""/>
            <p:cNvPicPr/>
            <p:nvPr/>
          </p:nvPicPr>
          <p:blipFill>
            <a:blip r:embed="rId1"/>
            <a:srcRect l="0" t="12098" r="0" b="14195"/>
            <a:stretch/>
          </p:blipFill>
          <p:spPr>
            <a:xfrm>
              <a:off x="1111680" y="2243520"/>
              <a:ext cx="2606760" cy="146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4724280" y="2173320"/>
            <a:ext cx="2791080" cy="1617480"/>
            <a:chOff x="4724280" y="2173320"/>
            <a:chExt cx="2791080" cy="1617480"/>
          </a:xfrm>
        </p:grpSpPr>
        <p:sp>
          <p:nvSpPr>
            <p:cNvPr id="105" name="矩形 15"/>
            <p:cNvSpPr/>
            <p:nvPr/>
          </p:nvSpPr>
          <p:spPr>
            <a:xfrm>
              <a:off x="4724280" y="2173320"/>
              <a:ext cx="2791080" cy="161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图片 16" descr=""/>
            <p:cNvPicPr/>
            <p:nvPr/>
          </p:nvPicPr>
          <p:blipFill>
            <a:blip r:embed="rId2"/>
            <a:srcRect l="0" t="12098" r="0" b="14195"/>
            <a:stretch/>
          </p:blipFill>
          <p:spPr>
            <a:xfrm>
              <a:off x="4821480" y="2243520"/>
              <a:ext cx="2605320" cy="146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8432640" y="2173320"/>
            <a:ext cx="2792520" cy="1617480"/>
            <a:chOff x="8432640" y="2173320"/>
            <a:chExt cx="2792520" cy="1617480"/>
          </a:xfrm>
        </p:grpSpPr>
        <p:sp>
          <p:nvSpPr>
            <p:cNvPr id="108" name="矩形 18"/>
            <p:cNvSpPr/>
            <p:nvPr/>
          </p:nvSpPr>
          <p:spPr>
            <a:xfrm>
              <a:off x="8432640" y="2173320"/>
              <a:ext cx="2792520" cy="161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19" descr=""/>
            <p:cNvPicPr/>
            <p:nvPr/>
          </p:nvPicPr>
          <p:blipFill>
            <a:blip r:embed="rId3"/>
            <a:srcRect l="0" t="12098" r="0" b="14195"/>
            <a:stretch/>
          </p:blipFill>
          <p:spPr>
            <a:xfrm>
              <a:off x="8529840" y="2243520"/>
              <a:ext cx="2606760" cy="146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文本框 38"/>
          <p:cNvSpPr/>
          <p:nvPr/>
        </p:nvSpPr>
        <p:spPr>
          <a:xfrm>
            <a:off x="1014480" y="395928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38"/>
          <p:cNvSpPr/>
          <p:nvPr/>
        </p:nvSpPr>
        <p:spPr>
          <a:xfrm>
            <a:off x="4762440" y="3959280"/>
            <a:ext cx="27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-OTF Shin Go Pr6N U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38"/>
          <p:cNvSpPr/>
          <p:nvPr/>
        </p:nvSpPr>
        <p:spPr>
          <a:xfrm>
            <a:off x="8512200" y="395928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1539720" y="153504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在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5175360" y="153972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在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8943840" y="15397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在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2" descr=""/>
          <p:cNvPicPr/>
          <p:nvPr/>
        </p:nvPicPr>
        <p:blipFill>
          <a:blip r:embed="rId1"/>
          <a:srcRect l="0" t="10306" r="0" b="4289"/>
          <a:stretch/>
        </p:blipFill>
        <p:spPr>
          <a:xfrm>
            <a:off x="3209760" y="1322280"/>
            <a:ext cx="5855040" cy="3289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7" name="文本框 38"/>
          <p:cNvSpPr/>
          <p:nvPr/>
        </p:nvSpPr>
        <p:spPr>
          <a:xfrm>
            <a:off x="3544920" y="4865760"/>
            <a:ext cx="53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PPT</a:t>
            </a: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之家： </a:t>
            </a:r>
            <a:r>
              <a:rPr b="0" lang="en-US" sz="2800" spc="-1" strike="noStrike">
                <a:solidFill>
                  <a:srgbClr val="000000"/>
                </a:solidFill>
                <a:latin typeface="A-OTF Shin Go Pr6N U"/>
              </a:rPr>
              <a:t>www.eeppt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3209760" y="4164120"/>
            <a:ext cx="5864400" cy="447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5257800" y="42037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在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"/>
          <p:cNvSpPr/>
          <p:nvPr/>
        </p:nvSpPr>
        <p:spPr>
          <a:xfrm>
            <a:off x="5327640" y="37242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幼圆"/>
                <a:ea typeface="微软雅黑"/>
              </a:rPr>
              <a:t>谢谢观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278320" y="2127240"/>
            <a:ext cx="1487520" cy="1481040"/>
            <a:chOff x="5278320" y="2127240"/>
            <a:chExt cx="1487520" cy="1481040"/>
          </a:xfrm>
        </p:grpSpPr>
        <p:pic>
          <p:nvPicPr>
            <p:cNvPr id="122" name="椭圆 4" descr=""/>
            <p:cNvPicPr/>
            <p:nvPr/>
          </p:nvPicPr>
          <p:blipFill>
            <a:blip r:embed="rId1"/>
            <a:stretch/>
          </p:blipFill>
          <p:spPr>
            <a:xfrm>
              <a:off x="5278320" y="2127240"/>
              <a:ext cx="14875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502240" y="2347920"/>
              <a:ext cx="1039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空心弧 5"/>
          <p:cNvSpPr/>
          <p:nvPr/>
        </p:nvSpPr>
        <p:spPr>
          <a:xfrm>
            <a:off x="5202360" y="2048040"/>
            <a:ext cx="1639800" cy="1639800"/>
          </a:xfrm>
          <a:custGeom>
            <a:avLst/>
            <a:gdLst/>
            <a:ahLst/>
            <a:rect l="l" t="t" r="r" b="b"/>
            <a:pathLst>
              <a:path w="1639614" h="1639614">
                <a:moveTo>
                  <a:pt x="0" y="819807"/>
                </a:moveTo>
                <a:cubicBezTo>
                  <a:pt x="0" y="384506"/>
                  <a:pt x="340209" y="25102"/>
                  <a:pt x="774855" y="1233"/>
                </a:cubicBezTo>
                <a:cubicBezTo>
                  <a:pt x="1209502" y="-22636"/>
                  <a:pt x="1587019" y="297354"/>
                  <a:pt x="1634684" y="730038"/>
                </a:cubicBezTo>
                <a:cubicBezTo>
                  <a:pt x="1682349" y="1162722"/>
                  <a:pt x="1383541" y="1557217"/>
                  <a:pt x="954121" y="1628536"/>
                </a:cubicBezTo>
                <a:lnTo>
                  <a:pt x="954122" y="1628536"/>
                </a:lnTo>
                <a:cubicBezTo>
                  <a:pt x="1383541" y="1557217"/>
                  <a:pt x="1682350" y="1162722"/>
                  <a:pt x="1634685" y="730038"/>
                </a:cubicBezTo>
                <a:cubicBezTo>
                  <a:pt x="1587020" y="297354"/>
                  <a:pt x="1209503" y="-22636"/>
                  <a:pt x="774856" y="1233"/>
                </a:cubicBezTo>
                <a:cubicBezTo>
                  <a:pt x="340209" y="25102"/>
                  <a:pt x="1" y="384505"/>
                  <a:pt x="1" y="819807"/>
                </a:cubicBezTo>
                <a:lnTo>
                  <a:pt x="0" y="81980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26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1:35:44Z</dcterms:created>
  <dc:creator>D13001</dc:creator>
  <dc:description/>
  <dc:language>en-US</dc:language>
  <cp:lastModifiedBy>a</cp:lastModifiedBy>
  <dcterms:modified xsi:type="dcterms:W3CDTF">2014-12-10T14:58:22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