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395-7C4D-4465-BD6D-6B089E52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226-CAE6-434C-B3F5-D941A621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667FF-FB12-4A28-8529-1FE1CA7A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9466C-7AF7-4EB8-8968-A64836BC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F6780-9161-4927-B97F-0E4FB3E8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62675-8E91-41D1-B49E-5CDA04E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40197-5C55-4044-BE2A-ABAD04EA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467EB-BA9D-4857-B753-9B476F6C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EB84B-7FD8-47F8-BCA6-AC703ED0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F8C9E-DD26-4612-9C22-151F5114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3EC61-618D-422B-B85A-FE31F25C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9A8E3-C46E-49CF-A7D8-D7AAE7CA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EBF-6B47-4C5E-B673-705F779A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72ACB-683C-4885-8ED8-6E63673E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A849F-A26B-4F86-925F-78A7BE53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55CC8-B609-4D04-B612-225776BA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02ABE-9A80-4E5C-8C7C-A0B1EDAC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C9914-45A9-4691-9955-51E8B410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DF3EA-A890-4517-B2AB-6E3DCE72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02267-FE59-4595-9FA7-BF235081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9967A-A814-4E83-92F7-8BB5CB7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DE197-9973-4A31-8887-20EE57CA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C02A7-E3FE-4E91-BA5E-1B3B85FB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363-25BF-4288-BC8D-54B2044E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B3CCA-57DD-4A1F-B057-BD4FA062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E402B-B48E-4A4F-8CE7-D20ED315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824B4-5EEC-4D43-BB35-00152713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09019-768E-4BCE-BCD1-5330C88B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1F9DF-547C-4D75-9DC5-634B4BA8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8779B-42F8-4494-A15A-4BDDBDBE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AE713-1516-4B1B-B8D6-C1FB6FB7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D59E5-772A-4F73-93C5-1A0F7B44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6C2A8-C82D-4E1C-839C-B524DA47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8D5CA-5892-4DC2-8445-D58ACA75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A844-6A54-4241-8B00-D3B6A784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CCA1C-588F-4181-84A0-1B6D056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BD945-BBA0-4410-AD2B-6E5D95F5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F7C01-688A-4293-864A-F5B0D909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10C80-55BF-4F26-A45C-6CBB637B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3F857-E327-4415-B7E3-C492F93A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F5B8F-B8C6-4A89-8DD7-08252790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7DA8A-C60C-46BB-8B14-FB21B1E5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E47FD-75A5-436C-9627-0F78E020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08846-BD5A-4E1D-98ED-B55B232D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32E3F-DD4C-435E-8B2F-875E3BB7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4450-D537-4A54-AFD5-C9CAA43D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9B22D-06DE-4740-ABDE-51753187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BE983-BFC7-4828-874D-42320B6B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60A3B-F010-48B8-A908-03238F92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B296D-4E9B-46C4-A1C1-1FF99C44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BAB6E-AF89-47C6-9B7D-A2A4E5DD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AF46B-7E5F-4659-868A-B1A3D104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26AB3-6CE4-4B2F-9D4E-F14A00FE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55CAA-BA7D-4A35-A541-5D7559CD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08911-08E0-4A88-A9FC-5036393B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9FE75-3A28-4868-B7A3-B3F3E0C3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9484-A7EE-497C-BFDF-B1D19DFD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D94EA-F927-4331-A128-6466AD9C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BF20C-2778-480D-A4BF-0FA1AF33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83041-DCBD-4005-A304-1F7A93E2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C9D72-9D8A-4E87-BCB8-F7CA60B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1B8D2-0FA6-4E6F-A2EC-B550B82B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3EBC9-AF17-493C-AADF-EDA48E79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62DB3-6701-4804-847D-F917A555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CC5B1-A151-453D-A3A3-B2676FBE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35047-B3AB-4E20-9186-2820676B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0F56B-6E72-4097-9A85-F828B650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6D35-8ABB-407C-935F-88EA2555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4D1C9-87A6-4AAC-86D2-1E669765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76A92-9F3C-4BB6-8ADA-E4072B7B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43DDB-6B3C-4309-940C-507F4317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FAD86-EDEF-43E6-9BA2-03A3B3E0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0CF0B-447F-4E60-BF2F-72F9A859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C5463-EB10-4904-A461-1E41141B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FCC05-0061-47B8-BF0D-CCD5EF6C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F9F15-B24A-443B-AB98-D176DCF5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611B3-E1FE-41D7-B18D-938E6E1B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8BCD-0F77-4929-B4C6-BC9912C5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9287-C4AC-41CB-884F-7F39974B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13CE-D0E8-4202-AE38-943E1E38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411-7F30-444C-8E02-6A9B45EF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B15F-5D0C-4097-8B36-3BB6B1DE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9C44-C9CF-40F8-8377-56F25627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F8B5-A44E-476E-8A80-196C0595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9D21-F005-4ED2-914E-4801EDC8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107E-5C13-4C60-9902-EB2CF68C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754E-105C-4329-902E-27470AA6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7A114-3BD2-4255-B353-DF68AEE3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DBA8-D19C-4E3C-B671-84CB464B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5229-FD9E-41E3-8CFD-F5A6FC99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F447-AE8D-4A33-94E2-245DE04A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8C1-B28F-438E-9E85-5E923F4E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A668-061A-451D-9016-CE9231E3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6BA4-31D1-4D0E-85C0-EC1656EA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C987-65EE-485E-B6B2-3E2F0A4D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ABBA-B5F9-4863-B74E-84641AF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CBD73-1FC3-45D0-9282-E61B7CB7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515E0-028F-4B7E-B27B-8A8B8BCB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BA0A-DCAD-4F58-9208-00CA7272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50605-49B6-4213-8534-8C940024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256A-CAB5-4BBB-9E05-324C1D0C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B53EC-45A1-4362-8798-69ECBBBC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3CC-D44D-4398-8BF4-49EC5991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072C-DF46-403E-AECD-0CBCFE4F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6D92-D9CB-4099-B1AF-8EACDAC9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0BEC-6256-4B8E-802F-343136B1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A3A8-B0ED-4F6C-ABD6-44283C9D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49033-6C1B-44D3-8C97-295E346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A0D93-8D39-470F-A0AB-163181B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60E2-BD70-4303-BBEC-05C2F225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33FED-65C0-40F0-AED0-539FC991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9B97-D8D3-4293-92ED-8EE6C552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B6720-0A93-4B9C-86F9-6745949C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5D4-153E-4F6D-816C-54EE436D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6E3A3-BB3D-4A95-B8B1-48684B1D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E9D1D-FE72-41D7-A13A-1C20F54F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60DF7-DB0A-46B8-AE79-982D4FE1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CE9E8-4959-4EEA-AE9C-737C6955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D59B-3D46-44B4-9EB4-525BE0EA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C3E32-7C16-47A5-A190-788B7AE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58A1-91BD-4DA4-8706-FCFD76BF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B92D4-4DAD-4C28-BA3C-CA7BAB72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0E6F-8984-45C0-8A09-63BFC082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A359F-3652-45AE-A703-43EE9BE5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973-9936-4077-A21D-4A3FB8F9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C5520-1F56-4403-8055-35A73C2E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0823D-66C2-4272-8C23-0516B20B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8B8BC-15D9-485E-8978-B9A26A78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15A0D-19DC-4D3C-88E1-553CCAF1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59A2C-115F-40C8-8734-C2F89F11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C3710-FF55-409A-8A21-8A07A92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D029E-4659-464D-95A0-859B9A11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15F34-FA59-44E4-9637-33633A9B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263B-5B81-4A03-84E4-C89B37F4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10476-2C09-4B75-97E0-DD4F8B54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803-B5E7-40B4-B2E9-15A85B11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E7337-834A-4D2B-9F42-E685B7AE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007B2-60FC-4562-8CB2-F7930C6C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B08AC-DE48-42F5-BB94-7AEE52F3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86AA5-5A00-4600-AB5F-9DA42953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C7586-CE8D-47A8-84BB-45882A88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82881-309E-4F34-ADD1-8CCAA08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A549F-ADE4-4890-998D-AE5EE4A5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620A7-19A4-4AD4-BB11-4ED57FB9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486E7-1E2C-490B-A5FF-58F18DDC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7780B-C3EA-413A-8AF9-DA48B9CD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436-D48E-4B42-A352-15041865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322EC-F4B2-47AE-B2E1-5785DE2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2E69-9A17-4FEB-856C-5DCF4A28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6E1DE-916C-4793-9FC5-82E6E584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719C2-DB64-4283-9358-9DF044AA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12A05-D3A3-4932-B030-F8DD17DA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8BD93-F986-4442-85B3-963056F3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6F1FD-F86A-478F-B796-525B43A8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1A499-C613-4A91-AC17-C1998E64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7044D-CF58-4B7C-A152-141CA706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8906B-2361-4825-9E27-6AF8A680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9B2-ACD5-468F-9B13-70A18971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BC3EA-3722-4A5F-8106-545E4144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E41B9-9CD0-44C9-9BE4-1685D24B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6AA32-706E-4F13-9737-C021FDEE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8C851-44CF-4D6D-B535-60007B6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4A236-0E22-45F0-8D93-28BDDD28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0DCAF-A31F-4DC9-8A84-E6849425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D9B1A-217B-4BE7-B971-6503F5E3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F80F8-4097-4FB1-B129-21AD44B9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9E1EC-E0BA-4DDA-A4A8-2C48623A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E45D6-C341-4DF8-AB2D-DB32A9B5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23"/>
          <p:cNvSpPr/>
          <p:nvPr/>
        </p:nvSpPr>
        <p:spPr>
          <a:xfrm>
            <a:off x="0" y="0"/>
            <a:ext cx="9144000" cy="29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20"/>
          <p:cNvSpPr/>
          <p:nvPr/>
        </p:nvSpPr>
        <p:spPr>
          <a:xfrm>
            <a:off x="0" y="1562040"/>
            <a:ext cx="9144000" cy="23385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9"/>
          <p:cNvSpPr/>
          <p:nvPr/>
        </p:nvSpPr>
        <p:spPr>
          <a:xfrm>
            <a:off x="76320" y="632448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21"/>
          <p:cNvSpPr/>
          <p:nvPr/>
        </p:nvSpPr>
        <p:spPr>
          <a:xfrm>
            <a:off x="0" y="3794040"/>
            <a:ext cx="9144000" cy="168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522"/>
          <p:cNvSpPr/>
          <p:nvPr/>
        </p:nvSpPr>
        <p:spPr>
          <a:xfrm>
            <a:off x="0" y="1393920"/>
            <a:ext cx="9144000" cy="168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64ec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00040" y="655308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F81D-2620-4E48-A7F5-6D7C34983DEE}" type="slidenum">
              <a:rPr b="0" lang="ko-KR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8C18-5B11-4350-B6EA-F31DC8538F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7ED2-5FD6-485A-A44A-840A89E87F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DE1E-C6FE-456E-9B3D-E7F95DF614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FC6A-8096-4275-8930-CE45C4C5AE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D2F0-D441-4A9C-9656-1773FE9783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1056-DA4D-48DA-B16C-15D9314B73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7573-E155-4E2F-AC32-2D25EDA914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3C89-8FEB-48B1-9AB9-55486B045C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63C0-88BC-4399-86D6-43D7D35D80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AE09-C4D0-422F-9A74-1569FF2C82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2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31"/>
          <p:cNvSpPr/>
          <p:nvPr/>
        </p:nvSpPr>
        <p:spPr>
          <a:xfrm>
            <a:off x="0" y="981000"/>
            <a:ext cx="9144000" cy="53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21"/>
          <p:cNvSpPr/>
          <p:nvPr/>
        </p:nvSpPr>
        <p:spPr>
          <a:xfrm>
            <a:off x="0" y="896760"/>
            <a:ext cx="9144000" cy="168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21"/>
          <p:cNvSpPr/>
          <p:nvPr/>
        </p:nvSpPr>
        <p:spPr>
          <a:xfrm>
            <a:off x="0" y="6240600"/>
            <a:ext cx="9144000" cy="168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64ec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0456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36572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1BE3-5EE1-4CD4-BE00-42A9B3C16DA1}" type="slidenum">
              <a:rPr b="0" lang="ko-KR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CAB3-835A-40C2-9997-9575B4AB5D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F281-1DE0-4228-96ED-975C791B3E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F31C-AAD8-4790-9F73-33569D9C8B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6BEA-1199-496B-856E-B156895F0A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5CF8-B1A1-4856-BC1A-FE56915DE4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AB68-480B-496D-9EF7-DC14EDF395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7E9D-0451-4269-89E1-C64FCDF329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B51C-DEF8-4E4B-AA6B-A4577395C9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4E26-4BA9-4D33-A0D2-D00C622F57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1D07-61D0-4599-A151-C8207D3F6D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8D62-09ED-496E-AE58-FF9CAB8E6E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B31B-D8D2-4C8F-9926-8238FC37C4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CD23-7A95-4418-AD4D-911284B8D3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A733-D7A8-4FFB-9AE2-2B68022B0C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216504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通用纹理之蓝色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PPT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模板</a:t>
            </a:r>
            <a:endParaRPr b="1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7" name="日期占位符 3"/>
          <p:cNvSpPr/>
          <p:nvPr/>
        </p:nvSpPr>
        <p:spPr>
          <a:xfrm>
            <a:off x="3049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家：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页脚占位符 4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08:24:16Z</dcterms:created>
  <dc:creator>我爱PPT官方网 - 中文演示设计平台 www.iloveppt.org; yoojin</dc:creator>
  <dc:description>我爱PPT官方网 - 中文演示设计平台 www.iloveppt.org</dc:description>
  <cp:keywords>我爱PPT官方网 - 中文演示设计平台 www.iloveppt.org</cp:keywords>
  <dc:language>en-US</dc:language>
  <cp:lastModifiedBy>a</cp:lastModifiedBy>
  <dcterms:modified xsi:type="dcterms:W3CDTF">2014-12-10T15:07:31Z</dcterms:modified>
  <cp:revision>6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