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A41D-9ADC-4445-B49B-475FF0EE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F434-2666-4DE8-AADC-66212554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5BC9-6FEA-415D-9783-06A20F19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30AA-197A-4A1C-B15F-C709DC3C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D29A-CCF4-4764-8BD8-AD67C88B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75C7-00A0-4994-842A-40729A32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AACC-F4A7-4433-8557-B49F9CED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F112-6C88-4FF6-9C0B-C849D00B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15D7-961E-4292-953C-92C40FE0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0878-19E0-4BC3-85D8-AAB334AC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5180-85A3-4BF8-911E-7222399B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F472-6592-4C17-B229-4FE8F66E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18A5-1C42-4953-80FC-32CFBF9C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08C2-6349-4998-A2A3-3FE27D8E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578F-0B72-4A2B-B193-4C1C2B69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A869-19FD-4DA8-BBB8-75BDF424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03CE-193B-4A77-B379-4B3F0837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68F5E-9E16-40FC-90E1-D7585BD9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11884-02FB-4FF0-A587-3724EC06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C85E8-20AD-41B5-8228-000C4A7E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49FC9-C623-471F-8EDF-35444739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F8C41-44E9-478D-B5D7-9DB1C5F1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6E1F-732C-4765-BCCE-DAAFF9FD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27DCF-F802-4B24-9F0C-39C4D1CE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631E3-4165-47BF-8295-E7F18B8C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54F4C-7F2D-44B4-BDFF-D5C9FE0B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76D66-128F-47D8-A80C-1CAD8235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DE27B-EA7E-48E7-AA96-F7A44421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C9313-1ED9-411D-B178-3BF54BA5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6EBCB-FBC0-4F7D-AC0F-609D49EC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610F-0E16-4FB5-A833-FCF49DAE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DB50-0213-4192-8439-6AA6725A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C945-4220-4C45-8C84-2A56449F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FCB7-BC9A-4E4B-9FB1-4F7CF3F9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40DC-C6B4-4BB3-A287-56D239A4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DE5C-3D97-41F5-871F-DE656B01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6480" y="-4680"/>
            <a:ext cx="9159840" cy="103824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4680"/>
            <a:ext cx="4762440" cy="63504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92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924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0492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07D5-463A-4D88-AFE5-772D897EF03B}" type="slidenum">
              <a:rPr b="0" lang="en-US" sz="1200" spc="-1" strike="noStrike">
                <a:solidFill>
                  <a:srgbClr val="40492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5840" y="203040"/>
            <a:ext cx="9177840" cy="648000"/>
            <a:chOff x="-15840" y="203040"/>
            <a:chExt cx="917784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5840" y="203040"/>
              <a:ext cx="9159480" cy="648000"/>
              <a:chOff x="-15840" y="203040"/>
              <a:chExt cx="915948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7200" y="203040"/>
                <a:ext cx="91364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548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5840" y="248040"/>
              <a:ext cx="9177840" cy="565200"/>
              <a:chOff x="-15840" y="248040"/>
              <a:chExt cx="9177840" cy="5652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48040"/>
                <a:ext cx="916200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548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libre 6"/>
          <p:cNvSpPr/>
          <p:nvPr/>
        </p:nvSpPr>
        <p:spPr>
          <a:xfrm>
            <a:off x="-6480" y="-4680"/>
            <a:ext cx="9159840" cy="1038240"/>
          </a:xfrm>
          <a:prstGeom prst="pie">
            <a:avLst/>
          </a:prstGeom>
          <a:gradFill rotWithShape="0">
            <a:gsLst>
              <a:gs pos="0">
                <a:srgbClr val="bf7825">
                  <a:alpha val="45098"/>
                </a:srgbClr>
              </a:gs>
              <a:gs pos="100000">
                <a:srgbClr val="ffc4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orme libre 7"/>
          <p:cNvSpPr/>
          <p:nvPr/>
        </p:nvSpPr>
        <p:spPr>
          <a:xfrm>
            <a:off x="4381560" y="-4680"/>
            <a:ext cx="4762440" cy="635040"/>
          </a:xfrm>
          <a:prstGeom prst="pie">
            <a:avLst/>
          </a:prstGeom>
          <a:gradFill rotWithShape="0">
            <a:gsLst>
              <a:gs pos="0">
                <a:srgbClr val="bf9506">
                  <a:alpha val="45098"/>
                </a:srgbClr>
              </a:gs>
              <a:gs pos="100000">
                <a:srgbClr val="f4921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15840" y="203040"/>
            <a:ext cx="9177840" cy="648000"/>
            <a:chOff x="-15840" y="203040"/>
            <a:chExt cx="9177840" cy="648000"/>
          </a:xfrm>
        </p:grpSpPr>
        <p:grpSp>
          <p:nvGrpSpPr>
            <p:cNvPr id="53" name=""/>
            <p:cNvGrpSpPr/>
            <p:nvPr/>
          </p:nvGrpSpPr>
          <p:grpSpPr>
            <a:xfrm>
              <a:off x="-15840" y="203040"/>
              <a:ext cx="9159480" cy="648000"/>
              <a:chOff x="-15840" y="203040"/>
              <a:chExt cx="9159480" cy="648000"/>
            </a:xfrm>
          </p:grpSpPr>
          <p:pic>
            <p:nvPicPr>
              <p:cNvPr id="5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7200" y="203040"/>
                <a:ext cx="91364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548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-15840" y="248040"/>
              <a:ext cx="9177840" cy="565200"/>
              <a:chOff x="-15840" y="248040"/>
              <a:chExt cx="9177840" cy="565200"/>
            </a:xfrm>
          </p:grpSpPr>
          <p:pic>
            <p:nvPicPr>
              <p:cNvPr id="5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48040"/>
                <a:ext cx="916200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548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efac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efac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092a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2ef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efc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2ef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8301-9F42-4224-9089-8E139DAB2525}" type="slidenum">
              <a:rPr b="0" lang="en-US" sz="1200" spc="-1" strike="noStrike">
                <a:solidFill>
                  <a:srgbClr val="f2ef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5A38-1C4E-4A81-90A0-44D9AD963C1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740720" y="6740640"/>
            <a:ext cx="1008000" cy="1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8588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000" spc="-1" strike="noStrike">
                <a:solidFill>
                  <a:srgbClr val="ffffff"/>
                </a:solidFill>
                <a:latin typeface="Calibri"/>
              </a:rPr>
              <a:t>PRSENTATION  NAME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85520" y="2292480"/>
            <a:ext cx="52578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ffffff"/>
                </a:solidFill>
                <a:latin typeface="Constantia"/>
              </a:rPr>
              <a:t>Descrip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740720" y="6740640"/>
            <a:ext cx="1008000" cy="1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44d26"/>
                </a:solidFill>
                <a:latin typeface="Calibri"/>
              </a:rPr>
              <a:t>Title</a:t>
            </a:r>
            <a:endParaRPr b="0" lang="en-US" sz="45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rem ipsum dolor sit amet, consectetuer adipiscing elit. Vivamus et magna. Fusce sed sem sed magna suscipit egesta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rem ipsum dolor sit amet, consectetuer adipiscing elit. Vivamus et magna. Fusce sed sem sed magna suscipit egesta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rem ipsum dolor sit amet, consectetuer adipiscing elit. Vivamus et magna. Fusce sed sem sed magna suscipit egesta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pic>
          <p:nvPicPr>
            <p:cNvPr id="14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03:41:28Z</dcterms:created>
  <dc:creator>Mediac</dc:creator>
  <dc:description/>
  <cp:keywords/>
  <dc:language>en-US</dc:language>
  <cp:lastModifiedBy>a</cp:lastModifiedBy>
  <dcterms:modified xsi:type="dcterms:W3CDTF">2014-05-19T01:14:41Z</dcterms:modified>
  <cp:revision>12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