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EA3-9CE7-424C-B824-A2491323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4FA-D575-41DA-BE7D-168F9E1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6EE-DA92-4480-A046-9C40C2D3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677-3492-4043-827E-9B4D1518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EC1-58FD-4068-BFD2-64DF7099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270F-1749-44B5-A840-EAB44601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BA9C-5DF9-4A48-A1E2-75CCDB60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B73-1142-40F3-A693-50D5F2E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CF17-B384-4CCE-BAE9-669100F7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8080-BAC0-4163-A362-70F97FB8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8C80-FD2E-4BCD-BE70-1E80267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8DC-6DAC-424B-B5BE-8A15F5B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4D5F-755C-4318-B7D9-7A3F690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22ED-8782-4C3F-9500-28DB92DA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149-A45D-45F8-A19F-7D24B272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72D-66AB-4BF5-BE12-27F98EB2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2AB3-D895-4DB8-A4ED-B62C6B15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C14-4FB6-43F6-822F-EA2729BC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99C-4C3A-4FE4-BCF3-D7A5FB0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705-9F79-4EB6-9F6A-FD065A5F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432-A528-46CA-AECD-DEA59559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EDF-67DA-49AA-B940-3DBCF33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18E-DB2B-4F26-8341-0C7647C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740-32AD-4FAC-8676-8313BE8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6CFF-14ED-437E-B18C-F5E8B469156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BDD6-CA53-4B5F-9808-BAA7B66C3A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霞美景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2720" y="1628280"/>
            <a:ext cx="6257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/>
  <dc:description/>
  <dc:language>en-US</dc:language>
  <cp:lastModifiedBy/>
  <dcterms:modified xsi:type="dcterms:W3CDTF">2014-12-10T15:06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