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DAB3-A3C7-4329-BC23-68ED51CE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39AC-0419-465A-827F-A43656E1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750B-36BE-43B1-B84C-687595D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269B-8A00-4709-B3AE-DEB811F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82F3-8E73-4834-A1A3-6D582E74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A25A-7F98-46E8-A724-540AC18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4201-1DE0-4B9F-9768-6F53F359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EEB7-476B-4777-97C9-EC33337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5843-E498-4EA6-99E0-4B1057E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3A09-E595-4572-A1FA-170011F9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97DD-1153-457F-B663-0FC11791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F551-C465-4C58-BE03-5EF5B16F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40EBC3B-0E09-403D-A1EA-AA4AF763295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683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3183-6D49-45EE-96A9-A7256ADDAF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22A-2D5C-4963-BA75-8C2FB828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8360" y="31413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5440" y="46044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9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3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7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2519280" y="1916280"/>
            <a:ext cx="410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7600" y="6308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C1C3-F4DA-4187-AE3F-777BEE2AE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6ADB-899D-44FA-8232-A7F25498B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cp:lastPrinted>1899-12-30T00:00:00Z</cp:lastPrinted>
  <dcterms:modified xsi:type="dcterms:W3CDTF">2014-05-18T06:17:21Z</dcterms:modified>
  <cp:revision>2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