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ADF5-F591-47B4-B76D-8EF9D2514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E969-8B4D-4CB7-92F1-3BE1EDE9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1177-AC61-4D5B-86F7-DCB0C74A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1A04-FDA1-4A5A-9767-FFA15A75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89E4-BD24-434C-B6FA-DADC9D60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3BAB-B659-4CB7-9DCD-B4F4BCB6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AF6E-6F4C-4E1A-A6E2-05D7D8BD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55E7-F061-438B-98CC-744F2D3A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675E-7150-49FA-9A36-51293210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A4B4-5911-4B93-930F-4DC7E51B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6DEE-D392-422A-8BF2-207F1B91A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5FEF-BC94-4A76-A921-4C5BD0CD7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3413-999D-43CC-90A6-D20A4ED11C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6760" y="3643200"/>
            <a:ext cx="8672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心情日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演示模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500040" y="4500360"/>
            <a:ext cx="640080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1424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71600" y="3643200"/>
            <a:ext cx="73864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03:33:00Z</dcterms:created>
  <dc:creator/>
  <dc:description/>
  <dc:language>en-US</dc:language>
  <cp:lastModifiedBy/>
  <dcterms:modified xsi:type="dcterms:W3CDTF">2014-12-10T15:10:0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