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E0D-1EB4-4EE8-8803-7C5837B7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EF3-79B7-4891-879B-D3FE8F53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B70-CE4A-467C-BE20-2FA6C81A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E0C-CB12-466B-A4A1-77292FCA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368-C6BE-4BE0-B71B-5E92BBC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A6F-2F69-4C68-84B0-AF6AB2D7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97C-D9FD-47B0-AAB1-7603A25C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6EE-D80A-4637-96B1-A46538B6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FE1-A554-4BC7-BE78-B66B0B1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CD7-089A-410B-A837-549943D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C0B-375E-4974-93CA-151523C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B42-4379-4C1B-B0BD-92395A4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D35-41E5-4A3A-9CA6-2498E5A26EC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631360" y="6345360"/>
            <a:ext cx="1025280" cy="1025280"/>
            <a:chOff x="8631360" y="6345360"/>
            <a:chExt cx="1025280" cy="1025280"/>
          </a:xfrm>
        </p:grpSpPr>
        <p:pic>
          <p:nvPicPr>
            <p:cNvPr id="5" name="矩形 6" descr=""/>
            <p:cNvPicPr/>
            <p:nvPr/>
          </p:nvPicPr>
          <p:blipFill>
            <a:blip r:embed="rId2"/>
            <a:stretch/>
          </p:blipFill>
          <p:spPr>
            <a:xfrm>
              <a:off x="8631360" y="6345360"/>
              <a:ext cx="102528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8100000">
              <a:off x="8782560" y="6496920"/>
              <a:ext cx="7203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81920" y="65008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4D48-F55E-4152-8C8A-0EB7A2FFB7C0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2"/>
          <p:cNvSpPr/>
          <p:nvPr/>
        </p:nvSpPr>
        <p:spPr>
          <a:xfrm>
            <a:off x="1682640" y="17208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基于某某理论的某某研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2928960" y="378612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人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某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指导老师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   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时间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擦擦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F9B6-7CA1-4D64-8EEF-20460E60369B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7"/>
          <p:cNvSpPr/>
          <p:nvPr/>
        </p:nvSpPr>
        <p:spPr>
          <a:xfrm>
            <a:off x="0" y="187956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8"/>
          <p:cNvSpPr/>
          <p:nvPr/>
        </p:nvSpPr>
        <p:spPr>
          <a:xfrm>
            <a:off x="0" y="2022480"/>
            <a:ext cx="1692360" cy="1443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9"/>
          <p:cNvSpPr/>
          <p:nvPr/>
        </p:nvSpPr>
        <p:spPr>
          <a:xfrm>
            <a:off x="0" y="2165400"/>
            <a:ext cx="1692360" cy="144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7451640" y="186372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7451640" y="2006640"/>
            <a:ext cx="1692360" cy="1443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7451640" y="2149560"/>
            <a:ext cx="1692360" cy="144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5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56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什么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64044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31D-C63A-48E5-9FEB-30746D327741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65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69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    录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28800" y="1643040"/>
            <a:ext cx="7000920" cy="571680"/>
            <a:chOff x="928800" y="1643040"/>
            <a:chExt cx="7000920" cy="571680"/>
          </a:xfrm>
        </p:grpSpPr>
        <p:grpSp>
          <p:nvGrpSpPr>
            <p:cNvPr id="77" name=""/>
            <p:cNvGrpSpPr/>
            <p:nvPr/>
          </p:nvGrpSpPr>
          <p:grpSpPr>
            <a:xfrm>
              <a:off x="928800" y="1643040"/>
              <a:ext cx="6944760" cy="571680"/>
              <a:chOff x="928800" y="1643040"/>
              <a:chExt cx="6944760" cy="571680"/>
            </a:xfrm>
          </p:grpSpPr>
          <p:sp>
            <p:nvSpPr>
              <p:cNvPr id="78" name="直接连接符 35"/>
              <p:cNvSpPr/>
              <p:nvPr/>
            </p:nvSpPr>
            <p:spPr>
              <a:xfrm flipV="1">
                <a:off x="1357200" y="217476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矩形 31"/>
              <p:cNvSpPr/>
              <p:nvPr/>
            </p:nvSpPr>
            <p:spPr>
              <a:xfrm>
                <a:off x="928800" y="1643040"/>
                <a:ext cx="571320" cy="5716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TextBox 37"/>
            <p:cNvSpPr/>
            <p:nvPr/>
          </p:nvSpPr>
          <p:spPr>
            <a:xfrm>
              <a:off x="1643040" y="165852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928800" y="2762280"/>
            <a:ext cx="7000920" cy="571320"/>
            <a:chOff x="928800" y="2762280"/>
            <a:chExt cx="7000920" cy="571320"/>
          </a:xfrm>
        </p:grpSpPr>
        <p:grpSp>
          <p:nvGrpSpPr>
            <p:cNvPr id="82" name=""/>
            <p:cNvGrpSpPr/>
            <p:nvPr/>
          </p:nvGrpSpPr>
          <p:grpSpPr>
            <a:xfrm>
              <a:off x="928800" y="2762280"/>
              <a:ext cx="6944760" cy="571320"/>
              <a:chOff x="928800" y="2762280"/>
              <a:chExt cx="6944760" cy="571320"/>
            </a:xfrm>
          </p:grpSpPr>
          <p:sp>
            <p:nvSpPr>
              <p:cNvPr id="83" name="直接连接符 42"/>
              <p:cNvSpPr/>
              <p:nvPr/>
            </p:nvSpPr>
            <p:spPr>
              <a:xfrm flipV="1">
                <a:off x="1357200" y="329364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矩形 43"/>
              <p:cNvSpPr/>
              <p:nvPr/>
            </p:nvSpPr>
            <p:spPr>
              <a:xfrm>
                <a:off x="928800" y="2762280"/>
                <a:ext cx="571320" cy="57132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TextBox 41"/>
            <p:cNvSpPr/>
            <p:nvPr/>
          </p:nvSpPr>
          <p:spPr>
            <a:xfrm>
              <a:off x="1643040" y="277776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二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28800" y="3881520"/>
            <a:ext cx="7000920" cy="571320"/>
            <a:chOff x="928800" y="3881520"/>
            <a:chExt cx="7000920" cy="571320"/>
          </a:xfrm>
        </p:grpSpPr>
        <p:grpSp>
          <p:nvGrpSpPr>
            <p:cNvPr id="87" name=""/>
            <p:cNvGrpSpPr/>
            <p:nvPr/>
          </p:nvGrpSpPr>
          <p:grpSpPr>
            <a:xfrm>
              <a:off x="928800" y="3881520"/>
              <a:ext cx="6944760" cy="571320"/>
              <a:chOff x="928800" y="3881520"/>
              <a:chExt cx="6944760" cy="571320"/>
            </a:xfrm>
          </p:grpSpPr>
          <p:sp>
            <p:nvSpPr>
              <p:cNvPr id="88" name="直接连接符 47"/>
              <p:cNvSpPr/>
              <p:nvPr/>
            </p:nvSpPr>
            <p:spPr>
              <a:xfrm flipV="1">
                <a:off x="1357200" y="441288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矩形 48"/>
              <p:cNvSpPr/>
              <p:nvPr/>
            </p:nvSpPr>
            <p:spPr>
              <a:xfrm>
                <a:off x="928800" y="3881520"/>
                <a:ext cx="571320" cy="57132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TextBox 46"/>
            <p:cNvSpPr/>
            <p:nvPr/>
          </p:nvSpPr>
          <p:spPr>
            <a:xfrm>
              <a:off x="1643040" y="389700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三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928800" y="5000760"/>
            <a:ext cx="7000920" cy="571320"/>
            <a:chOff x="928800" y="5000760"/>
            <a:chExt cx="7000920" cy="571320"/>
          </a:xfrm>
        </p:grpSpPr>
        <p:grpSp>
          <p:nvGrpSpPr>
            <p:cNvPr id="92" name=""/>
            <p:cNvGrpSpPr/>
            <p:nvPr/>
          </p:nvGrpSpPr>
          <p:grpSpPr>
            <a:xfrm>
              <a:off x="928800" y="5000760"/>
              <a:ext cx="6944760" cy="571320"/>
              <a:chOff x="928800" y="5000760"/>
              <a:chExt cx="6944760" cy="571320"/>
            </a:xfrm>
          </p:grpSpPr>
          <p:sp>
            <p:nvSpPr>
              <p:cNvPr id="93" name="直接连接符 52"/>
              <p:cNvSpPr/>
              <p:nvPr/>
            </p:nvSpPr>
            <p:spPr>
              <a:xfrm flipV="1">
                <a:off x="1357200" y="553212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矩形 53"/>
              <p:cNvSpPr/>
              <p:nvPr/>
            </p:nvSpPr>
            <p:spPr>
              <a:xfrm>
                <a:off x="928800" y="5000760"/>
                <a:ext cx="571320" cy="57132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TextBox 51"/>
            <p:cNvSpPr/>
            <p:nvPr/>
          </p:nvSpPr>
          <p:spPr>
            <a:xfrm>
              <a:off x="1643040" y="501624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四大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ED6-3612-4E64-96A9-430C247FCAD9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98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02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0040" y="857160"/>
            <a:ext cx="6945480" cy="501840"/>
            <a:chOff x="500040" y="857160"/>
            <a:chExt cx="6945480" cy="501840"/>
          </a:xfrm>
        </p:grpSpPr>
        <p:grpSp>
          <p:nvGrpSpPr>
            <p:cNvPr id="110" name=""/>
            <p:cNvGrpSpPr/>
            <p:nvPr/>
          </p:nvGrpSpPr>
          <p:grpSpPr>
            <a:xfrm>
              <a:off x="500040" y="889920"/>
              <a:ext cx="6945480" cy="469080"/>
              <a:chOff x="500040" y="889920"/>
              <a:chExt cx="6945480" cy="469080"/>
            </a:xfrm>
          </p:grpSpPr>
          <p:sp>
            <p:nvSpPr>
              <p:cNvPr id="111" name="直接连接符 35"/>
              <p:cNvSpPr/>
              <p:nvPr/>
            </p:nvSpPr>
            <p:spPr>
              <a:xfrm flipV="1">
                <a:off x="928440" y="1305000"/>
                <a:ext cx="65170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矩形 31"/>
              <p:cNvSpPr/>
              <p:nvPr/>
            </p:nvSpPr>
            <p:spPr>
              <a:xfrm>
                <a:off x="500040" y="889920"/>
                <a:ext cx="468000" cy="4690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TextBox 37"/>
            <p:cNvSpPr/>
            <p:nvPr/>
          </p:nvSpPr>
          <p:spPr>
            <a:xfrm>
              <a:off x="1071360" y="857160"/>
              <a:ext cx="628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14240" y="1566720"/>
            <a:ext cx="7786800" cy="2576160"/>
            <a:chOff x="714240" y="1566720"/>
            <a:chExt cx="7786800" cy="2576160"/>
          </a:xfrm>
        </p:grpSpPr>
        <p:grpSp>
          <p:nvGrpSpPr>
            <p:cNvPr id="115" name=""/>
            <p:cNvGrpSpPr/>
            <p:nvPr/>
          </p:nvGrpSpPr>
          <p:grpSpPr>
            <a:xfrm>
              <a:off x="785520" y="1566720"/>
              <a:ext cx="7715520" cy="2236320"/>
              <a:chOff x="785520" y="1566720"/>
              <a:chExt cx="7715520" cy="2236320"/>
            </a:xfrm>
          </p:grpSpPr>
          <p:sp>
            <p:nvSpPr>
              <p:cNvPr id="116" name="TextBox 34"/>
              <p:cNvSpPr/>
              <p:nvPr/>
            </p:nvSpPr>
            <p:spPr>
              <a:xfrm>
                <a:off x="2285640" y="1566720"/>
                <a:ext cx="62154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buClr>
                    <a:srgbClr val="4f81bd"/>
                  </a:buClr>
                  <a:buFont typeface="Wingdings" charset="2"/>
                  <a:buChar char="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【</a:t>
                </a:r>
                <a:r>
                  <a:rPr b="0" lang="zh-CN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高压电</a:t>
                </a: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】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在工业上：电压为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1000V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或以上的称之为高压电。高压线产生的磁场在一定范围内对人体有危害，表现在对中枢神经的损伤和导致肌肉能力障碍。调查显示，高压线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50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米以内的儿童血癌的发病率较高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7" name="Picture 2" descr="http://poster6.com/media/b_poster/65/1121931_2465.jpg"/>
              <p:cNvPicPr/>
              <p:nvPr/>
            </p:nvPicPr>
            <p:blipFill>
              <a:blip r:embed="rId1"/>
              <a:stretch/>
            </p:blipFill>
            <p:spPr>
              <a:xfrm>
                <a:off x="785520" y="1731240"/>
                <a:ext cx="1449720" cy="20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直接连接符 38"/>
            <p:cNvSpPr/>
            <p:nvPr/>
          </p:nvSpPr>
          <p:spPr>
            <a:xfrm flipV="1">
              <a:off x="714240" y="4128840"/>
              <a:ext cx="7632360" cy="14040"/>
            </a:xfrm>
            <a:prstGeom prst="line">
              <a:avLst/>
            </a:prstGeom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85880" y="4205160"/>
            <a:ext cx="7715160" cy="1859040"/>
            <a:chOff x="785880" y="4205160"/>
            <a:chExt cx="7715160" cy="1859040"/>
          </a:xfrm>
        </p:grpSpPr>
        <p:sp>
          <p:nvSpPr>
            <p:cNvPr id="120" name="TextBox 49"/>
            <p:cNvSpPr/>
            <p:nvPr/>
          </p:nvSpPr>
          <p:spPr>
            <a:xfrm>
              <a:off x="2286000" y="4205160"/>
              <a:ext cx="6215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4f81bd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【</a:t>
              </a:r>
              <a:r>
                <a:rPr b="0" lang="zh-CN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特高压</a:t>
              </a: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高压英文缩写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H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电压符号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（个别地方有用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表示的）；电压的单位是福特，单位符号也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比伏大的有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K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比伏小的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mV,u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它们之间是千进位 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2" descr="http://poster6.com/media/b_poster/65/1121931_2465.jpg"/>
            <p:cNvPicPr/>
            <p:nvPr/>
          </p:nvPicPr>
          <p:blipFill>
            <a:blip r:embed="rId2"/>
            <a:stretch/>
          </p:blipFill>
          <p:spPr>
            <a:xfrm>
              <a:off x="785880" y="4429440"/>
              <a:ext cx="1449720" cy="163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64044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37B-F5FA-4DFB-BA2E-C4516A5799DD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25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29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040" y="857160"/>
            <a:ext cx="6945480" cy="501840"/>
            <a:chOff x="500040" y="857160"/>
            <a:chExt cx="6945480" cy="501840"/>
          </a:xfrm>
        </p:grpSpPr>
        <p:grpSp>
          <p:nvGrpSpPr>
            <p:cNvPr id="137" name=""/>
            <p:cNvGrpSpPr/>
            <p:nvPr/>
          </p:nvGrpSpPr>
          <p:grpSpPr>
            <a:xfrm>
              <a:off x="500040" y="889920"/>
              <a:ext cx="6945480" cy="469080"/>
              <a:chOff x="500040" y="889920"/>
              <a:chExt cx="6945480" cy="469080"/>
            </a:xfrm>
          </p:grpSpPr>
          <p:sp>
            <p:nvSpPr>
              <p:cNvPr id="138" name="直接连接符 35"/>
              <p:cNvSpPr/>
              <p:nvPr/>
            </p:nvSpPr>
            <p:spPr>
              <a:xfrm flipV="1">
                <a:off x="928440" y="1305000"/>
                <a:ext cx="65170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矩形 31"/>
              <p:cNvSpPr/>
              <p:nvPr/>
            </p:nvSpPr>
            <p:spPr>
              <a:xfrm>
                <a:off x="500040" y="889920"/>
                <a:ext cx="468000" cy="4690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0" name="TextBox 37"/>
            <p:cNvSpPr/>
            <p:nvPr/>
          </p:nvSpPr>
          <p:spPr>
            <a:xfrm>
              <a:off x="1071360" y="857160"/>
              <a:ext cx="628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TextBox 34"/>
          <p:cNvSpPr/>
          <p:nvPr/>
        </p:nvSpPr>
        <p:spPr>
          <a:xfrm>
            <a:off x="714240" y="1500120"/>
            <a:ext cx="3286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前景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表 28" descr=""/>
          <p:cNvPicPr/>
          <p:nvPr/>
        </p:nvPicPr>
        <p:blipFill>
          <a:blip r:embed="rId1"/>
          <a:stretch/>
        </p:blipFill>
        <p:spPr>
          <a:xfrm>
            <a:off x="735120" y="2449440"/>
            <a:ext cx="5173560" cy="3745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3" descr="20071207_28893e2b87485b06e7e40mBxpcGBvAXt.jpg"/>
          <p:cNvPicPr/>
          <p:nvPr/>
        </p:nvPicPr>
        <p:blipFill>
          <a:blip r:embed="rId2"/>
          <a:stretch/>
        </p:blipFill>
        <p:spPr>
          <a:xfrm>
            <a:off x="6162840" y="1908000"/>
            <a:ext cx="2384280" cy="41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7C1D-B4B7-4C6E-9B1C-90796155A03C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46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50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0040" y="857160"/>
            <a:ext cx="6945480" cy="501840"/>
            <a:chOff x="500040" y="857160"/>
            <a:chExt cx="6945480" cy="501840"/>
          </a:xfrm>
        </p:grpSpPr>
        <p:grpSp>
          <p:nvGrpSpPr>
            <p:cNvPr id="158" name=""/>
            <p:cNvGrpSpPr/>
            <p:nvPr/>
          </p:nvGrpSpPr>
          <p:grpSpPr>
            <a:xfrm>
              <a:off x="500040" y="889920"/>
              <a:ext cx="6945480" cy="469080"/>
              <a:chOff x="500040" y="889920"/>
              <a:chExt cx="6945480" cy="469080"/>
            </a:xfrm>
          </p:grpSpPr>
          <p:sp>
            <p:nvSpPr>
              <p:cNvPr id="159" name="直接连接符 35"/>
              <p:cNvSpPr/>
              <p:nvPr/>
            </p:nvSpPr>
            <p:spPr>
              <a:xfrm flipV="1">
                <a:off x="928440" y="1305000"/>
                <a:ext cx="65170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矩形 31"/>
              <p:cNvSpPr/>
              <p:nvPr/>
            </p:nvSpPr>
            <p:spPr>
              <a:xfrm>
                <a:off x="500040" y="889920"/>
                <a:ext cx="468000" cy="469080"/>
              </a:xfrm>
              <a:prstGeom prst="rect">
                <a:avLst/>
              </a:pr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TextBox 37"/>
            <p:cNvSpPr/>
            <p:nvPr/>
          </p:nvSpPr>
          <p:spPr>
            <a:xfrm>
              <a:off x="1071360" y="857160"/>
              <a:ext cx="628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TextBox 34"/>
          <p:cNvSpPr/>
          <p:nvPr/>
        </p:nvSpPr>
        <p:spPr>
          <a:xfrm>
            <a:off x="714240" y="1500120"/>
            <a:ext cx="3929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三步走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85880" y="2146680"/>
            <a:ext cx="7572240" cy="4078440"/>
            <a:chOff x="785880" y="2146680"/>
            <a:chExt cx="7572240" cy="4078440"/>
          </a:xfrm>
        </p:grpSpPr>
        <p:grpSp>
          <p:nvGrpSpPr>
            <p:cNvPr id="164" name=""/>
            <p:cNvGrpSpPr/>
            <p:nvPr/>
          </p:nvGrpSpPr>
          <p:grpSpPr>
            <a:xfrm>
              <a:off x="2224080" y="2146680"/>
              <a:ext cx="4078080" cy="4078440"/>
              <a:chOff x="2224080" y="2146680"/>
              <a:chExt cx="4078080" cy="4078440"/>
            </a:xfrm>
          </p:grpSpPr>
          <p:sp>
            <p:nvSpPr>
              <p:cNvPr id="165" name="饼形 21"/>
              <p:cNvSpPr/>
              <p:nvPr/>
            </p:nvSpPr>
            <p:spPr>
              <a:xfrm>
                <a:off x="2763000" y="2685960"/>
                <a:ext cx="3000240" cy="3000600"/>
              </a:xfrm>
              <a:custGeom>
                <a:avLst/>
                <a:gdLst/>
                <a:ahLst/>
                <a:rect l="l" t="t" r="r" b="b"/>
                <a:pathLst>
                  <a:path w="3000396" h="3000396">
                    <a:moveTo>
                      <a:pt x="1" y="1498326"/>
                    </a:moveTo>
                    <a:cubicBezTo>
                      <a:pt x="663" y="967658"/>
                      <a:pt x="281631" y="476822"/>
                      <a:pt x="738892" y="207524"/>
                    </a:cubicBezTo>
                    <a:cubicBezTo>
                      <a:pt x="1196153" y="-61775"/>
                      <a:pt x="1761664" y="-69464"/>
                      <a:pt x="2226078" y="187303"/>
                    </a:cubicBezTo>
                    <a:lnTo>
                      <a:pt x="1500198" y="1500198"/>
                    </a:lnTo>
                    <a:lnTo>
                      <a:pt x="1" y="1498326"/>
                    </a:lnTo>
                    <a:close/>
                  </a:path>
                </a:pathLst>
              </a:cu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饼形 30"/>
              <p:cNvSpPr/>
              <p:nvPr/>
            </p:nvSpPr>
            <p:spPr>
              <a:xfrm rot="7060200">
                <a:off x="2762640" y="2685960"/>
                <a:ext cx="3000600" cy="3000240"/>
              </a:xfrm>
              <a:custGeom>
                <a:avLst/>
                <a:gdLst/>
                <a:ahLst/>
                <a:rect l="l" t="t" r="r" b="b"/>
                <a:pathLst>
                  <a:path w="3000396" h="3000396">
                    <a:moveTo>
                      <a:pt x="1" y="1498326"/>
                    </a:moveTo>
                    <a:cubicBezTo>
                      <a:pt x="663" y="967658"/>
                      <a:pt x="281631" y="476822"/>
                      <a:pt x="738892" y="207524"/>
                    </a:cubicBezTo>
                    <a:cubicBezTo>
                      <a:pt x="1196153" y="-61775"/>
                      <a:pt x="1761664" y="-69464"/>
                      <a:pt x="2226078" y="187303"/>
                    </a:cubicBezTo>
                    <a:lnTo>
                      <a:pt x="1500198" y="1500198"/>
                    </a:lnTo>
                    <a:lnTo>
                      <a:pt x="1" y="1498326"/>
                    </a:lnTo>
                    <a:close/>
                  </a:path>
                </a:pathLst>
              </a:custGeom>
              <a:solidFill>
                <a:srgbClr val="b9cd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饼形 32"/>
              <p:cNvSpPr/>
              <p:nvPr/>
            </p:nvSpPr>
            <p:spPr>
              <a:xfrm rot="14461200">
                <a:off x="2762640" y="2685600"/>
                <a:ext cx="3000600" cy="3000240"/>
              </a:xfrm>
              <a:custGeom>
                <a:avLst/>
                <a:gdLst/>
                <a:ahLst/>
                <a:rect l="l" t="t" r="r" b="b"/>
                <a:pathLst>
                  <a:path w="3000396" h="3000396">
                    <a:moveTo>
                      <a:pt x="4534" y="1616744"/>
                    </a:moveTo>
                    <a:cubicBezTo>
                      <a:pt x="-38339" y="1066540"/>
                      <a:pt x="224331" y="537223"/>
                      <a:pt x="688430" y="238601"/>
                    </a:cubicBezTo>
                    <a:cubicBezTo>
                      <a:pt x="1152528" y="-60021"/>
                      <a:pt x="1743108" y="-79724"/>
                      <a:pt x="2226078" y="187302"/>
                    </a:cubicBezTo>
                    <a:lnTo>
                      <a:pt x="1500198" y="1500198"/>
                    </a:lnTo>
                    <a:lnTo>
                      <a:pt x="4534" y="1616744"/>
                    </a:lnTo>
                    <a:close/>
                  </a:path>
                </a:pathLst>
              </a:cu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56800" y="2571840"/>
              <a:ext cx="3000240" cy="899640"/>
              <a:chOff x="856800" y="2571840"/>
              <a:chExt cx="3000240" cy="899640"/>
            </a:xfrm>
          </p:grpSpPr>
          <p:sp>
            <p:nvSpPr>
              <p:cNvPr id="169" name="直接连接符 38"/>
              <p:cNvSpPr/>
              <p:nvPr/>
            </p:nvSpPr>
            <p:spPr>
              <a:xfrm flipH="1" flipV="1">
                <a:off x="2714040" y="2971440"/>
                <a:ext cx="1143000" cy="5000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直接连接符 40"/>
              <p:cNvSpPr/>
              <p:nvPr/>
            </p:nvSpPr>
            <p:spPr>
              <a:xfrm flipH="1" flipV="1">
                <a:off x="856800" y="2971800"/>
                <a:ext cx="185724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TextBox 41"/>
              <p:cNvSpPr/>
              <p:nvPr/>
            </p:nvSpPr>
            <p:spPr>
              <a:xfrm>
                <a:off x="928440" y="257184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一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85880" y="4998600"/>
              <a:ext cx="3071520" cy="402120"/>
              <a:chOff x="785880" y="4998600"/>
              <a:chExt cx="3071520" cy="402120"/>
            </a:xfrm>
          </p:grpSpPr>
          <p:sp>
            <p:nvSpPr>
              <p:cNvPr id="173" name="直接连接符 44"/>
              <p:cNvSpPr/>
              <p:nvPr/>
            </p:nvSpPr>
            <p:spPr>
              <a:xfrm flipH="1">
                <a:off x="2643120" y="4998600"/>
                <a:ext cx="1214280" cy="399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直接连接符 45"/>
              <p:cNvSpPr/>
              <p:nvPr/>
            </p:nvSpPr>
            <p:spPr>
              <a:xfrm flipH="1" flipV="1">
                <a:off x="785880" y="5399280"/>
                <a:ext cx="185760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Box 46"/>
              <p:cNvSpPr/>
              <p:nvPr/>
            </p:nvSpPr>
            <p:spPr>
              <a:xfrm>
                <a:off x="857160" y="4999320"/>
                <a:ext cx="18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二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214600" y="3328920"/>
              <a:ext cx="3143520" cy="785520"/>
              <a:chOff x="5214600" y="3328920"/>
              <a:chExt cx="3143520" cy="785520"/>
            </a:xfrm>
          </p:grpSpPr>
          <p:sp>
            <p:nvSpPr>
              <p:cNvPr id="177" name="直接连接符 49"/>
              <p:cNvSpPr/>
              <p:nvPr/>
            </p:nvSpPr>
            <p:spPr>
              <a:xfrm flipV="1">
                <a:off x="5214600" y="3728880"/>
                <a:ext cx="1285920" cy="3855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50"/>
              <p:cNvSpPr/>
              <p:nvPr/>
            </p:nvSpPr>
            <p:spPr>
              <a:xfrm flipV="1">
                <a:off x="6500880" y="3729240"/>
                <a:ext cx="185724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TextBox 51"/>
              <p:cNvSpPr/>
              <p:nvPr/>
            </p:nvSpPr>
            <p:spPr>
              <a:xfrm flipH="1">
                <a:off x="6428880" y="332892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三步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6404400" y="6165720"/>
            <a:ext cx="229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2"/>
          <p:cNvSpPr/>
          <p:nvPr/>
        </p:nvSpPr>
        <p:spPr>
          <a:xfrm>
            <a:off x="2841480" y="2792520"/>
            <a:ext cx="34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14"/>
          <p:cNvSpPr/>
          <p:nvPr/>
        </p:nvSpPr>
        <p:spPr>
          <a:xfrm>
            <a:off x="701028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647-4B2F-405D-9DB3-ED1E9C0FB3EE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2927520"/>
            <a:ext cx="2808360" cy="430200"/>
            <a:chOff x="0" y="2927520"/>
            <a:chExt cx="2808360" cy="430200"/>
          </a:xfrm>
        </p:grpSpPr>
        <p:sp>
          <p:nvSpPr>
            <p:cNvPr id="184" name="矩形 17"/>
            <p:cNvSpPr/>
            <p:nvPr/>
          </p:nvSpPr>
          <p:spPr>
            <a:xfrm>
              <a:off x="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18"/>
            <p:cNvSpPr/>
            <p:nvPr/>
          </p:nvSpPr>
          <p:spPr>
            <a:xfrm>
              <a:off x="0" y="3070440"/>
              <a:ext cx="2808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19"/>
            <p:cNvSpPr/>
            <p:nvPr/>
          </p:nvSpPr>
          <p:spPr>
            <a:xfrm>
              <a:off x="0" y="3213720"/>
              <a:ext cx="2808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357960" y="2927520"/>
            <a:ext cx="2808360" cy="430200"/>
            <a:chOff x="6357960" y="2927520"/>
            <a:chExt cx="2808360" cy="430200"/>
          </a:xfrm>
        </p:grpSpPr>
        <p:sp>
          <p:nvSpPr>
            <p:cNvPr id="188" name="矩形 20"/>
            <p:cNvSpPr/>
            <p:nvPr/>
          </p:nvSpPr>
          <p:spPr>
            <a:xfrm>
              <a:off x="635796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21"/>
            <p:cNvSpPr/>
            <p:nvPr/>
          </p:nvSpPr>
          <p:spPr>
            <a:xfrm>
              <a:off x="6357960" y="3070440"/>
              <a:ext cx="2808360" cy="144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24"/>
            <p:cNvSpPr/>
            <p:nvPr/>
          </p:nvSpPr>
          <p:spPr>
            <a:xfrm>
              <a:off x="6357960" y="3213720"/>
              <a:ext cx="2808360" cy="1440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9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194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简约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9cd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09:35Z</dcterms:created>
  <dc:creator/>
  <dc:description/>
  <dc:language>en-US</dc:language>
  <cp:lastModifiedBy>rachel</cp:lastModifiedBy>
  <dcterms:modified xsi:type="dcterms:W3CDTF">2014-12-04T15:14:3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