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002-963D-4560-81C3-97AB7796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972-BAA3-456A-982A-ABD1B20B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66CD-8B5D-49AB-AF71-EE0763C6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A98-A895-4B46-BEA9-9F9228C1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1294-95FE-435D-8912-28EC61BA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BC7-ABB8-4339-9234-C817AAC2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151-D00E-44CA-9DA1-71EE9487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A02-EC90-4368-B2E9-BFC56C98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EE0-BFFE-41AA-B1D5-AEAB0B2F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99E-474E-4952-B569-49AF4A30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3EB-A245-4AAE-A046-AC74CACD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968-EE0B-48D2-A292-4F883CD6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445140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C5FB-3A4E-46C8-BBA6-24145D9269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45140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24000" y="54687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0:11:12Z</dcterms:created>
  <dc:creator>Administrator</dc:creator>
  <dc:description/>
  <cp:keywords/>
  <dc:language>en-US</dc:language>
  <cp:lastModifiedBy>a</cp:lastModifiedBy>
  <dcterms:modified xsi:type="dcterms:W3CDTF">2014-05-19T01:16:06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