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B57-74FA-4BCA-979D-65F19DCF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FF5-A8F5-411B-AF12-29DB35A4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A7A-E3CA-4ED2-89A1-6C1ABDBE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86B-13E9-4AF3-8F91-D090D8FB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9F70-B5EF-4E0D-AB59-AE4CE446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22BC-FB3C-4BB0-8279-0F2469D5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938-1122-4C5E-AD7A-4BC95C1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A6E9-8D0E-467B-A5FA-33D1A653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1953-E60D-44E8-9C49-422B1E1F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7D72-3CB0-482B-9AD8-DF7C018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EC9C-5D10-47AA-8DA2-C9E65DB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D31-D192-4EEC-8F24-CB1D0844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2CA6-A772-4077-9E67-CD9EB89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BA43-1473-42A2-B7B5-92D88EE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4A7B-4E19-4AE3-A44D-A7F989D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5434-1690-4BE9-BF7A-35C057D0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D30F-E012-400E-98FF-4AE0518A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3BE-1F29-44AA-85F7-A74F32C4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40F-B22B-43C0-BECE-F9FBC93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048-DABA-4C82-B9EA-9A411B0E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717-F249-4480-AC80-41A0AFC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520-17A3-4AC5-A9A4-15B974E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60F-6A6D-4265-ABA1-B7ED0C54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9F1-D362-490B-AC02-79612750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4400"/>
            <a:ext cx="9144000" cy="5116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325E-DA9D-42F2-AF47-6B5ED719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5116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3555-2905-47BF-81EF-D2C0855F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7134"/>
          <a:stretch/>
        </p:blipFill>
        <p:spPr>
          <a:xfrm>
            <a:off x="-66600" y="0"/>
            <a:ext cx="9210600" cy="514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95680" y="2344680"/>
            <a:ext cx="36576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6095880" y="3411360"/>
            <a:ext cx="4114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Palace Script MT"/>
                <a:ea typeface="方正兰亭粗黑简体"/>
              </a:rPr>
              <a:t>单击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495680" y="2801880"/>
            <a:ext cx="533412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42"/>
                </a:solidFill>
                <a:latin typeface="金梅浪漫空心體"/>
                <a:ea typeface="方正兰亭粗黑简体"/>
              </a:rPr>
              <a:t>单</a:t>
            </a:r>
            <a:r>
              <a:rPr b="0" lang="zh-CN" sz="4000" spc="-1" strike="noStrike">
                <a:solidFill>
                  <a:srgbClr val="010825"/>
                </a:solidFill>
                <a:latin typeface="金梅浪漫空心體"/>
                <a:ea typeface="方正兰亭粗黑简体"/>
              </a:rPr>
              <a:t>击此处</a:t>
            </a: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2200" y="451656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1440" y="47340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5145120"/>
            <a:chOff x="0" y="0"/>
            <a:chExt cx="8466120" cy="514512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6280"/>
              <a:ext cx="84661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46880" y="267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/>
  <dc:description/>
  <dc:language>en-US</dc:language>
  <cp:lastModifiedBy>yk</cp:lastModifiedBy>
  <dcterms:modified xsi:type="dcterms:W3CDTF">2014-12-04T15:09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