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517B-630B-4A75-8CC6-BC577007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7169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771696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771696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BFD-842A-40DB-BB4F-1CA7B16C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7169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3765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1440" y="1200240"/>
            <a:ext cx="3765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3765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11440" y="2974320"/>
            <a:ext cx="3765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B0F-0B7A-4FF5-AFC2-38012D90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7169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484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66480" y="1200240"/>
            <a:ext cx="2484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5760" y="1200240"/>
            <a:ext cx="2484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484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66480" y="2974320"/>
            <a:ext cx="2484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75760" y="2974320"/>
            <a:ext cx="248472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0033-690A-4D00-A050-55DAF712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7169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771696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4399-7BD7-4CCC-A9F9-2A1B39A4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7169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771696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8204-157A-4CCF-927C-F8ECA3F0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7169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3765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11440" y="1200240"/>
            <a:ext cx="3765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6C8B-B5B8-4424-B68D-11557AAD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7169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00F-A0F8-4606-BF22-ADBBA32A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77169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380E-A97F-4CFA-AACF-29A50622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7169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3765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11440" y="1200240"/>
            <a:ext cx="3765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3765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270A-244E-412C-918B-90D319EF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7169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3765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11440" y="1200240"/>
            <a:ext cx="3765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11440" y="2974320"/>
            <a:ext cx="3765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95D-F99F-405C-A7B2-0245E22F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7169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3765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11440" y="1200240"/>
            <a:ext cx="3765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771696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5D8E-27C1-4EAE-8AB3-691FD9B4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7169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771696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7229-4684-4153-ABD8-07D643BBC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89183" t="0" r="0" b="9158"/>
          <a:stretch/>
        </p:blipFill>
        <p:spPr>
          <a:xfrm>
            <a:off x="8155080" y="0"/>
            <a:ext cx="988920" cy="514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9158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8"/>
          <p:cNvSpPr/>
          <p:nvPr/>
        </p:nvSpPr>
        <p:spPr>
          <a:xfrm>
            <a:off x="380880" y="804960"/>
            <a:ext cx="5334120" cy="70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42"/>
                </a:solidFill>
                <a:latin typeface="金梅浪漫空心體"/>
                <a:ea typeface="方正兰亭粗黑简体"/>
              </a:rPr>
              <a:t>单</a:t>
            </a:r>
            <a:r>
              <a:rPr b="0" lang="zh-CN" sz="4000" spc="-1" strike="noStrike">
                <a:solidFill>
                  <a:srgbClr val="010825"/>
                </a:solidFill>
                <a:latin typeface="金梅浪漫空心體"/>
                <a:ea typeface="方正兰亭粗黑简体"/>
              </a:rPr>
              <a:t>击此处</a:t>
            </a:r>
            <a:r>
              <a:rPr b="0" lang="zh-CN" sz="4000" spc="-1" strike="noStrike">
                <a:solidFill>
                  <a:srgbClr val="000000"/>
                </a:solidFill>
                <a:latin typeface="金梅浪漫空心體"/>
                <a:ea typeface="方正兰亭粗黑简体"/>
              </a:rPr>
              <a:t>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39560"/>
            <a:ext cx="3657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ff"/>
                </a:solidFill>
                <a:latin typeface="Arial"/>
                <a:ea typeface="方正兰亭粗黑简体"/>
              </a:rPr>
              <a:t>W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  <a:ea typeface="方正兰亭粗黑简体"/>
              </a:rPr>
              <a:t>P</a:t>
            </a:r>
            <a:r>
              <a:rPr b="0" lang="zh-CN" sz="2400" spc="-1" strike="noStrike">
                <a:solidFill>
                  <a:srgbClr val="99cc00"/>
                </a:solidFill>
                <a:latin typeface="Arial"/>
                <a:ea typeface="方正兰亭粗黑简体"/>
              </a:rPr>
              <a:t>S</a:t>
            </a:r>
            <a:r>
              <a:rPr b="0" lang="zh-CN" sz="2000" spc="-1" strike="noStrike">
                <a:solidFill>
                  <a:srgbClr val="0099ff"/>
                </a:solidFill>
                <a:latin typeface="Arial"/>
                <a:ea typeface="方正兰亭粗黑简体"/>
              </a:rPr>
              <a:t>OFFI</a:t>
            </a:r>
            <a:r>
              <a:rPr b="0" lang="zh-CN" sz="2000" spc="-1" strike="noStrike">
                <a:solidFill>
                  <a:srgbClr val="ff66cc"/>
                </a:solidFill>
                <a:latin typeface="Arial"/>
                <a:ea typeface="方正兰亭粗黑简体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380880" y="1521000"/>
            <a:ext cx="4114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Palace Script MT"/>
                <a:ea typeface="方正兰亭粗黑简体"/>
              </a:rPr>
              <a:t>添加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33640" y="451656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77169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771696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73520" y="46609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8466120" cy="5145120"/>
            <a:chOff x="0" y="0"/>
            <a:chExt cx="8466120" cy="5145120"/>
          </a:xfrm>
        </p:grpSpPr>
        <p:sp>
          <p:nvSpPr>
            <p:cNvPr id="5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6280"/>
              <a:ext cx="8466120" cy="38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Box 7"/>
            <p:cNvSpPr/>
            <p:nvPr/>
          </p:nvSpPr>
          <p:spPr>
            <a:xfrm rot="20926800">
              <a:off x="1946880" y="267696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06:54:30Z</dcterms:created>
  <dc:creator/>
  <dc:description/>
  <dc:language>en-US</dc:language>
  <cp:lastModifiedBy>yk</cp:lastModifiedBy>
  <cp:lastPrinted>1899-12-30T00:00:00Z</cp:lastPrinted>
  <dcterms:modified xsi:type="dcterms:W3CDTF">2014-06-05T08:23:2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