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A24C-E1E3-42F3-AE78-8D14076E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C80B6-EA84-4E9F-9EB4-2119E9CF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4A407-AFBE-45ED-B60C-979E1A56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9235-1D70-4A0A-B8A8-09A0C25E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F165-344C-4950-8A72-E07355BF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8535-06D0-45E4-AFD2-8099EE26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D423-80D1-4DA2-A2C8-EE5FF8CF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9E68-7354-4434-913E-0B0866B9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B1F6-7AAF-4738-8A5B-1B4A06B5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6E53-A0C8-494D-9759-9CA6F9D1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0F6A-9678-491E-93CD-619A3A28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5C58-3458-4AA9-BD3F-6252FA6C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132F-9EF1-4F44-85B4-BD7B2912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53A1-1DE9-4F55-805F-A44E4A0E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40E5-73DB-4CEA-A823-852F2568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90F0-4701-4C12-AE36-C3AC45AA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7AB4-BC72-4B44-86B0-0555E562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6A8B-04E1-4B7A-8F52-9376993F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0F3D-08DB-446B-BC17-056E2335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0E90-A3BD-440B-8B70-52EB646E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ECB9-045D-4431-A50C-CD3B8E88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FAF5-E028-412C-9A5E-F2FE0309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58A79-F80F-4E72-8093-503626CC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6071-C507-4F6D-B97B-2E636925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7730-B8AA-444F-AEB6-FAD812A1D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6669000"/>
            <a:ext cx="755640" cy="171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18BC-CEA0-46D0-9810-EA0FA869DA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3860640"/>
            <a:ext cx="46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棕色系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581360"/>
            <a:ext cx="46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y compan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10T15:07:51Z</dcterms:modified>
  <cp:revision>75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