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E64-A7E1-4BB5-9911-C27562E9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8B1-FB54-458D-BD29-BEF132EA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AB5-678C-47E2-870B-9861A293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CC1-2680-41B2-9D23-C03E7EA3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459-8D23-445C-AA7D-65501C0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B83-0DC5-4C9C-84F6-00A47582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E07-B0A6-4EB4-9610-10F167F0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989-600C-4439-B2DB-68E11DFD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722-EB53-418E-A8D2-45726258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B75-E5F2-4F77-8AA3-9A99FC7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C09-E9FD-4A5F-B130-D90D691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42B-04C8-46D1-9582-08F714E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1B7-6AA2-4498-AF98-3F0CE3D976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EE54-B37E-4282-B924-029072EA36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12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4"/>
          <p:cNvPicPr/>
          <p:nvPr/>
        </p:nvPicPr>
        <p:blipFill>
          <a:blip r:embed="rId1"/>
          <a:stretch/>
        </p:blipFill>
        <p:spPr>
          <a:xfrm>
            <a:off x="0" y="336600"/>
            <a:ext cx="91393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1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16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17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18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1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2 "/>
          <p:cNvPicPr/>
          <p:nvPr/>
        </p:nvPicPr>
        <p:blipFill>
          <a:blip r:embed="rId1"/>
          <a:stretch/>
        </p:blipFill>
        <p:spPr>
          <a:xfrm>
            <a:off x="0" y="406440"/>
            <a:ext cx="911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1"/>
          <p:cNvPicPr/>
          <p:nvPr/>
        </p:nvPicPr>
        <p:blipFill>
          <a:blip r:embed="rId1"/>
          <a:stretch/>
        </p:blipFill>
        <p:spPr>
          <a:xfrm>
            <a:off x="0" y="316080"/>
            <a:ext cx="913932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2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23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4"/>
          <p:cNvPicPr/>
          <p:nvPr/>
        </p:nvPicPr>
        <p:blipFill>
          <a:blip r:embed="rId1"/>
          <a:stretch/>
        </p:blipFill>
        <p:spPr>
          <a:xfrm>
            <a:off x="3240" y="396720"/>
            <a:ext cx="91422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3"/>
          <p:cNvPicPr/>
          <p:nvPr/>
        </p:nvPicPr>
        <p:blipFill>
          <a:blip r:embed="rId1"/>
          <a:stretch/>
        </p:blipFill>
        <p:spPr>
          <a:xfrm>
            <a:off x="0" y="406440"/>
            <a:ext cx="911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5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6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7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9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4-12-31T03:31:4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