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EE4-397F-4578-BCD3-D2015632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C73-8A34-4B28-A392-C2A1ECFD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05F-420A-4881-913F-3778E633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778-9093-4A46-BC5C-3BD3E516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9128-789E-45B3-8D03-699F839E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C866-63CC-4151-BEF3-DACFD021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4DFC-AAC0-4E8E-9047-A6C3F475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8F0C-F2CC-4050-BC9B-7CD1F949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820A-18EA-4205-BBB6-BFDCF284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6FB2-261D-4C10-91D2-165E41C6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B480-88CF-4903-8118-19D40B7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16C-EFA7-4B4F-8B2D-06AF151B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4E85-26E0-4D1B-98D9-C4BB265C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C871-687D-4A6D-B94A-AD55569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C794-11DB-4291-A3E2-3042276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9394-6B03-4BAE-94BD-E0E520EB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F92E-4139-49D7-A542-C7441909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DFD-3964-4216-A253-4CEC0083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F88-9A05-4F9D-998A-67962203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9DF-8E9E-4C6C-8536-0852C7FC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5A0-64A9-4D78-BF36-A97427CB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F8C-9EB9-44C8-A021-5C6A217E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4F4-F3F5-4392-A585-169A83D1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9FF-C5AD-4C16-9C63-DA09EB11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FFD1-6C94-4BC6-B91E-3DEEB3CEE2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3FD7-8F76-4782-A0E1-A104F8F82C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的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3440" y="216000"/>
            <a:ext cx="6994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92000" y="1260360"/>
            <a:ext cx="699444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083960"/>
            <a:ext cx="84247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262080"/>
            <a:ext cx="13888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3324240"/>
            <a:ext cx="8281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>a</cp:lastModifiedBy>
  <dcterms:modified xsi:type="dcterms:W3CDTF">2014-12-26T02:30:5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