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4C4E-E45C-44C9-B1A2-ECBF93FF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D168-C315-4DDD-A7CE-3ED0AF40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3488-F627-4646-854B-9D874C17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DD60A-BEB4-4950-AC77-4A51D08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742FA-BFF7-46C3-8E49-1FB57E01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F1784-7F37-40A5-A865-67E3B8C1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6A50-1072-4E57-910B-38E1C71A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1F17-9D8D-4035-BB1D-B6313DF5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10F4C-117A-420B-856E-1E412E74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76523-0562-4213-B79E-6DBA84B9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79C54-645F-4C1C-8388-F7645936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7B631-0BA9-454B-B45C-40E28C3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87C8B-72B5-4FDF-BE7E-570557F6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F7DDF-46D4-4186-B176-C4EE7F1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63629-7A6B-4FE8-8074-479E7CF7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C2729-6017-4EFF-8C6E-9ADE13B3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DC4A5-1B60-4AAA-8BC9-692B9391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E9832-CA9D-4DDA-945A-13E5011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CFEF0-221D-4915-9935-CE34C099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9D5BD-C214-42C1-9206-2D86C762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C7BC-8859-42FD-8A69-6C754AD8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5561E-666D-4844-8F44-8D320DC9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C475E-1507-4AAA-9526-49465A35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88996-3B41-4E58-8834-D33E7C00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10BF6-E7B6-4491-90F1-DB73E169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463A4-403A-4E8F-B83B-BC55B0DF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B880E-DEF0-417E-B3B5-2F5A2A7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A7375-0976-4B65-9475-B81CA667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B3236-048C-49B1-A7FE-3E107A4A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33AE-3A33-46ED-85BA-2922384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62A-A164-4735-AE85-FC2C97E7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D7859-BC16-4F43-88CD-64B77F1E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C582E-4082-4C23-952D-D6144A74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BD78F-12DC-4C65-819E-5FB33678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3364C-070A-47FD-ABC4-BDB5A3F1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16A0E-690B-4E82-B536-4988A625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02E5-A1BF-48DB-B4D8-14EC37A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EB3AC-7606-4E5B-AFA6-C59F9544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80E0-5043-49F4-80D1-B2943CD2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94E4A-AD09-4635-8E77-D32404DA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5D88B-B74C-481F-9DB9-90CFC646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A63-E307-4DE3-9BC5-4AD52BF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D651F-A77A-4297-BBD9-975A51F9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4FDD0-D968-4273-9FAE-7860079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7322A-966C-476E-96F9-1755CC5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FF407-1B2C-448E-8B0E-97A3E811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08ABE-81BD-40EB-BD09-9280F4F1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6BFFE-EAEA-41BF-949F-9CB6F6F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4EB5B-775C-4018-B1AD-23C1129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D3945-61C7-49E8-8A03-1635FD9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388BC-B3BB-4FE4-BB61-8A139BE7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CFC08-A807-4D9A-8330-36F63D86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14B-02BC-46B7-9003-927116D8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557E2-F4CC-42B8-B2DC-1994F683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FD03A-BE07-4740-915B-6DE640C1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77883-EDF7-4328-ADF7-220BFBC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84308-E6FE-4607-8C83-F11BFAD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D4623-0D27-4002-9D67-05320DF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0DC45-55A4-45F9-9A2D-FC8CBEC6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7DA64-4E17-4EAD-B632-6E275482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0DA8-8062-4C91-A871-79CF0CD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183-C4F2-46D1-923E-B3E1F067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6BF-1439-4BE2-BA08-7366F589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FAE-A187-4AB5-94B4-59B4FE23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7E7-B18D-4995-B02A-90A8E56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358-6FF7-4461-8BCC-8E4AD51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FF0-739E-4947-B020-85A74137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733-55C4-4EA3-B054-9345D0E9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0FD2-4B0E-4C7D-9472-CB974B06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5BE-4AAD-411E-A16E-7B8F00D1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D509-61B2-47AB-9633-8B0FE25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1CB-45B8-4A59-8BE9-C94D364B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6635-C445-44AD-9031-688A9DCB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3AE0-2D32-40E9-9F74-B75BD9B6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4500-6364-449F-BCBA-4B203396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C697-102F-4D00-867D-DFF52AF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F114-AAC4-4EC9-813F-8B8A6D28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83ED-EA2B-48E3-9E66-FBDE39D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B414-0CB2-4177-ABAE-3B11DF84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09F9-C4A3-44FB-BB39-D4055BBC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FC5B-A3FA-4643-B652-C15E7309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CE7E-0470-428E-8DC9-4572AB70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3B8C-4B6C-49C9-B999-E305270B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6486-30EF-4DA2-827E-17510102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417F-6819-468C-AF02-A4223500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8DF9-129E-4A2D-A61C-6704A1F3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558F-7E7F-4859-86B7-F265573B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B008-645F-482B-872B-9FFFE64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B0838-D2EF-48D9-8DB7-C161E9C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6D1FD-95A9-4433-973C-9AFCBD89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895E-9A84-41DD-B0BB-D07A3BB0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28123-8532-410A-844E-D962BAA7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C95B-7A6E-4590-A37B-9C62414B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A8EE6-F0D2-49F1-AAC3-76206515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52D8-5B0E-4470-904B-1F47EBCC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ABD5-E6D8-41AF-819E-37956FE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82A6D-47C4-4CB8-B74C-5D259731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68FB-577F-4954-B340-1EF88233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D335B-A3C0-4705-90E6-588106F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0B486-8E28-4325-9466-1EC23AB7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3AAAF-E73B-44D6-A44B-AE8FB04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7CBD8-A719-455C-B016-496B359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4E04-72C4-4072-B905-B0AF6615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A5D0-8808-4335-BB1A-D5776CA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D4719-CA06-4E05-BA72-86F9A695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206E5-241B-43B9-9394-3AD6CEB3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700E-CF75-4D2B-B5F8-25C3BD20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0760-3F77-462B-B0D2-63F59AD3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4282F-4B6E-4537-97E0-D028CAA6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0152-4B73-40BB-A87C-A7D70910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8B90-758D-4E35-9D3A-6DF8F2AC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8F1C-97A4-43CA-8A14-D534DF63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C1037-102A-4FC0-87C0-C56DBD1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46227-3CC4-4E75-8952-9FA8A970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AE493-24A2-477C-9D39-EDD8B74F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A03C-C8F8-41B1-87E3-52792EFA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ECDD-5F2E-4ACD-A790-37280E0D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DD9F3-8BCD-45B1-98D6-FD9D41F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DBC0-82CC-4E34-A50F-7BF245E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B40D-CE23-4C49-8DF1-07154C2B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AC2CC-BBD6-4ED1-9FFB-1C6E2D7B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64D88-5EF8-4598-AC59-38B6D5C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1E295-F9FE-4606-84F4-F8019EF8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6B2E4-ADBB-4429-A7B4-BB2CB190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54DE7-4F8D-4DF4-A9E2-F4C908E6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6FCE6-BCB5-40E2-BFE2-57472D6F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AE62C-507A-4F3A-AE67-F264C84E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387A-3EFA-4CC3-8577-6F6F3859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5C7F-9ACE-444D-82E3-82473C97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408D7-0C6B-4848-ABEB-1A4FA2EC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DE821-E663-4CE1-B0EC-EAAB783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9C9E-F844-4C22-923A-D0804BA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CA1CB-5B52-4D75-A2B5-C00A92C0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D9B7-6465-4A00-9106-0C4FD2FB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E4B23-9D1F-47D6-A938-AD5CB093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41D56-AA2C-4C77-870A-859383D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EE6DE-96DD-4504-B09A-684DDFE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7C758-FE44-452A-A87C-E8419D6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4E5D2-86EB-49BB-A88F-35D9C7E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8E92A-DF08-4EB2-857D-270302C6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3D0CC-5AC9-4D55-B7E9-B0F86A3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8ED2A-57B9-4986-860C-393FADE7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0354-0B89-4A70-BA1E-349D5DC2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86B43-9A0D-49AC-AAAA-84F86BA2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FA7F-0D92-466E-8DC0-1DC76E340E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7A6-9073-4D7D-A6F3-E02FD590A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740-2BC7-4DBB-8EAD-9D8635A78C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D920-65E2-469C-9463-807ABB0F3C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6254-007E-4CBE-92F0-4CAF2D13D4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874A-035F-4D8B-B0F1-A1D8A787B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5613-C65B-4C07-A7D6-1629B2B934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A13-8DD5-4E11-8D7E-53F0438360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66F-1F08-4294-A4CE-C213F3F73F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C2E-0EAC-493B-B782-9D79C3DF4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266-23C5-4D20-82FE-F3CA2155C3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5C79-AF8E-48B6-A1FC-7C8B97D2C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C4AB-5E52-4ED6-9BE0-7B98AAF556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BC53-5D38-4E23-9C88-6D7A6AA14C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3CBC-5BD4-458A-92FD-422BA25BAC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5E76-EFEC-4E24-AF18-0E8BDEB53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B5B-EA36-480D-99FC-6FC0252C19F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0CBB-121A-4317-BFB4-A0394C5BC3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57B8-C265-4AA3-A0C8-75126B50E4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944-AD56-4482-876E-B24057C68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1E01-1212-4BA6-8269-0AAD1628F8B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25DE-EA4C-430A-BD6D-5A5752572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F74-5683-40B5-A05F-D65942E5B6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610-9603-44BB-AC44-BA9A43B1E0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609480" y="59220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6" descr=""/>
          <p:cNvPicPr/>
          <p:nvPr/>
        </p:nvPicPr>
        <p:blipFill>
          <a:blip r:embed="rId1"/>
          <a:stretch/>
        </p:blipFill>
        <p:spPr>
          <a:xfrm>
            <a:off x="152280" y="1111320"/>
            <a:ext cx="8290080" cy="53402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571840" y="4892760"/>
            <a:ext cx="5572080" cy="7038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Lucida Sans Unicode"/>
              </a:rPr>
              <a:t>巴塞罗那城市观光</a:t>
            </a:r>
            <a:r>
              <a:rPr b="1" lang="zh-CN" sz="2000" spc="-1" strike="noStrike">
                <a:solidFill>
                  <a:srgbClr val="333399"/>
                </a:solidFill>
                <a:latin typeface="Lucida Sans Unicode"/>
              </a:rPr>
              <a:t>ppt</a:t>
            </a:r>
            <a:r>
              <a:rPr b="1" lang="zh-CN" sz="2000" spc="-1" strike="noStrike">
                <a:solidFill>
                  <a:srgbClr val="333399"/>
                </a:solidFill>
                <a:latin typeface="Lucida Sans Unicode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7" descr=""/>
          <p:cNvPicPr/>
          <p:nvPr/>
        </p:nvPicPr>
        <p:blipFill>
          <a:blip r:embed="rId1"/>
          <a:stretch/>
        </p:blipFill>
        <p:spPr>
          <a:xfrm>
            <a:off x="152280" y="1160640"/>
            <a:ext cx="8290080" cy="534024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Unicode MS"/>
              </a:rPr>
              <a:t>Knowledge City on Smar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523880" y="1805040"/>
            <a:ext cx="4876920" cy="2109240"/>
            <a:chOff x="1523880" y="1805040"/>
            <a:chExt cx="4876920" cy="2109240"/>
          </a:xfrm>
        </p:grpSpPr>
        <p:sp>
          <p:nvSpPr>
            <p:cNvPr id="576" name="Line 5"/>
            <p:cNvSpPr/>
            <p:nvPr/>
          </p:nvSpPr>
          <p:spPr>
            <a:xfrm>
              <a:off x="3922560" y="2257200"/>
              <a:ext cx="1800" cy="162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676160" y="1904760"/>
              <a:ext cx="4724640" cy="60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1600200" y="1805040"/>
              <a:ext cx="4724280" cy="60912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"/>
            <p:cNvSpPr/>
            <p:nvPr/>
          </p:nvSpPr>
          <p:spPr>
            <a:xfrm>
              <a:off x="3886200" y="2285640"/>
              <a:ext cx="1440" cy="1628640"/>
            </a:xfrm>
            <a:prstGeom prst="line">
              <a:avLst/>
            </a:prstGeom>
            <a:ln w="25560">
              <a:solidFill>
                <a:srgbClr val="07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5"/>
            <p:cNvSpPr/>
            <p:nvPr/>
          </p:nvSpPr>
          <p:spPr>
            <a:xfrm>
              <a:off x="1523880" y="1904760"/>
              <a:ext cx="4876920" cy="55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6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Unicode MS"/>
                </a:rPr>
                <a:t>A new model of making 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6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Arial Unicode MS"/>
                </a:rPr>
                <a:t>The City as a Platform of the Knowledge Economy and Socie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he 22@ Plan, a Model of Knowledge City on Smar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3"/>
          <p:cNvGrpSpPr/>
          <p:nvPr/>
        </p:nvGrpSpPr>
        <p:grpSpPr>
          <a:xfrm>
            <a:off x="4335480" y="1760400"/>
            <a:ext cx="1963800" cy="2009880"/>
            <a:chOff x="4335480" y="1760400"/>
            <a:chExt cx="1963800" cy="2009880"/>
          </a:xfrm>
        </p:grpSpPr>
        <p:pic>
          <p:nvPicPr>
            <p:cNvPr id="583" name="Picture 34" descr=""/>
            <p:cNvPicPr/>
            <p:nvPr/>
          </p:nvPicPr>
          <p:blipFill>
            <a:blip r:embed="rId1"/>
            <a:stretch/>
          </p:blipFill>
          <p:spPr>
            <a:xfrm>
              <a:off x="4335480" y="1760400"/>
              <a:ext cx="1963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Rectangle 43"/>
            <p:cNvSpPr/>
            <p:nvPr/>
          </p:nvSpPr>
          <p:spPr>
            <a:xfrm>
              <a:off x="4338360" y="3313080"/>
              <a:ext cx="195768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8"/>
            <p:cNvSpPr/>
            <p:nvPr/>
          </p:nvSpPr>
          <p:spPr>
            <a:xfrm>
              <a:off x="4394160" y="3348000"/>
              <a:ext cx="182916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HOUS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"/>
          <p:cNvGrpSpPr/>
          <p:nvPr/>
        </p:nvGrpSpPr>
        <p:grpSpPr>
          <a:xfrm>
            <a:off x="228600" y="1752480"/>
            <a:ext cx="1962000" cy="2009880"/>
            <a:chOff x="228600" y="1752480"/>
            <a:chExt cx="1962000" cy="2009880"/>
          </a:xfrm>
        </p:grpSpPr>
        <p:sp>
          <p:nvSpPr>
            <p:cNvPr id="587" name="Rectangle 53"/>
            <p:cNvSpPr/>
            <p:nvPr/>
          </p:nvSpPr>
          <p:spPr>
            <a:xfrm>
              <a:off x="228600" y="3305160"/>
              <a:ext cx="195732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8"/>
            <p:cNvSpPr/>
            <p:nvPr/>
          </p:nvSpPr>
          <p:spPr>
            <a:xfrm>
              <a:off x="284040" y="3340080"/>
              <a:ext cx="1828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@ ECONOM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74" descr=""/>
            <p:cNvPicPr/>
            <p:nvPr/>
          </p:nvPicPr>
          <p:blipFill>
            <a:blip r:embed="rId2"/>
            <a:stretch/>
          </p:blipFill>
          <p:spPr>
            <a:xfrm>
              <a:off x="228600" y="1752480"/>
              <a:ext cx="1962000" cy="147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0" name="Group 11"/>
          <p:cNvGrpSpPr/>
          <p:nvPr/>
        </p:nvGrpSpPr>
        <p:grpSpPr>
          <a:xfrm>
            <a:off x="228600" y="3857760"/>
            <a:ext cx="1965240" cy="2009520"/>
            <a:chOff x="228600" y="3857760"/>
            <a:chExt cx="1965240" cy="2009520"/>
          </a:xfrm>
        </p:grpSpPr>
        <p:sp>
          <p:nvSpPr>
            <p:cNvPr id="591" name="Rectangle 45"/>
            <p:cNvSpPr/>
            <p:nvPr/>
          </p:nvSpPr>
          <p:spPr>
            <a:xfrm>
              <a:off x="228600" y="5410080"/>
              <a:ext cx="195732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Text Box 8"/>
            <p:cNvSpPr/>
            <p:nvPr/>
          </p:nvSpPr>
          <p:spPr>
            <a:xfrm>
              <a:off x="284040" y="5445000"/>
              <a:ext cx="1828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SCIENCE AND TE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Picture 75" descr=""/>
            <p:cNvPicPr/>
            <p:nvPr/>
          </p:nvPicPr>
          <p:blipFill>
            <a:blip r:embed="rId3"/>
            <a:stretch/>
          </p:blipFill>
          <p:spPr>
            <a:xfrm>
              <a:off x="228600" y="3857760"/>
              <a:ext cx="196524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Group 15"/>
          <p:cNvGrpSpPr/>
          <p:nvPr/>
        </p:nvGrpSpPr>
        <p:grpSpPr>
          <a:xfrm>
            <a:off x="6388200" y="1755720"/>
            <a:ext cx="1965240" cy="2009880"/>
            <a:chOff x="6388200" y="1755720"/>
            <a:chExt cx="1965240" cy="2009880"/>
          </a:xfrm>
        </p:grpSpPr>
        <p:grpSp>
          <p:nvGrpSpPr>
            <p:cNvPr id="595" name="Group 16"/>
            <p:cNvGrpSpPr/>
            <p:nvPr/>
          </p:nvGrpSpPr>
          <p:grpSpPr>
            <a:xfrm>
              <a:off x="6388200" y="3308400"/>
              <a:ext cx="1957320" cy="457200"/>
              <a:chOff x="6388200" y="3308400"/>
              <a:chExt cx="1957320" cy="457200"/>
            </a:xfrm>
          </p:grpSpPr>
          <p:sp>
            <p:nvSpPr>
              <p:cNvPr id="596" name="Rectangle 51"/>
              <p:cNvSpPr/>
              <p:nvPr/>
            </p:nvSpPr>
            <p:spPr>
              <a:xfrm>
                <a:off x="6388200" y="3308400"/>
                <a:ext cx="1957320" cy="457200"/>
              </a:xfrm>
              <a:prstGeom prst="rect">
                <a:avLst/>
              </a:prstGeom>
              <a:solidFill>
                <a:srgbClr val="078b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8"/>
              <p:cNvSpPr/>
              <p:nvPr/>
            </p:nvSpPr>
            <p:spPr>
              <a:xfrm>
                <a:off x="6443640" y="3343320"/>
                <a:ext cx="1828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Unicode MS"/>
                  </a:rPr>
                  <a:t>INCLUSIV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8" name="Picture 76" descr=""/>
            <p:cNvPicPr/>
            <p:nvPr/>
          </p:nvPicPr>
          <p:blipFill>
            <a:blip r:embed="rId4"/>
            <a:stretch/>
          </p:blipFill>
          <p:spPr>
            <a:xfrm>
              <a:off x="6388200" y="1755720"/>
              <a:ext cx="196524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9" name="Group 20"/>
          <p:cNvGrpSpPr/>
          <p:nvPr/>
        </p:nvGrpSpPr>
        <p:grpSpPr>
          <a:xfrm>
            <a:off x="6372360" y="3860640"/>
            <a:ext cx="1965240" cy="2009880"/>
            <a:chOff x="6372360" y="3860640"/>
            <a:chExt cx="1965240" cy="2009880"/>
          </a:xfrm>
        </p:grpSpPr>
        <p:sp>
          <p:nvSpPr>
            <p:cNvPr id="600" name="Rectangle 47"/>
            <p:cNvSpPr/>
            <p:nvPr/>
          </p:nvSpPr>
          <p:spPr>
            <a:xfrm>
              <a:off x="6372360" y="5413320"/>
              <a:ext cx="196524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8"/>
            <p:cNvSpPr/>
            <p:nvPr/>
          </p:nvSpPr>
          <p:spPr>
            <a:xfrm>
              <a:off x="6432480" y="5448240"/>
              <a:ext cx="1828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IDENT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Picture 77" descr=""/>
            <p:cNvPicPr/>
            <p:nvPr/>
          </p:nvPicPr>
          <p:blipFill>
            <a:blip r:embed="rId5"/>
            <a:stretch/>
          </p:blipFill>
          <p:spPr>
            <a:xfrm>
              <a:off x="6372360" y="3860640"/>
              <a:ext cx="196524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3" name="Group 24"/>
          <p:cNvGrpSpPr/>
          <p:nvPr/>
        </p:nvGrpSpPr>
        <p:grpSpPr>
          <a:xfrm>
            <a:off x="2266920" y="1752480"/>
            <a:ext cx="1968480" cy="2010600"/>
            <a:chOff x="2266920" y="1752480"/>
            <a:chExt cx="1968480" cy="2010600"/>
          </a:xfrm>
        </p:grpSpPr>
        <p:sp>
          <p:nvSpPr>
            <p:cNvPr id="604" name="Rectangle 49"/>
            <p:cNvSpPr/>
            <p:nvPr/>
          </p:nvSpPr>
          <p:spPr>
            <a:xfrm>
              <a:off x="2268360" y="3305880"/>
              <a:ext cx="196704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8"/>
            <p:cNvSpPr/>
            <p:nvPr/>
          </p:nvSpPr>
          <p:spPr>
            <a:xfrm>
              <a:off x="2322360" y="3340800"/>
              <a:ext cx="1830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GREEN INFRASTRUCT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78" descr=""/>
            <p:cNvPicPr/>
            <p:nvPr/>
          </p:nvPicPr>
          <p:blipFill>
            <a:blip r:embed="rId6"/>
            <a:stretch/>
          </p:blipFill>
          <p:spPr>
            <a:xfrm>
              <a:off x="2266920" y="1752480"/>
              <a:ext cx="1967040" cy="147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Group 28"/>
          <p:cNvGrpSpPr/>
          <p:nvPr/>
        </p:nvGrpSpPr>
        <p:grpSpPr>
          <a:xfrm>
            <a:off x="2266920" y="3857760"/>
            <a:ext cx="1968480" cy="2009520"/>
            <a:chOff x="2266920" y="3857760"/>
            <a:chExt cx="1968480" cy="2009520"/>
          </a:xfrm>
        </p:grpSpPr>
        <p:sp>
          <p:nvSpPr>
            <p:cNvPr id="608" name="Rectangle 40"/>
            <p:cNvSpPr/>
            <p:nvPr/>
          </p:nvSpPr>
          <p:spPr>
            <a:xfrm>
              <a:off x="2268360" y="5410080"/>
              <a:ext cx="196704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8"/>
            <p:cNvSpPr/>
            <p:nvPr/>
          </p:nvSpPr>
          <p:spPr>
            <a:xfrm>
              <a:off x="2322360" y="5445000"/>
              <a:ext cx="18302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MO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0" name="Picture 79" descr=""/>
            <p:cNvPicPr/>
            <p:nvPr/>
          </p:nvPicPr>
          <p:blipFill>
            <a:blip r:embed="rId7"/>
            <a:stretch/>
          </p:blipFill>
          <p:spPr>
            <a:xfrm>
              <a:off x="2266920" y="3857760"/>
              <a:ext cx="1967040" cy="14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1" name="Group 32"/>
          <p:cNvGrpSpPr/>
          <p:nvPr/>
        </p:nvGrpSpPr>
        <p:grpSpPr>
          <a:xfrm>
            <a:off x="4324320" y="3857760"/>
            <a:ext cx="1965240" cy="2009520"/>
            <a:chOff x="4324320" y="3857760"/>
            <a:chExt cx="1965240" cy="2009520"/>
          </a:xfrm>
        </p:grpSpPr>
        <p:sp>
          <p:nvSpPr>
            <p:cNvPr id="612" name="Rectangle 39"/>
            <p:cNvSpPr/>
            <p:nvPr/>
          </p:nvSpPr>
          <p:spPr>
            <a:xfrm>
              <a:off x="4324320" y="5410080"/>
              <a:ext cx="196524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8"/>
            <p:cNvSpPr/>
            <p:nvPr/>
          </p:nvSpPr>
          <p:spPr>
            <a:xfrm>
              <a:off x="4384440" y="5445000"/>
              <a:ext cx="18288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QUALITY OF LI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Picture 80" descr=""/>
            <p:cNvPicPr/>
            <p:nvPr/>
          </p:nvPicPr>
          <p:blipFill>
            <a:blip r:embed="rId8"/>
            <a:stretch/>
          </p:blipFill>
          <p:spPr>
            <a:xfrm>
              <a:off x="4324320" y="3857760"/>
              <a:ext cx="1965240" cy="1476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4740480" y="4043520"/>
            <a:ext cx="3103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@ Barcelona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mar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17640" y="4043520"/>
            <a:ext cx="311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"/>
          <p:cNvSpPr/>
          <p:nvPr/>
        </p:nvSpPr>
        <p:spPr>
          <a:xfrm flipH="1">
            <a:off x="4495320" y="4495680"/>
            <a:ext cx="228600" cy="0"/>
          </a:xfrm>
          <a:prstGeom prst="line">
            <a:avLst/>
          </a:prstGeom>
          <a:ln w="25560">
            <a:solidFill>
              <a:srgbClr val="078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pecial Infrastructures Plan: The Backbone of the Smar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2979720" y="3798720"/>
            <a:ext cx="2627280" cy="2185920"/>
            <a:chOff x="2979720" y="3798720"/>
            <a:chExt cx="2627280" cy="2185920"/>
          </a:xfrm>
        </p:grpSpPr>
        <p:pic>
          <p:nvPicPr>
            <p:cNvPr id="620" name="Picture 26" descr=""/>
            <p:cNvPicPr/>
            <p:nvPr/>
          </p:nvPicPr>
          <p:blipFill>
            <a:blip r:embed="rId1"/>
            <a:stretch/>
          </p:blipFill>
          <p:spPr>
            <a:xfrm>
              <a:off x="2989080" y="3798720"/>
              <a:ext cx="261648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Rectangle 31"/>
            <p:cNvSpPr/>
            <p:nvPr/>
          </p:nvSpPr>
          <p:spPr>
            <a:xfrm>
              <a:off x="2979720" y="5492520"/>
              <a:ext cx="262728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8"/>
            <p:cNvSpPr/>
            <p:nvPr/>
          </p:nvSpPr>
          <p:spPr>
            <a:xfrm>
              <a:off x="3048120" y="5562360"/>
              <a:ext cx="2514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New heating and cool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7"/>
          <p:cNvGrpSpPr/>
          <p:nvPr/>
        </p:nvGrpSpPr>
        <p:grpSpPr>
          <a:xfrm>
            <a:off x="5716440" y="1523880"/>
            <a:ext cx="2619360" cy="2141640"/>
            <a:chOff x="5716440" y="1523880"/>
            <a:chExt cx="2619360" cy="2141640"/>
          </a:xfrm>
        </p:grpSpPr>
        <p:pic>
          <p:nvPicPr>
            <p:cNvPr id="624" name="Picture 24" descr=""/>
            <p:cNvPicPr/>
            <p:nvPr/>
          </p:nvPicPr>
          <p:blipFill>
            <a:blip r:embed="rId2"/>
            <a:stretch/>
          </p:blipFill>
          <p:spPr>
            <a:xfrm>
              <a:off x="5719680" y="1523880"/>
              <a:ext cx="26161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Rectangle 32"/>
            <p:cNvSpPr/>
            <p:nvPr/>
          </p:nvSpPr>
          <p:spPr>
            <a:xfrm>
              <a:off x="5716440" y="3208320"/>
              <a:ext cx="261936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8"/>
            <p:cNvSpPr/>
            <p:nvPr/>
          </p:nvSpPr>
          <p:spPr>
            <a:xfrm>
              <a:off x="5790960" y="3276360"/>
              <a:ext cx="25146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New energy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11"/>
          <p:cNvGrpSpPr/>
          <p:nvPr/>
        </p:nvGrpSpPr>
        <p:grpSpPr>
          <a:xfrm>
            <a:off x="5716440" y="3798720"/>
            <a:ext cx="2619360" cy="2151000"/>
            <a:chOff x="5716440" y="3798720"/>
            <a:chExt cx="2619360" cy="2151000"/>
          </a:xfrm>
        </p:grpSpPr>
        <p:pic>
          <p:nvPicPr>
            <p:cNvPr id="628" name="Picture 27" descr=""/>
            <p:cNvPicPr/>
            <p:nvPr/>
          </p:nvPicPr>
          <p:blipFill>
            <a:blip r:embed="rId3"/>
            <a:stretch/>
          </p:blipFill>
          <p:spPr>
            <a:xfrm>
              <a:off x="5719680" y="3798720"/>
              <a:ext cx="26161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Rectangle 33"/>
            <p:cNvSpPr/>
            <p:nvPr/>
          </p:nvSpPr>
          <p:spPr>
            <a:xfrm>
              <a:off x="5716440" y="5492520"/>
              <a:ext cx="261936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8"/>
            <p:cNvSpPr/>
            <p:nvPr/>
          </p:nvSpPr>
          <p:spPr>
            <a:xfrm>
              <a:off x="5790960" y="5562360"/>
              <a:ext cx="25146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Underground galle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15"/>
          <p:cNvGrpSpPr/>
          <p:nvPr/>
        </p:nvGrpSpPr>
        <p:grpSpPr>
          <a:xfrm>
            <a:off x="258840" y="1523880"/>
            <a:ext cx="2619360" cy="2141640"/>
            <a:chOff x="258840" y="1523880"/>
            <a:chExt cx="2619360" cy="2141640"/>
          </a:xfrm>
        </p:grpSpPr>
        <p:pic>
          <p:nvPicPr>
            <p:cNvPr id="632" name="Picture 22" descr=""/>
            <p:cNvPicPr/>
            <p:nvPr/>
          </p:nvPicPr>
          <p:blipFill>
            <a:blip r:embed="rId4"/>
            <a:stretch/>
          </p:blipFill>
          <p:spPr>
            <a:xfrm>
              <a:off x="258840" y="1523880"/>
              <a:ext cx="26161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Rectangle 29"/>
            <p:cNvSpPr/>
            <p:nvPr/>
          </p:nvSpPr>
          <p:spPr>
            <a:xfrm>
              <a:off x="258840" y="3208320"/>
              <a:ext cx="261936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8"/>
            <p:cNvSpPr/>
            <p:nvPr/>
          </p:nvSpPr>
          <p:spPr>
            <a:xfrm>
              <a:off x="312840" y="3276360"/>
              <a:ext cx="25146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New mobility 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9"/>
          <p:cNvGrpSpPr/>
          <p:nvPr/>
        </p:nvGrpSpPr>
        <p:grpSpPr>
          <a:xfrm>
            <a:off x="258840" y="3798720"/>
            <a:ext cx="2619360" cy="2151000"/>
            <a:chOff x="258840" y="3798720"/>
            <a:chExt cx="2619360" cy="2151000"/>
          </a:xfrm>
        </p:grpSpPr>
        <p:pic>
          <p:nvPicPr>
            <p:cNvPr id="636" name="Picture 25" descr=""/>
            <p:cNvPicPr/>
            <p:nvPr/>
          </p:nvPicPr>
          <p:blipFill>
            <a:blip r:embed="rId5"/>
            <a:stretch/>
          </p:blipFill>
          <p:spPr>
            <a:xfrm>
              <a:off x="258840" y="3798720"/>
              <a:ext cx="261612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28"/>
            <p:cNvSpPr/>
            <p:nvPr/>
          </p:nvSpPr>
          <p:spPr>
            <a:xfrm>
              <a:off x="258840" y="5492520"/>
              <a:ext cx="261936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8"/>
            <p:cNvSpPr/>
            <p:nvPr/>
          </p:nvSpPr>
          <p:spPr>
            <a:xfrm>
              <a:off x="304920" y="5486400"/>
              <a:ext cx="2514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Selective pneumatic waste col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23"/>
          <p:cNvGrpSpPr/>
          <p:nvPr/>
        </p:nvGrpSpPr>
        <p:grpSpPr>
          <a:xfrm>
            <a:off x="2987640" y="3211560"/>
            <a:ext cx="2627280" cy="457200"/>
            <a:chOff x="2987640" y="3211560"/>
            <a:chExt cx="2627280" cy="457200"/>
          </a:xfrm>
        </p:grpSpPr>
        <p:sp>
          <p:nvSpPr>
            <p:cNvPr id="640" name="Rectangle 30"/>
            <p:cNvSpPr/>
            <p:nvPr/>
          </p:nvSpPr>
          <p:spPr>
            <a:xfrm>
              <a:off x="2987640" y="3211560"/>
              <a:ext cx="2627280" cy="457200"/>
            </a:xfrm>
            <a:prstGeom prst="rect">
              <a:avLst/>
            </a:prstGeom>
            <a:solidFill>
              <a:srgbClr val="078b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8"/>
            <p:cNvSpPr/>
            <p:nvPr/>
          </p:nvSpPr>
          <p:spPr>
            <a:xfrm>
              <a:off x="3052800" y="3279960"/>
              <a:ext cx="25146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Unicode MS"/>
                </a:rPr>
                <a:t>Wi-fi and optic fib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Picture 3" descr=""/>
          <p:cNvPicPr/>
          <p:nvPr/>
        </p:nvPicPr>
        <p:blipFill>
          <a:blip r:embed="rId6"/>
          <a:srcRect l="21789" t="0" r="0" b="59094"/>
          <a:stretch/>
        </p:blipFill>
        <p:spPr>
          <a:xfrm>
            <a:off x="3003480" y="1484280"/>
            <a:ext cx="258444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5"/>
          <p:cNvSpPr/>
          <p:nvPr/>
        </p:nvSpPr>
        <p:spPr>
          <a:xfrm>
            <a:off x="3769920" y="4043520"/>
            <a:ext cx="427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@ Barcelona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Knowledge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7"/>
          <p:cNvSpPr/>
          <p:nvPr/>
        </p:nvSpPr>
        <p:spPr>
          <a:xfrm>
            <a:off x="3585960" y="4043520"/>
            <a:ext cx="311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38"/>
          <p:cNvSpPr/>
          <p:nvPr/>
        </p:nvSpPr>
        <p:spPr>
          <a:xfrm flipH="1">
            <a:off x="3563640" y="4495680"/>
            <a:ext cx="228600" cy="0"/>
          </a:xfrm>
          <a:prstGeom prst="line">
            <a:avLst/>
          </a:prstGeom>
          <a:ln w="25560">
            <a:solidFill>
              <a:srgbClr val="078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95280" y="3817800"/>
            <a:ext cx="1676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Technological cent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2195640" y="13716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78ba6"/>
                </a:solidFill>
                <a:latin typeface="Arial Unicode MS"/>
              </a:rPr>
              <a:t> </a:t>
            </a:r>
            <a:r>
              <a:rPr b="1" lang="zh-CN" sz="1800" spc="-1" strike="noStrike">
                <a:solidFill>
                  <a:srgbClr val="078ba6"/>
                </a:solidFill>
                <a:latin typeface="Arial Unicode MS"/>
              </a:rPr>
              <a:t>22@Barcelona: Clusters &amp;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Unicode MS"/>
              </a:rPr>
              <a:t>Leadership of projects: current situation and fore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5"/>
          <p:cNvSpPr/>
          <p:nvPr/>
        </p:nvSpPr>
        <p:spPr>
          <a:xfrm>
            <a:off x="1622520" y="-77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-209520" y="285768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Compa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-209520" y="316224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-209520" y="346716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Univers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-209520" y="4232160"/>
            <a:ext cx="228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Incub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6640560" y="4162320"/>
            <a:ext cx="1676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Resid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6605640" y="44546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Othe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6643800" y="32259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Specific 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6643800" y="3666960"/>
            <a:ext cx="2286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Dissemin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6643800" y="28576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Entrepren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39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246560" cy="432612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16"/>
          <p:cNvGrpSpPr/>
          <p:nvPr/>
        </p:nvGrpSpPr>
        <p:grpSpPr>
          <a:xfrm>
            <a:off x="2057400" y="2819520"/>
            <a:ext cx="4559400" cy="2184120"/>
            <a:chOff x="2057400" y="2819520"/>
            <a:chExt cx="4559400" cy="2184120"/>
          </a:xfrm>
        </p:grpSpPr>
        <p:pic>
          <p:nvPicPr>
            <p:cNvPr id="661" name="Picture 28" descr=""/>
            <p:cNvPicPr/>
            <p:nvPr/>
          </p:nvPicPr>
          <p:blipFill>
            <a:blip r:embed="rId2"/>
            <a:stretch/>
          </p:blipFill>
          <p:spPr>
            <a:xfrm>
              <a:off x="2057400" y="2819520"/>
              <a:ext cx="304560" cy="21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29" descr=""/>
            <p:cNvPicPr/>
            <p:nvPr/>
          </p:nvPicPr>
          <p:blipFill>
            <a:blip r:embed="rId3"/>
            <a:stretch/>
          </p:blipFill>
          <p:spPr>
            <a:xfrm>
              <a:off x="6324840" y="2819520"/>
              <a:ext cx="291960" cy="2184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Unicode MS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"/>
          <p:cNvGrpSpPr/>
          <p:nvPr/>
        </p:nvGrpSpPr>
        <p:grpSpPr>
          <a:xfrm>
            <a:off x="4495320" y="2444760"/>
            <a:ext cx="3542760" cy="3258360"/>
            <a:chOff x="4495320" y="2444760"/>
            <a:chExt cx="3542760" cy="3258360"/>
          </a:xfrm>
        </p:grpSpPr>
        <p:sp>
          <p:nvSpPr>
            <p:cNvPr id="534" name="Rectangle 5"/>
            <p:cNvSpPr/>
            <p:nvPr/>
          </p:nvSpPr>
          <p:spPr>
            <a:xfrm>
              <a:off x="4719240" y="2458800"/>
              <a:ext cx="3318840" cy="31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22@Barcelona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W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22@Barcelona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Knowledge C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22@Barcelona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Smart C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22@Barcelona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Knowledge Econom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22@Barcelona: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Knowledge Socie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Q&amp;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53"/>
            <p:cNvSpPr/>
            <p:nvPr/>
          </p:nvSpPr>
          <p:spPr>
            <a:xfrm>
              <a:off x="4518000" y="2444760"/>
              <a:ext cx="282960" cy="31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6"/>
            <p:cNvGrpSpPr/>
            <p:nvPr/>
          </p:nvGrpSpPr>
          <p:grpSpPr>
            <a:xfrm>
              <a:off x="4495320" y="3214080"/>
              <a:ext cx="228600" cy="2489040"/>
              <a:chOff x="4495320" y="3214080"/>
              <a:chExt cx="228600" cy="2489040"/>
            </a:xfrm>
          </p:grpSpPr>
          <p:sp>
            <p:nvSpPr>
              <p:cNvPr id="537" name="Line 72"/>
              <p:cNvSpPr/>
              <p:nvPr/>
            </p:nvSpPr>
            <p:spPr>
              <a:xfrm flipH="1">
                <a:off x="4495320" y="3214080"/>
                <a:ext cx="228600" cy="144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73"/>
              <p:cNvSpPr/>
              <p:nvPr/>
            </p:nvSpPr>
            <p:spPr>
              <a:xfrm flipH="1">
                <a:off x="4495320" y="3590280"/>
                <a:ext cx="228600" cy="144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74"/>
              <p:cNvSpPr/>
              <p:nvPr/>
            </p:nvSpPr>
            <p:spPr>
              <a:xfrm flipH="1">
                <a:off x="4495320" y="4052520"/>
                <a:ext cx="228600" cy="108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75"/>
              <p:cNvSpPr/>
              <p:nvPr/>
            </p:nvSpPr>
            <p:spPr>
              <a:xfrm flipH="1">
                <a:off x="4495320" y="4509720"/>
                <a:ext cx="228600" cy="108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6"/>
              <p:cNvSpPr/>
              <p:nvPr/>
            </p:nvSpPr>
            <p:spPr>
              <a:xfrm flipH="1">
                <a:off x="4495320" y="4959000"/>
                <a:ext cx="228600" cy="108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77"/>
              <p:cNvSpPr/>
              <p:nvPr/>
            </p:nvSpPr>
            <p:spPr>
              <a:xfrm flipH="1">
                <a:off x="4495320" y="5357160"/>
                <a:ext cx="228600" cy="144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80"/>
              <p:cNvSpPr/>
              <p:nvPr/>
            </p:nvSpPr>
            <p:spPr>
              <a:xfrm flipH="1">
                <a:off x="4495320" y="5701680"/>
                <a:ext cx="228600" cy="1440"/>
              </a:xfrm>
              <a:prstGeom prst="line">
                <a:avLst/>
              </a:prstGeom>
              <a:ln w="25560">
                <a:solidFill>
                  <a:srgbClr val="078b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4764240" y="4043520"/>
            <a:ext cx="1400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4518360" y="4043520"/>
            <a:ext cx="311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6"/>
          <p:cNvSpPr/>
          <p:nvPr/>
        </p:nvSpPr>
        <p:spPr>
          <a:xfrm flipH="1">
            <a:off x="4495320" y="4495680"/>
            <a:ext cx="228600" cy="0"/>
          </a:xfrm>
          <a:prstGeom prst="line">
            <a:avLst/>
          </a:prstGeom>
          <a:ln w="25560">
            <a:solidFill>
              <a:srgbClr val="078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68" descr=""/>
          <p:cNvPicPr/>
          <p:nvPr/>
        </p:nvPicPr>
        <p:blipFill>
          <a:blip r:embed="rId1"/>
          <a:stretch/>
        </p:blipFill>
        <p:spPr>
          <a:xfrm>
            <a:off x="1066680" y="1957320"/>
            <a:ext cx="5715000" cy="39499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5334120" y="60958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Unicode MS"/>
              </a:rPr>
              <a:t>Source: Loet Leydesdorff &amp; Martin Meyer.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2895480" y="3200400"/>
            <a:ext cx="2209680" cy="1295280"/>
            <a:chOff x="2895480" y="3200400"/>
            <a:chExt cx="2209680" cy="1295280"/>
          </a:xfrm>
        </p:grpSpPr>
        <p:pic>
          <p:nvPicPr>
            <p:cNvPr id="550" name="Picture 157" descr=""/>
            <p:cNvPicPr/>
            <p:nvPr/>
          </p:nvPicPr>
          <p:blipFill>
            <a:blip r:embed="rId2"/>
            <a:stretch/>
          </p:blipFill>
          <p:spPr>
            <a:xfrm>
              <a:off x="2895480" y="3200400"/>
              <a:ext cx="23184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58" descr=""/>
            <p:cNvPicPr/>
            <p:nvPr/>
          </p:nvPicPr>
          <p:blipFill>
            <a:blip r:embed="rId3"/>
            <a:stretch/>
          </p:blipFill>
          <p:spPr>
            <a:xfrm>
              <a:off x="4883040" y="3200400"/>
              <a:ext cx="22212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2" name="Rectangle 6"/>
          <p:cNvSpPr/>
          <p:nvPr/>
        </p:nvSpPr>
        <p:spPr>
          <a:xfrm>
            <a:off x="3048120" y="3581280"/>
            <a:ext cx="1828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Knowledge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3124080" y="167652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762120" y="2590920"/>
            <a:ext cx="1828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371600" y="533412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343400" y="547848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Political 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5791320" y="425916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 Unicode MS"/>
              </a:rPr>
              <a:t>Ec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5410080" y="2506680"/>
            <a:ext cx="182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Arial Unicode MS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4929120" cy="5067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"/>
          <p:cNvPicPr/>
          <p:nvPr/>
        </p:nvPicPr>
        <p:blipFill>
          <a:blip r:embed="rId2"/>
          <a:srcRect l="24561" t="-4283" r="26317" b="0"/>
          <a:stretch/>
        </p:blipFill>
        <p:spPr>
          <a:xfrm>
            <a:off x="5643720" y="2928960"/>
            <a:ext cx="2798640" cy="24289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"/>
          <p:cNvSpPr/>
          <p:nvPr/>
        </p:nvSpPr>
        <p:spPr>
          <a:xfrm>
            <a:off x="5572080" y="6072120"/>
            <a:ext cx="278604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ource: Richard Florida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Unicode MS"/>
              </a:rPr>
              <a:t>Talent: Who is your c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4764600" y="4043520"/>
            <a:ext cx="259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@Barcelona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4518360" y="4043520"/>
            <a:ext cx="311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495320" y="4495680"/>
            <a:ext cx="228600" cy="0"/>
          </a:xfrm>
          <a:prstGeom prst="line">
            <a:avLst/>
          </a:prstGeom>
          <a:ln w="25560">
            <a:solidFill>
              <a:srgbClr val="078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305920" cy="538956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Unicode MS"/>
              </a:rPr>
              <a:t>Among the main European ca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152280" y="1108080"/>
            <a:ext cx="8290080" cy="534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"/>
          <p:cNvSpPr/>
          <p:nvPr/>
        </p:nvSpPr>
        <p:spPr>
          <a:xfrm>
            <a:off x="609480" y="592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@Barcelona, included in the Ensanche’s plan (185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002040" y="4043520"/>
            <a:ext cx="5025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2@Barcelona: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Knowledge City on Smar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2719080" y="4043520"/>
            <a:ext cx="311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2696760" y="4495680"/>
            <a:ext cx="228600" cy="0"/>
          </a:xfrm>
          <a:prstGeom prst="line">
            <a:avLst/>
          </a:prstGeom>
          <a:ln w="25560">
            <a:solidFill>
              <a:srgbClr val="078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7:36:48Z</dcterms:created>
  <dc:creator>sg</dc:creator>
  <dc:description/>
  <dc:language>en-US</dc:language>
  <cp:lastModifiedBy>a</cp:lastModifiedBy>
  <dcterms:modified xsi:type="dcterms:W3CDTF">2014-12-15T17:36:5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