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B4861-02D6-4FD8-9033-CC547D33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0DEB-1995-4071-AAF5-43F2F345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77582-1C40-4B97-AD45-1F518C03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536A8-B505-4F79-8729-D8099DFC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11F3-9B8B-4907-A71D-A792680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34B95-0D91-4675-9059-74450F3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D6CA6-5F3E-44C9-911C-2A1EF0FD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E41AA-792E-4075-9533-000F051E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48886-331A-4BC2-8BD1-A0A9C14F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87328-ACFA-437C-AFD6-A777FA86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A9148-DC1A-4862-A04D-A30084F4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2C6B6-6B49-47B2-9399-134D5926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1E5AE-32A8-443E-AB14-82BFBD76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6082-A21B-4816-8E45-EE0A169E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FA4C2-DE40-47B7-A899-C61DB8B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F5526-8F25-418C-A7B6-3627E95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F656B-F24C-460E-AA8C-62D42A20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0B8E3-7935-48BD-BE1C-A0728221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74AAD-0744-4030-83A7-C3D47B23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AF88-C255-4570-9BD0-2B0F74A4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43803-E790-4E4E-B756-E08CCFA4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494E7-E22A-4E34-BC40-DE229094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EEC07-E01B-4161-A8D4-750811FA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04548-0D03-4771-AE2D-9DF223D5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6B426-1029-4818-94B9-AA5504EE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144DB-26A7-42AB-AE1C-D0BCAF2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08418-A714-4391-AEB1-FCEF4855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C338B-EB02-45E7-91DD-6DC63EE5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76B4D-083C-4509-8346-FEF8CE4C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EAAD1-5584-42F5-9FAF-02A85788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D2F-370C-4E62-B583-2B6BC0D6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14032-8689-412F-8808-4965E10B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E3908-6CF5-4908-9091-32268714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73A85-BA3A-4844-B5AD-5D035785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0EB23-33EC-4E98-A734-945BA491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D6AB2-2682-4DEE-AA6C-A7C88402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ED6C4-8A4B-4CAE-8438-908B9299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EB0A8-F47D-41C7-9CFE-0BB7631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7DDD7-9758-4203-A618-1FC2ED96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C5703-A59B-471A-91CE-99046044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F0CAD-64A8-4BE4-84A0-2FA6892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A68-6E77-4090-B070-E80798E9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09AC8-F2C3-4C4D-B43F-615FD5F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62096-E4BF-456A-A4E1-7993A3C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FFD61-6D7B-41D7-AB47-BDB96D43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5A892-2EAA-4CEA-93EF-A20E1144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B3C70-EDF3-46CB-ABAB-BF9656E3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984D5-1AE2-41D3-9569-DF1F1F7C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BD4BB-23A6-4C2C-AD20-8D940DD5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706F0-E16D-4675-A466-E54C7A78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0035A-2D95-42B2-89F2-4DA63B93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B90EC-AF79-4243-BDF6-3CD71B35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757-30C2-410A-8DAC-7A784197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AA214-9341-468A-A3BD-7B9A09A8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B2439-2FE3-4838-A0D2-7BDCC3D6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E520D-8666-49F8-B0BA-07FF0CD4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74E12-8B8B-4FA4-802E-B49223E7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E7AA4-DED2-4DC8-AFE9-31595E9D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2C996-B7A0-43B0-B970-A04B2845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11F54-E161-4DE3-BA07-183ABAC8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7986B-D1CD-495E-91D7-68A75EBC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4901F-A05B-4EEC-9478-14DB23CA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7B82E-C32E-40D5-987F-A172BC01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659-8808-4AD0-922F-B0260356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8B5B1-2FD9-495B-82CB-C3B5EC1C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D2D83-E703-4410-B689-7BA55B9F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FCD2B-6BAE-4C56-9758-3F598C67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8D72D-7DD7-45B5-B5BC-31844B7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3E577-A19D-48AF-843F-F76E3F89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D79F6-FD28-4C96-A1F3-128F0A41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6B231-766E-4B3A-A7B6-E076DD8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3E55A-9F18-452C-9070-246E1F01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EEB9A-A736-44FB-9717-D40CA03B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F48-C4E9-49CE-B41A-4C3CB0E4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9B2-FA30-4858-BEFB-23A7424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3C2-28EF-43E4-9346-C9CE633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7F1-59EA-4171-9310-D7984134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F07-6849-4C0B-9AE7-2C0F506A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647-9D5A-4A99-BFA1-9B50C220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3F2-BE90-4D08-BD09-CC88F472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D98-E9C0-49F2-8380-286B3EEA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52A-C934-4F24-8877-508A0A29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E1E3-499B-403A-B815-34E9C2BD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2DD8-8830-4D35-B38F-A03D3774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31D6-603A-4F42-9BAE-A1A22AE5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0970-6931-4BF3-B480-E8A14924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B526-C5E7-4828-A99D-3FCBA76E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D0BA-229E-487F-B9C5-D7196F3E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01D1-C036-489F-86F8-3E8055A5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5E62-4400-4EB4-9140-10FD8DC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A6BE-B628-4EC5-BD9C-0FCE4829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38AB-649C-42E6-9379-3DBC7198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90AB-F537-47EC-84BF-104962AB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AB4A-7A95-4C24-9DE2-8C38AAFF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7848-E7A3-4564-BE22-4FBFA2A7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53379-CCCC-4518-877F-390BFE33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E713-9CE2-434C-A416-05A12930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7547-6B3B-4F22-AAD2-C8DD051E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64E0-732B-4A6B-902C-811AAB99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0BA7-E42B-44DE-887D-A39B8B9C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A7AD-24C3-4D81-A613-C083D1A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012D-0BDC-40F5-A6BA-63C4A94A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C76D-7B05-4C04-B63A-0B95D43A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69AB-F7C1-46CC-958D-82A87627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5253-0CAA-4A68-9BF9-40CA75A9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AB20-B209-4AD6-99C1-9EB74DE3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245D1-0BE0-45F3-84AF-9400594E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680D-7724-461A-B197-D535BB2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2E0E-50FC-4C24-97C2-3EA0BB1A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09EE-5404-4596-AE32-B4F0902C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38266-EDA7-4941-AE2C-F80FF2D8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B3F9-81AD-4D29-85F5-FB3942B3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357A-5453-4A2E-97A7-97EECDB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E49E-5713-42C3-9053-C70495C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A270-3723-42DC-8D5C-39989DB0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090F-BF14-4554-B778-035215B2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81DC-5F3D-4E10-91D0-9B98640E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7F27-ABA0-4AF7-9AF3-E2D1DD61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0DE8C-D819-406E-A99A-8CF9F32F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F706-6A4D-4613-ADE6-0A66590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2057-DB75-4F88-AC30-1B30C866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C1D0-9C86-4570-B02B-E8C592AF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B668-B56F-4A4E-BCAA-4A8993D7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003B3-E36F-411E-8164-A25B5F5D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5C307-178D-429B-8B47-59FFD196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84DD0-5A4A-4AD7-AC1C-3D917C28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D071A-917C-41EC-9674-181D8312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67AA-268E-4FB7-83C2-279C2E59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6E30D-A08C-45B1-BB38-5EAB384D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422AC-3C38-444A-B185-7576BFA8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B6C40-3A10-4DC0-B129-2B5F456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B6E0B-80F5-4573-A29D-70ACEB40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BCF42-976B-49F2-9E8F-3B58CF65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A6840-6702-4024-BBFD-C8DE361B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E231D-4DDA-4F78-BF14-A8724983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AF6EE-F2E3-42D8-ACAE-2FAE11D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04908-83F6-4881-9EAD-6E5BA33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4FDB2-42FE-4348-B7A8-5B9DF381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B7DD5-5516-4F53-ABB3-651487DB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8E5D-B3EB-4DE9-9035-AC0E9894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99AB-146E-4DC2-9F47-B663913F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62686-8949-4B55-A32E-91FB58DC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900DA-CEBD-4392-B900-BA9068F3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1D76-16B4-4092-A666-EADCD950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E0C5-8C62-4B02-ACC3-707DF76D51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382E-2610-4974-A0BB-E43A06D0BA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382E-E55A-469D-B36D-E9CC9C6F3F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FD31-F6C1-4C1A-85C6-318BF6AD6B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C697-15F7-45BA-A601-70A4D8D1FB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A8BC-4DA7-4EB8-B7EA-FB8E36AAB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7817-7367-4A53-8929-ABCEB49730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3CFA-4C91-4B6B-9732-D0837DA749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185-03D5-4906-86B0-0EA66C8B7B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5638-80D0-4E63-85BA-DC6EC35D2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7C1B-3DA6-4AB8-B542-1E601C0FA19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281D-24D7-4BE0-B167-E84D09EDD6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A2F-DC78-4453-B64F-5FFC2DD918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56DF-8B52-4E90-985E-984B452593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3885-833C-4741-A000-7DF80DCB9D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9B7E-CCE2-40CE-B32F-B6A6EF089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2685-14E9-4D6D-9CCB-0E522350BA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9DBD-F39E-4CEA-8F20-E773BCC109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45FB-401C-461C-9C72-144453F9FA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C254-E272-4AA7-BB5C-9A24EDD091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A23-17E4-49B4-A6EE-134FFEE36D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50FF-5FA2-4439-A1E0-C3FFCF7CE0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E9D0-27CF-4459-B427-772FF6BFC1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6BE7-FDB0-4F0A-A6DB-1D89B5A37D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长城汽车销售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403280" y="4437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2:30Z</dcterms:created>
  <dc:creator>微软用户</dc:creator>
  <dc:description/>
  <dc:language>en-US</dc:language>
  <cp:lastModifiedBy>a</cp:lastModifiedBy>
  <dcterms:modified xsi:type="dcterms:W3CDTF">2014-12-21T03:44:16Z</dcterms:modified>
  <cp:revision>1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