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DE9-46A6-42F6-8517-91522AA0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732-0E3B-485B-BC84-7F5D2B99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F0B-C8A8-4CCA-BA06-687AF4C3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11D-6844-4139-B87A-463D3CFA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08C5-CBD1-4C5A-BE00-79ADFA44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1B32-9D6F-437D-BE12-5D5B526B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C274-197D-4932-8423-0CB9C626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4312-30F0-4823-84A5-E22E50EE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B165-930D-442F-8ADB-3E66D964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49B3-E48D-499D-808B-90F2C537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AD09-4368-4F07-B80F-9C5C68EC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1E9-8F73-4314-BD6B-0B213BE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A520-0EB4-4469-82D6-B6796192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E787-321F-43F9-AA8E-DAB3936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C98D-95CE-44BC-BE53-EF0CD23B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E208-CB7C-4AAE-B874-599025AB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7867-4AAE-4082-A598-DF9636B7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16A45-4D69-41D3-884C-7EC05D16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2D61-0C20-4D97-A2A2-E26DE2D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7206-ACB6-4FC7-B727-EA8C9844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F307-BFE0-4FC7-8EEF-BCEB14A2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065A-6B0B-463B-BAF6-7760865E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AE3-7F39-4099-AACE-A52EC6F0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6BE7-6E06-45E0-BED2-22380BFA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2962-728E-49C0-9EC9-297D7EB3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EBA9-70E2-4CBE-A19A-B5215734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70EA-5D6C-43A0-9492-D9BDECEE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E126-D389-4C9F-A61A-D270E3D5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96A56-612F-4E28-99CA-EB43DD3C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DC7EF-94AB-4048-AC1C-0DDA7BA4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B784-261C-4AE7-8867-F827EF8F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1D48-DD3F-4704-8376-50BE5CE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4459-C47D-4B9A-9E3D-86127248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381-DDE0-4323-8005-95B15BF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B41C-9BCA-4AEB-935C-0BB723A4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DF3B-3121-40E6-B7EB-DA079E7E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C48F-8092-4395-800D-3E5517DC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2BAE-1E82-4CA4-B475-084CE5F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CFD3-38FC-438B-8559-4AA90EF3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A20B-5677-42EB-B541-67847D0D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539A-552E-446D-8AD6-85F76FB2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96019-A7BA-4393-AA8B-8D970B95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03D09-18F5-4593-8D34-A55D1D8F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C9C-0167-4560-8237-1C8C4708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04E-5286-4A3B-B574-3DCEC226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824-EE4D-4EE4-B0AC-305FF35D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633-6143-4C51-99D9-50085E0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DE4-51F0-4E70-BA4E-E96F06E7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ic5777"/>
          <p:cNvPicPr/>
          <p:nvPr/>
        </p:nvPicPr>
        <p:blipFill>
          <a:blip r:embed="rId2"/>
          <a:stretch/>
        </p:blipFill>
        <p:spPr>
          <a:xfrm>
            <a:off x="0" y="324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E3E0-955B-488D-AD32-E4F3B735F8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/Documents and Settings/Administrator/桌面/未标题-1.jpg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4F35-440F-42B8-82E4-E8E49D526D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未标题-2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2A38-CC59-4C12-B2D4-5EA4D01B92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52A8-8F8C-4655-9352-D0603410BF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9FCF-D301-41C1-B057-0EEA9CB2F3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彩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77444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7:27:26Z</dcterms:created>
  <dc:creator>Administrator</dc:creator>
  <dc:description/>
  <dc:language>en-US</dc:language>
  <cp:lastModifiedBy>a</cp:lastModifiedBy>
  <dcterms:modified xsi:type="dcterms:W3CDTF">2014-12-21T05:44:5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