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CA72E-EDDA-4BE6-9C3C-39FB851CA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685B-2CC3-4216-A577-D28AB643E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032A-3F1E-4BBF-A774-E3DAEDA5B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A6190-B513-4005-AFCC-CAAE53BBE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7BB87-9105-4020-8ACC-56D1746F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7AA1F-EDD5-479E-8DBD-93673C8A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2E3AF-5B54-4939-B2FE-8DA507A4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49208-9FBE-4A99-A8D4-AA0528C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B23B5-240F-4DA2-8ED5-0BBFA411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54223-0240-4D32-95A6-3CA6C9FC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AE1F-C7E1-4BA5-8F42-F132DEFE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EEAD-6E18-4CC7-9D66-82FC90A72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98AA8-5A46-4A6A-B471-69A77D9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87052-F139-4E6D-B98C-EBE1B007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2094C-DDF7-4329-9B2F-DD51B0C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CE9F3-9FE7-4FBA-9207-B596135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86922-E2F2-4FD1-97ED-F41222B8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B41C-684D-4879-8048-739AA42D6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877C-A7C7-477C-A302-772035B6E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78DD0-7602-4EAD-B554-98722B01A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7179-037F-4940-96EC-E09D6EB9E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91B30-B6DE-4DF3-89D2-1912A80C5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175D-EA44-4C2F-A997-5D53C90F9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827D-8C74-4759-B6AA-A1ACB1ECF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C341-A8A7-46FF-A0A4-3EEC9630CF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2"/>
          <p:cNvPicPr/>
          <p:nvPr/>
        </p:nvPicPr>
        <p:blipFill>
          <a:blip r:embed="rId3"/>
          <a:stretch/>
        </p:blipFill>
        <p:spPr>
          <a:xfrm>
            <a:off x="1527120" y="6489720"/>
            <a:ext cx="1435320" cy="2667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9360" y="6539040"/>
            <a:ext cx="1511640" cy="287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5"/>
          <a:stretch/>
        </p:blipFill>
        <p:spPr>
          <a:xfrm>
            <a:off x="108000" y="6597720"/>
            <a:ext cx="149220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B51C-46FF-402D-8557-3779B48BE9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532-19A4-4657-9A1F-94130CDEC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彩虹简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</cp:lastModifiedBy>
  <dcterms:modified xsi:type="dcterms:W3CDTF">2014-12-15T17:53:51Z</dcterms:modified>
  <cp:revision>27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