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824F7-A9CF-4D8D-B0E2-A921F678D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C30A5-7E1F-4F03-9AB1-D59832135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2AB97-81B8-4767-8B04-298FD6F7C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84F94-5F0E-4D6D-946E-F134C479B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0F411-8D24-4270-A72A-5F3C6A976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06363-86F9-43ED-94D2-AD0F375D6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4DCE9-9A01-4604-958A-39172A208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87EB5-9162-4986-8BD4-7C1336D15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5D9DA-90A9-4ED4-9495-2B940B449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93F17-28BD-4AF8-9916-BB99671D8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CA413-28A3-4D91-A133-497E0380C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DB21C-12DE-4FC0-A4CA-B9D9EA7DA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3FBDD-2B33-400C-9B85-C18AAB837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A6C10-FCEE-44D1-BEED-F75F53E39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31294-3B49-42C7-A385-CDB249098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99113-A9DE-48C5-A75B-32E2733EF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B507F-DC0B-4F5B-A3AC-3D9146BB0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9C794-46CA-4CC4-BA5E-BE9C1084E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5FD4A-62D9-40C9-AA5B-CC250FE8F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1D60C-1ADA-4677-B1F4-DA84D62B1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A5DCE-9E98-4856-85C6-3218688BE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2CF90-99E4-4D87-8791-D0D4EF678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85610-95F7-483A-9219-B101754D3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EDC6A-4F7D-4A24-BACA-0FEE2B699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669C1-C4A7-4130-9270-147620BDC667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E679C-00AF-4423-9C66-714B8064D6A4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3" descr=""/>
          <p:cNvPicPr/>
          <p:nvPr/>
        </p:nvPicPr>
        <p:blipFill>
          <a:blip r:embed="rId2"/>
          <a:srcRect l="0" t="450" r="0" b="9546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C5874-4A1F-476E-B32B-8191086E1000}" type="datetime">
              <a:rPr b="0" lang="zh-CN" sz="10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46FBC-8A3A-4BC4-9FD6-5C3DFE6356CC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6.xml"/><Relationship Id="rId5" Type="http://schemas.openxmlformats.org/officeDocument/2006/relationships/slide" Target="slide8.xml"/><Relationship Id="rId6" Type="http://schemas.openxmlformats.org/officeDocument/2006/relationships/image" Target="../media/image2.jpe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" Target="slide1.xml"/><Relationship Id="rId4" Type="http://schemas.openxmlformats.org/officeDocument/2006/relationships/slide" Target="slide2.xml"/><Relationship Id="rId5" Type="http://schemas.openxmlformats.org/officeDocument/2006/relationships/slide" Target="slide4.xml"/><Relationship Id="rId6" Type="http://schemas.openxmlformats.org/officeDocument/2006/relationships/slide" Target="slide6.xml"/><Relationship Id="rId7" Type="http://schemas.openxmlformats.org/officeDocument/2006/relationships/slide" Target="slide8.xml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1.xml"/><Relationship Id="rId3" Type="http://schemas.openxmlformats.org/officeDocument/2006/relationships/slide" Target="slide2.xml"/><Relationship Id="rId4" Type="http://schemas.openxmlformats.org/officeDocument/2006/relationships/slide" Target="slide4.xml"/><Relationship Id="rId5" Type="http://schemas.openxmlformats.org/officeDocument/2006/relationships/slide" Target="slide6.xml"/><Relationship Id="rId6" Type="http://schemas.openxmlformats.org/officeDocument/2006/relationships/slide" Target="slide8.xml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" Target="slide1.xml"/><Relationship Id="rId4" Type="http://schemas.openxmlformats.org/officeDocument/2006/relationships/slide" Target="slide2.xml"/><Relationship Id="rId5" Type="http://schemas.openxmlformats.org/officeDocument/2006/relationships/slide" Target="slide4.xml"/><Relationship Id="rId6" Type="http://schemas.openxmlformats.org/officeDocument/2006/relationships/slide" Target="slide6.xml"/><Relationship Id="rId7" Type="http://schemas.openxmlformats.org/officeDocument/2006/relationships/slide" Target="slide8.xml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1.xml"/><Relationship Id="rId3" Type="http://schemas.openxmlformats.org/officeDocument/2006/relationships/slide" Target="slide2.xml"/><Relationship Id="rId4" Type="http://schemas.openxmlformats.org/officeDocument/2006/relationships/slide" Target="slide4.xml"/><Relationship Id="rId5" Type="http://schemas.openxmlformats.org/officeDocument/2006/relationships/slide" Target="slide6.xml"/><Relationship Id="rId6" Type="http://schemas.openxmlformats.org/officeDocument/2006/relationships/slide" Target="slide8.xml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" Target="slide1.xml"/><Relationship Id="rId4" Type="http://schemas.openxmlformats.org/officeDocument/2006/relationships/slide" Target="slide2.xml"/><Relationship Id="rId5" Type="http://schemas.openxmlformats.org/officeDocument/2006/relationships/slide" Target="slide4.xml"/><Relationship Id="rId6" Type="http://schemas.openxmlformats.org/officeDocument/2006/relationships/slide" Target="slide6.xml"/><Relationship Id="rId7" Type="http://schemas.openxmlformats.org/officeDocument/2006/relationships/slide" Target="slide8.xml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slide1.xml"/><Relationship Id="rId3" Type="http://schemas.openxmlformats.org/officeDocument/2006/relationships/slide" Target="slide2.xml"/><Relationship Id="rId4" Type="http://schemas.openxmlformats.org/officeDocument/2006/relationships/slide" Target="slide4.xml"/><Relationship Id="rId5" Type="http://schemas.openxmlformats.org/officeDocument/2006/relationships/slide" Target="slide6.xml"/><Relationship Id="rId6" Type="http://schemas.openxmlformats.org/officeDocument/2006/relationships/slide" Target="slide8.xml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" Target="slide1.xml"/><Relationship Id="rId4" Type="http://schemas.openxmlformats.org/officeDocument/2006/relationships/slide" Target="slide2.xml"/><Relationship Id="rId5" Type="http://schemas.openxmlformats.org/officeDocument/2006/relationships/slide" Target="slide4.xml"/><Relationship Id="rId6" Type="http://schemas.openxmlformats.org/officeDocument/2006/relationships/slide" Target="slide6.xml"/><Relationship Id="rId7" Type="http://schemas.openxmlformats.org/officeDocument/2006/relationships/slide" Target="slide8.xml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" Target="slide1.xml"/><Relationship Id="rId4" Type="http://schemas.openxmlformats.org/officeDocument/2006/relationships/slide" Target="slide2.xml"/><Relationship Id="rId5" Type="http://schemas.openxmlformats.org/officeDocument/2006/relationships/slide" Target="slide4.xml"/><Relationship Id="rId6" Type="http://schemas.openxmlformats.org/officeDocument/2006/relationships/slide" Target="slide6.xml"/><Relationship Id="rId7" Type="http://schemas.openxmlformats.org/officeDocument/2006/relationships/slide" Target="slide8.xml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矩形 4"/>
          <p:cNvSpPr/>
          <p:nvPr/>
        </p:nvSpPr>
        <p:spPr>
          <a:xfrm>
            <a:off x="0" y="1851120"/>
            <a:ext cx="9144000" cy="2520720"/>
          </a:xfrm>
          <a:prstGeom prst="rect">
            <a:avLst/>
          </a:prstGeom>
          <a:solidFill>
            <a:srgbClr val="000000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椭圆 18"/>
          <p:cNvSpPr/>
          <p:nvPr/>
        </p:nvSpPr>
        <p:spPr>
          <a:xfrm>
            <a:off x="914400" y="195120"/>
            <a:ext cx="1285920" cy="1285920"/>
          </a:xfrm>
          <a:prstGeom prst="ellips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Group 4"/>
          <p:cNvGrpSpPr/>
          <p:nvPr/>
        </p:nvGrpSpPr>
        <p:grpSpPr>
          <a:xfrm>
            <a:off x="3660840" y="949320"/>
            <a:ext cx="4897440" cy="947160"/>
            <a:chOff x="3660840" y="949320"/>
            <a:chExt cx="4897440" cy="947160"/>
          </a:xfrm>
        </p:grpSpPr>
        <p:sp>
          <p:nvSpPr>
            <p:cNvPr id="86" name="TextBox 19">
              <a:hlinkClick r:id="rId1" action="ppaction://hlinksldjump"/>
            </p:cNvPr>
            <p:cNvSpPr/>
            <p:nvPr/>
          </p:nvSpPr>
          <p:spPr>
            <a:xfrm>
              <a:off x="3660840" y="949320"/>
              <a:ext cx="982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Microsoft Himalaya"/>
                </a:rPr>
                <a:t>Text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TextBox 21">
              <a:hlinkClick r:id="rId2" action="ppaction://hlinksldjump"/>
            </p:cNvPr>
            <p:cNvSpPr/>
            <p:nvPr/>
          </p:nvSpPr>
          <p:spPr>
            <a:xfrm>
              <a:off x="4639680" y="949320"/>
              <a:ext cx="982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bfbfbf"/>
                  </a:solidFill>
                  <a:latin typeface="Microsoft Himalaya"/>
                </a:rPr>
                <a:t>Text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TextBox 22">
              <a:hlinkClick r:id="rId3" action="ppaction://hlinksldjump"/>
            </p:cNvPr>
            <p:cNvSpPr/>
            <p:nvPr/>
          </p:nvSpPr>
          <p:spPr>
            <a:xfrm>
              <a:off x="5618520" y="949320"/>
              <a:ext cx="982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bfbfbf"/>
                  </a:solidFill>
                  <a:latin typeface="Microsoft Himalaya"/>
                </a:rPr>
                <a:t>Text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TextBox 23">
              <a:hlinkClick r:id="rId4" action="ppaction://hlinksldjump"/>
            </p:cNvPr>
            <p:cNvSpPr/>
            <p:nvPr/>
          </p:nvSpPr>
          <p:spPr>
            <a:xfrm>
              <a:off x="6597360" y="949320"/>
              <a:ext cx="982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bfbfbf"/>
                  </a:solidFill>
                  <a:latin typeface="Microsoft Himalaya"/>
                </a:rPr>
                <a:t>Text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TextBox 24">
              <a:hlinkClick r:id="rId5" action="ppaction://hlinksldjump"/>
            </p:cNvPr>
            <p:cNvSpPr/>
            <p:nvPr/>
          </p:nvSpPr>
          <p:spPr>
            <a:xfrm>
              <a:off x="7576200" y="949320"/>
              <a:ext cx="982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bfbfbf"/>
                  </a:solidFill>
                  <a:latin typeface="Microsoft Himalaya"/>
                </a:rPr>
                <a:t>Text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" name="Group 10"/>
          <p:cNvGrpSpPr/>
          <p:nvPr/>
        </p:nvGrpSpPr>
        <p:grpSpPr>
          <a:xfrm>
            <a:off x="914400" y="758880"/>
            <a:ext cx="1285920" cy="584280"/>
            <a:chOff x="914400" y="758880"/>
            <a:chExt cx="1285920" cy="584280"/>
          </a:xfrm>
        </p:grpSpPr>
        <p:sp>
          <p:nvSpPr>
            <p:cNvPr id="92" name="TextBox 27"/>
            <p:cNvSpPr/>
            <p:nvPr/>
          </p:nvSpPr>
          <p:spPr>
            <a:xfrm>
              <a:off x="914400" y="758880"/>
              <a:ext cx="12859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矩形 29"/>
            <p:cNvSpPr/>
            <p:nvPr/>
          </p:nvSpPr>
          <p:spPr>
            <a:xfrm>
              <a:off x="1262880" y="974160"/>
              <a:ext cx="588600" cy="36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4" name="Picture 3" descr=""/>
          <p:cNvPicPr/>
          <p:nvPr/>
        </p:nvPicPr>
        <p:blipFill>
          <a:blip r:embed="rId6"/>
          <a:srcRect l="0" t="17725" r="105" b="38219"/>
          <a:stretch/>
        </p:blipFill>
        <p:spPr>
          <a:xfrm>
            <a:off x="0" y="1851120"/>
            <a:ext cx="9144000" cy="2520720"/>
          </a:xfrm>
          <a:prstGeom prst="rect">
            <a:avLst/>
          </a:prstGeom>
          <a:ln w="0">
            <a:noFill/>
          </a:ln>
        </p:spPr>
      </p:pic>
      <p:sp>
        <p:nvSpPr>
          <p:cNvPr id="95" name="直接连接符 12"/>
          <p:cNvSpPr/>
          <p:nvPr/>
        </p:nvSpPr>
        <p:spPr>
          <a:xfrm>
            <a:off x="3807000" y="1343160"/>
            <a:ext cx="690480" cy="144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燕尾形 1"/>
          <p:cNvSpPr/>
          <p:nvPr/>
        </p:nvSpPr>
        <p:spPr>
          <a:xfrm>
            <a:off x="-1000080" y="1851120"/>
            <a:ext cx="1701720" cy="2520720"/>
          </a:xfrm>
          <a:custGeom>
            <a:avLst/>
            <a:gdLst>
              <a:gd name="textAreaLeft" fmla="*/ 0 w 1701720"/>
              <a:gd name="textAreaRight" fmla="*/ 1702080 w 170172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燕尾形 2"/>
          <p:cNvSpPr/>
          <p:nvPr/>
        </p:nvSpPr>
        <p:spPr>
          <a:xfrm>
            <a:off x="-144360" y="1851120"/>
            <a:ext cx="1700280" cy="2520720"/>
          </a:xfrm>
          <a:custGeom>
            <a:avLst/>
            <a:gdLst>
              <a:gd name="textAreaLeft" fmla="*/ 0 w 1700280"/>
              <a:gd name="textAreaRight" fmla="*/ 1700640 w 170028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燕尾形 3"/>
          <p:cNvSpPr/>
          <p:nvPr/>
        </p:nvSpPr>
        <p:spPr>
          <a:xfrm>
            <a:off x="701640" y="1851120"/>
            <a:ext cx="1709640" cy="2520720"/>
          </a:xfrm>
          <a:custGeom>
            <a:avLst/>
            <a:gdLst>
              <a:gd name="textAreaLeft" fmla="*/ 0 w 1709640"/>
              <a:gd name="textAreaRight" fmla="*/ 1710000 w 170964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燕尾形 4"/>
          <p:cNvSpPr/>
          <p:nvPr/>
        </p:nvSpPr>
        <p:spPr>
          <a:xfrm>
            <a:off x="1555920" y="1851120"/>
            <a:ext cx="1711080" cy="2520720"/>
          </a:xfrm>
          <a:custGeom>
            <a:avLst/>
            <a:gdLst>
              <a:gd name="textAreaLeft" fmla="*/ 0 w 1711080"/>
              <a:gd name="textAreaRight" fmla="*/ 1711440 w 171108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燕尾形 5"/>
          <p:cNvSpPr/>
          <p:nvPr/>
        </p:nvSpPr>
        <p:spPr>
          <a:xfrm>
            <a:off x="2411280" y="1851120"/>
            <a:ext cx="1710000" cy="2520720"/>
          </a:xfrm>
          <a:custGeom>
            <a:avLst/>
            <a:gdLst>
              <a:gd name="textAreaLeft" fmla="*/ 0 w 1710000"/>
              <a:gd name="textAreaRight" fmla="*/ 1710360 w 171000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燕尾形 6"/>
          <p:cNvSpPr/>
          <p:nvPr/>
        </p:nvSpPr>
        <p:spPr>
          <a:xfrm>
            <a:off x="3267000" y="1851120"/>
            <a:ext cx="1709640" cy="2520720"/>
          </a:xfrm>
          <a:custGeom>
            <a:avLst/>
            <a:gdLst>
              <a:gd name="textAreaLeft" fmla="*/ 0 w 1709640"/>
              <a:gd name="textAreaRight" fmla="*/ 1710000 w 170964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燕尾形 7"/>
          <p:cNvSpPr/>
          <p:nvPr/>
        </p:nvSpPr>
        <p:spPr>
          <a:xfrm>
            <a:off x="4121280" y="1851120"/>
            <a:ext cx="1711080" cy="2520720"/>
          </a:xfrm>
          <a:custGeom>
            <a:avLst/>
            <a:gdLst>
              <a:gd name="textAreaLeft" fmla="*/ 0 w 1711080"/>
              <a:gd name="textAreaRight" fmla="*/ 1711440 w 171108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燕尾形 8"/>
          <p:cNvSpPr/>
          <p:nvPr/>
        </p:nvSpPr>
        <p:spPr>
          <a:xfrm>
            <a:off x="4976640" y="1851120"/>
            <a:ext cx="1710000" cy="2520720"/>
          </a:xfrm>
          <a:custGeom>
            <a:avLst/>
            <a:gdLst>
              <a:gd name="textAreaLeft" fmla="*/ 0 w 1710000"/>
              <a:gd name="textAreaRight" fmla="*/ 1710360 w 171000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燕尾形 9"/>
          <p:cNvSpPr/>
          <p:nvPr/>
        </p:nvSpPr>
        <p:spPr>
          <a:xfrm>
            <a:off x="5832360" y="1851120"/>
            <a:ext cx="1710000" cy="2520720"/>
          </a:xfrm>
          <a:custGeom>
            <a:avLst/>
            <a:gdLst>
              <a:gd name="textAreaLeft" fmla="*/ 0 w 1710000"/>
              <a:gd name="textAreaRight" fmla="*/ 1710360 w 171000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燕尾形 10"/>
          <p:cNvSpPr/>
          <p:nvPr/>
        </p:nvSpPr>
        <p:spPr>
          <a:xfrm>
            <a:off x="6686640" y="1851120"/>
            <a:ext cx="1711080" cy="2520720"/>
          </a:xfrm>
          <a:custGeom>
            <a:avLst/>
            <a:gdLst>
              <a:gd name="textAreaLeft" fmla="*/ 0 w 1711080"/>
              <a:gd name="textAreaRight" fmla="*/ 1711440 w 171108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燕尾形 11"/>
          <p:cNvSpPr/>
          <p:nvPr/>
        </p:nvSpPr>
        <p:spPr>
          <a:xfrm>
            <a:off x="7542360" y="1851120"/>
            <a:ext cx="1709640" cy="2520720"/>
          </a:xfrm>
          <a:custGeom>
            <a:avLst/>
            <a:gdLst>
              <a:gd name="textAreaLeft" fmla="*/ 0 w 1709640"/>
              <a:gd name="textAreaRight" fmla="*/ 1710000 w 170964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燕尾形 12"/>
          <p:cNvSpPr/>
          <p:nvPr/>
        </p:nvSpPr>
        <p:spPr>
          <a:xfrm>
            <a:off x="8397720" y="1851120"/>
            <a:ext cx="1710000" cy="2520720"/>
          </a:xfrm>
          <a:custGeom>
            <a:avLst/>
            <a:gdLst>
              <a:gd name="textAreaLeft" fmla="*/ 0 w 1710000"/>
              <a:gd name="textAreaRight" fmla="*/ 1710360 w 171000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nodeType="clickEffect" fill="hold">
                      <p:stCondLst>
                        <p:cond delay="0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15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5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23" presetSubtype="16">
                                  <p:stCondLst>
                                    <p:cond delay="5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15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5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23" presetSubtype="16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15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5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23" presetSubtype="16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15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5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15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5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23" presetSubtype="16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15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5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23" presetSubtype="1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15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5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23" presetSubtype="16">
                                  <p:stCondLst>
                                    <p:cond delay="35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15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5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15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5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23" presetSubtype="16">
                                  <p:stCondLst>
                                    <p:cond delay="45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15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5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9" nodeType="withEffect" fill="hold" presetClass="exit" presetID="23" presetSubtype="272">
                                  <p:stCondLst>
                                    <p:cond delay="4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70" dur="150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150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15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5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7" nodeType="withEffect" fill="hold" presetClass="exit" presetID="23" presetSubtype="272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78" dur="150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50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23" presetSubtype="16">
                                  <p:stCondLst>
                                    <p:cond delay="55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15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5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5" nodeType="withEffect" fill="hold" presetClass="exit" presetID="23" presetSubtype="272">
                                  <p:stCondLst>
                                    <p:cond delay="5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86" dur="150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50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9" nodeType="withEffect" fill="hold" presetClass="exit" presetID="23" presetSubtype="272">
                                  <p:stCondLst>
                                    <p:cond delay="6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90" dur="150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50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3" nodeType="withEffect" fill="hold" presetClass="exit" presetID="23" presetSubtype="272">
                                  <p:stCondLst>
                                    <p:cond delay="6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94" dur="150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50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7" nodeType="withEffect" fill="hold" presetClass="exit" presetID="23" presetSubtype="272">
                                  <p:stCondLst>
                                    <p:cond delay="7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98" dur="15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5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1" nodeType="withEffect" fill="hold" presetClass="exit" presetID="23" presetSubtype="272">
                                  <p:stCondLst>
                                    <p:cond delay="7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02" dur="150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150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5" nodeType="withEffect" fill="hold" presetClass="exit" presetID="23" presetSubtype="272">
                                  <p:stCondLst>
                                    <p:cond delay="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06" dur="150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50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9" nodeType="withEffect" fill="hold" presetClass="exit" presetID="23" presetSubtype="272">
                                  <p:stCondLst>
                                    <p:cond delay="8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10" dur="150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50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3" nodeType="withEffect" fill="hold" presetClass="exit" presetID="23" presetSubtype="272">
                                  <p:stCondLst>
                                    <p:cond delay="9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14" dur="150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50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7" nodeType="withEffect" fill="hold" presetClass="exit" presetID="23" presetSubtype="272">
                                  <p:stCondLst>
                                    <p:cond delay="9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18" dur="150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150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1" nodeType="withEffect" fill="hold" presetClass="exit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22" dur="150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50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矩形 4"/>
          <p:cNvSpPr/>
          <p:nvPr/>
        </p:nvSpPr>
        <p:spPr>
          <a:xfrm>
            <a:off x="0" y="1851120"/>
            <a:ext cx="9144000" cy="2520720"/>
          </a:xfrm>
          <a:prstGeom prst="rect">
            <a:avLst/>
          </a:prstGeom>
          <a:solidFill>
            <a:srgbClr val="000000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椭圆 18"/>
          <p:cNvSpPr/>
          <p:nvPr/>
        </p:nvSpPr>
        <p:spPr>
          <a:xfrm>
            <a:off x="914400" y="195120"/>
            <a:ext cx="1285920" cy="1285920"/>
          </a:xfrm>
          <a:prstGeom prst="ellips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Box 28"/>
          <p:cNvSpPr/>
          <p:nvPr/>
        </p:nvSpPr>
        <p:spPr>
          <a:xfrm>
            <a:off x="914400" y="407880"/>
            <a:ext cx="128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f7f7f"/>
                </a:solidFill>
                <a:latin typeface="Microsoft Himalaya"/>
              </a:rPr>
              <a:t>LO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2" name="Group 5"/>
          <p:cNvGrpSpPr/>
          <p:nvPr/>
        </p:nvGrpSpPr>
        <p:grpSpPr>
          <a:xfrm>
            <a:off x="914400" y="758880"/>
            <a:ext cx="1285920" cy="703800"/>
            <a:chOff x="914400" y="758880"/>
            <a:chExt cx="1285920" cy="703800"/>
          </a:xfrm>
        </p:grpSpPr>
        <p:sp>
          <p:nvSpPr>
            <p:cNvPr id="273" name="TextBox 27"/>
            <p:cNvSpPr/>
            <p:nvPr/>
          </p:nvSpPr>
          <p:spPr>
            <a:xfrm>
              <a:off x="914400" y="758880"/>
              <a:ext cx="12859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Microsoft Himalaya"/>
                </a:rPr>
                <a:t>YOUR TIT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矩形 29"/>
            <p:cNvSpPr/>
            <p:nvPr/>
          </p:nvSpPr>
          <p:spPr>
            <a:xfrm>
              <a:off x="1185120" y="974160"/>
              <a:ext cx="744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icrosoft Himalaya"/>
                </a:rPr>
                <a:t>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5" name="Group 8"/>
          <p:cNvGrpSpPr/>
          <p:nvPr/>
        </p:nvGrpSpPr>
        <p:grpSpPr>
          <a:xfrm>
            <a:off x="3660840" y="949320"/>
            <a:ext cx="4897440" cy="947160"/>
            <a:chOff x="3660840" y="949320"/>
            <a:chExt cx="4897440" cy="947160"/>
          </a:xfrm>
        </p:grpSpPr>
        <p:sp>
          <p:nvSpPr>
            <p:cNvPr id="276" name="TextBox 20">
              <a:hlinkClick r:id="rId1" action="ppaction://hlinksldjump"/>
            </p:cNvPr>
            <p:cNvSpPr/>
            <p:nvPr/>
          </p:nvSpPr>
          <p:spPr>
            <a:xfrm>
              <a:off x="3660840" y="949320"/>
              <a:ext cx="982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bfbfbf"/>
                  </a:solidFill>
                  <a:latin typeface="Microsoft Himalaya"/>
                </a:rPr>
                <a:t>Text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TextBox 25">
              <a:hlinkClick r:id="rId2" action="ppaction://hlinksldjump"/>
            </p:cNvPr>
            <p:cNvSpPr/>
            <p:nvPr/>
          </p:nvSpPr>
          <p:spPr>
            <a:xfrm>
              <a:off x="4639680" y="949320"/>
              <a:ext cx="982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bfbfbf"/>
                  </a:solidFill>
                  <a:latin typeface="Microsoft Himalaya"/>
                </a:rPr>
                <a:t>Text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TextBox 31"/>
            <p:cNvSpPr/>
            <p:nvPr/>
          </p:nvSpPr>
          <p:spPr>
            <a:xfrm>
              <a:off x="5618520" y="949320"/>
              <a:ext cx="982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bfbfbf"/>
                  </a:solidFill>
                  <a:latin typeface="Microsoft Himalaya"/>
                </a:rPr>
                <a:t>Text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TextBox 32"/>
            <p:cNvSpPr/>
            <p:nvPr/>
          </p:nvSpPr>
          <p:spPr>
            <a:xfrm>
              <a:off x="6597360" y="949320"/>
              <a:ext cx="982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bfbfbf"/>
                  </a:solidFill>
                  <a:latin typeface="Microsoft Himalaya"/>
                </a:rPr>
                <a:t>Text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TextBox 33"/>
            <p:cNvSpPr/>
            <p:nvPr/>
          </p:nvSpPr>
          <p:spPr>
            <a:xfrm>
              <a:off x="7576200" y="949320"/>
              <a:ext cx="982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bfbfbf"/>
                  </a:solidFill>
                  <a:latin typeface="Microsoft Himalaya"/>
                </a:rPr>
                <a:t>Text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燕尾形 1"/>
          <p:cNvSpPr/>
          <p:nvPr/>
        </p:nvSpPr>
        <p:spPr>
          <a:xfrm>
            <a:off x="-1004760" y="1851120"/>
            <a:ext cx="1701720" cy="2520720"/>
          </a:xfrm>
          <a:custGeom>
            <a:avLst/>
            <a:gdLst>
              <a:gd name="textAreaLeft" fmla="*/ 0 w 1701720"/>
              <a:gd name="textAreaRight" fmla="*/ 1702080 w 170172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燕尾形 2"/>
          <p:cNvSpPr/>
          <p:nvPr/>
        </p:nvSpPr>
        <p:spPr>
          <a:xfrm>
            <a:off x="-144360" y="1851120"/>
            <a:ext cx="1700280" cy="2520720"/>
          </a:xfrm>
          <a:custGeom>
            <a:avLst/>
            <a:gdLst>
              <a:gd name="textAreaLeft" fmla="*/ 0 w 1700280"/>
              <a:gd name="textAreaRight" fmla="*/ 1700640 w 170028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燕尾形 3"/>
          <p:cNvSpPr/>
          <p:nvPr/>
        </p:nvSpPr>
        <p:spPr>
          <a:xfrm>
            <a:off x="701640" y="1851120"/>
            <a:ext cx="1709640" cy="2520720"/>
          </a:xfrm>
          <a:custGeom>
            <a:avLst/>
            <a:gdLst>
              <a:gd name="textAreaLeft" fmla="*/ 0 w 1709640"/>
              <a:gd name="textAreaRight" fmla="*/ 1710000 w 170964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燕尾形 4"/>
          <p:cNvSpPr/>
          <p:nvPr/>
        </p:nvSpPr>
        <p:spPr>
          <a:xfrm>
            <a:off x="1555920" y="1851120"/>
            <a:ext cx="1711080" cy="2520720"/>
          </a:xfrm>
          <a:custGeom>
            <a:avLst/>
            <a:gdLst>
              <a:gd name="textAreaLeft" fmla="*/ 0 w 1711080"/>
              <a:gd name="textAreaRight" fmla="*/ 1711440 w 171108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燕尾形 5"/>
          <p:cNvSpPr/>
          <p:nvPr/>
        </p:nvSpPr>
        <p:spPr>
          <a:xfrm>
            <a:off x="2413080" y="1852560"/>
            <a:ext cx="1708200" cy="2521080"/>
          </a:xfrm>
          <a:custGeom>
            <a:avLst/>
            <a:gdLst>
              <a:gd name="textAreaLeft" fmla="*/ 0 w 1708200"/>
              <a:gd name="textAreaRight" fmla="*/ 1708560 w 1708200"/>
              <a:gd name="textAreaTop" fmla="*/ 0 h 2521080"/>
              <a:gd name="textAreaBottom" fmla="*/ 2521440 h 252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燕尾形 6"/>
          <p:cNvSpPr/>
          <p:nvPr/>
        </p:nvSpPr>
        <p:spPr>
          <a:xfrm>
            <a:off x="3267000" y="1851120"/>
            <a:ext cx="1709640" cy="2520720"/>
          </a:xfrm>
          <a:custGeom>
            <a:avLst/>
            <a:gdLst>
              <a:gd name="textAreaLeft" fmla="*/ 0 w 1709640"/>
              <a:gd name="textAreaRight" fmla="*/ 1710000 w 170964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燕尾形 7"/>
          <p:cNvSpPr/>
          <p:nvPr/>
        </p:nvSpPr>
        <p:spPr>
          <a:xfrm>
            <a:off x="4121280" y="1851120"/>
            <a:ext cx="1711080" cy="2520720"/>
          </a:xfrm>
          <a:custGeom>
            <a:avLst/>
            <a:gdLst>
              <a:gd name="textAreaLeft" fmla="*/ 0 w 1711080"/>
              <a:gd name="textAreaRight" fmla="*/ 1711440 w 171108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燕尾形 8"/>
          <p:cNvSpPr/>
          <p:nvPr/>
        </p:nvSpPr>
        <p:spPr>
          <a:xfrm>
            <a:off x="4976640" y="1851120"/>
            <a:ext cx="1710000" cy="2520720"/>
          </a:xfrm>
          <a:custGeom>
            <a:avLst/>
            <a:gdLst>
              <a:gd name="textAreaLeft" fmla="*/ 0 w 1710000"/>
              <a:gd name="textAreaRight" fmla="*/ 1710360 w 171000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燕尾形 9"/>
          <p:cNvSpPr/>
          <p:nvPr/>
        </p:nvSpPr>
        <p:spPr>
          <a:xfrm>
            <a:off x="5832360" y="1851120"/>
            <a:ext cx="1710000" cy="2520720"/>
          </a:xfrm>
          <a:custGeom>
            <a:avLst/>
            <a:gdLst>
              <a:gd name="textAreaLeft" fmla="*/ 0 w 1710000"/>
              <a:gd name="textAreaRight" fmla="*/ 1710360 w 171000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燕尾形 10"/>
          <p:cNvSpPr/>
          <p:nvPr/>
        </p:nvSpPr>
        <p:spPr>
          <a:xfrm>
            <a:off x="6686640" y="1851120"/>
            <a:ext cx="1711080" cy="2520720"/>
          </a:xfrm>
          <a:custGeom>
            <a:avLst/>
            <a:gdLst>
              <a:gd name="textAreaLeft" fmla="*/ 0 w 1711080"/>
              <a:gd name="textAreaRight" fmla="*/ 1711440 w 171108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燕尾形 11"/>
          <p:cNvSpPr/>
          <p:nvPr/>
        </p:nvSpPr>
        <p:spPr>
          <a:xfrm>
            <a:off x="7542360" y="1851120"/>
            <a:ext cx="1709640" cy="2520720"/>
          </a:xfrm>
          <a:custGeom>
            <a:avLst/>
            <a:gdLst>
              <a:gd name="textAreaLeft" fmla="*/ 0 w 1709640"/>
              <a:gd name="textAreaRight" fmla="*/ 1710000 w 170964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燕尾形 12"/>
          <p:cNvSpPr/>
          <p:nvPr/>
        </p:nvSpPr>
        <p:spPr>
          <a:xfrm>
            <a:off x="8397720" y="1851120"/>
            <a:ext cx="1710000" cy="2520720"/>
          </a:xfrm>
          <a:custGeom>
            <a:avLst/>
            <a:gdLst>
              <a:gd name="textAreaLeft" fmla="*/ 0 w 1710000"/>
              <a:gd name="textAreaRight" fmla="*/ 1710360 w 171000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nodeType="clickEffect" fill="hold">
                      <p:stCondLst>
                        <p:cond delay="0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15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5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23" presetSubtype="16">
                                  <p:stCondLst>
                                    <p:cond delay="5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15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15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23" presetSubtype="16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15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15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23" presetSubtype="16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3" dur="15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5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15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15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23" presetSubtype="16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15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5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23" presetSubtype="1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15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15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23" presetSubtype="16">
                                  <p:stCondLst>
                                    <p:cond delay="35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15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5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3" dur="15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15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23" presetSubtype="16">
                                  <p:stCondLst>
                                    <p:cond delay="45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7" dur="15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15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9" nodeType="withEffect" fill="hold" presetClass="exit" presetID="23" presetSubtype="272">
                                  <p:stCondLst>
                                    <p:cond delay="4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70" dur="15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15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15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15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7" nodeType="withEffect" fill="hold" presetClass="exit" presetID="23" presetSubtype="272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78" dur="150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150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23" presetSubtype="16">
                                  <p:stCondLst>
                                    <p:cond delay="55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3" dur="15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15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5" nodeType="withEffect" fill="hold" presetClass="exit" presetID="23" presetSubtype="272">
                                  <p:stCondLst>
                                    <p:cond delay="5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86" dur="150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150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9" nodeType="withEffect" fill="hold" presetClass="exit" presetID="23" presetSubtype="272">
                                  <p:stCondLst>
                                    <p:cond delay="6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90" dur="150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150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3" nodeType="withEffect" fill="hold" presetClass="exit" presetID="23" presetSubtype="272">
                                  <p:stCondLst>
                                    <p:cond delay="6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94" dur="150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150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xit" presetID="23" presetSubtype="272">
                                  <p:stCondLst>
                                    <p:cond delay="7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98" dur="150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150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xit" presetID="23" presetSubtype="272">
                                  <p:stCondLst>
                                    <p:cond delay="7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02" dur="150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150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5" nodeType="withEffect" fill="hold" presetClass="exit" presetID="23" presetSubtype="272">
                                  <p:stCondLst>
                                    <p:cond delay="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06" dur="150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150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9" nodeType="withEffect" fill="hold" presetClass="exit" presetID="23" presetSubtype="272">
                                  <p:stCondLst>
                                    <p:cond delay="8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10" dur="150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150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3" nodeType="withEffect" fill="hold" presetClass="exit" presetID="23" presetSubtype="272">
                                  <p:stCondLst>
                                    <p:cond delay="9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14" dur="150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150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7" nodeType="withEffect" fill="hold" presetClass="exit" presetID="23" presetSubtype="272">
                                  <p:stCondLst>
                                    <p:cond delay="9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18" dur="150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150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1" nodeType="withEffect" fill="hold" presetClass="exit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22" dur="150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150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3" name="Group 2"/>
          <p:cNvGrpSpPr/>
          <p:nvPr/>
        </p:nvGrpSpPr>
        <p:grpSpPr>
          <a:xfrm>
            <a:off x="1143000" y="0"/>
            <a:ext cx="6350040" cy="5143680"/>
            <a:chOff x="1143000" y="0"/>
            <a:chExt cx="6350040" cy="5143680"/>
          </a:xfrm>
        </p:grpSpPr>
        <p:sp>
          <p:nvSpPr>
            <p:cNvPr id="294" name="矩形 4"/>
            <p:cNvSpPr/>
            <p:nvPr/>
          </p:nvSpPr>
          <p:spPr>
            <a:xfrm>
              <a:off x="1605600" y="0"/>
              <a:ext cx="5108400" cy="55080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3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3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95" name="Picture 4" descr="http://www.elixirinteractive.com/LookFeel/elixirinteractive.com/images/headers/brand-awareness.jpg"/>
            <p:cNvPicPr/>
            <p:nvPr/>
          </p:nvPicPr>
          <p:blipFill>
            <a:blip r:embed="rId1"/>
            <a:stretch/>
          </p:blipFill>
          <p:spPr>
            <a:xfrm>
              <a:off x="1143000" y="1285920"/>
              <a:ext cx="6350040" cy="385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6" name="TextBox 7"/>
            <p:cNvSpPr/>
            <p:nvPr/>
          </p:nvSpPr>
          <p:spPr>
            <a:xfrm rot="20926800">
              <a:off x="2573280" y="2665080"/>
              <a:ext cx="35006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24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24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1" lang="en-US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www.</a:t>
              </a:r>
              <a:r>
                <a:rPr b="1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eeppt</a:t>
              </a:r>
              <a:r>
                <a:rPr b="1" lang="en-US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.co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矩形 4"/>
          <p:cNvSpPr/>
          <p:nvPr/>
        </p:nvSpPr>
        <p:spPr>
          <a:xfrm>
            <a:off x="0" y="1851120"/>
            <a:ext cx="9144000" cy="2520720"/>
          </a:xfrm>
          <a:prstGeom prst="rect">
            <a:avLst/>
          </a:prstGeom>
          <a:solidFill>
            <a:srgbClr val="000000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椭圆 18"/>
          <p:cNvSpPr/>
          <p:nvPr/>
        </p:nvSpPr>
        <p:spPr>
          <a:xfrm>
            <a:off x="914400" y="195120"/>
            <a:ext cx="1285920" cy="1285920"/>
          </a:xfrm>
          <a:prstGeom prst="ellips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28"/>
          <p:cNvSpPr/>
          <p:nvPr/>
        </p:nvSpPr>
        <p:spPr>
          <a:xfrm>
            <a:off x="914400" y="407880"/>
            <a:ext cx="128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f7f7f"/>
                </a:solidFill>
                <a:latin typeface="Microsoft Himalaya"/>
              </a:rPr>
              <a:t>LO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Group 5"/>
          <p:cNvGrpSpPr/>
          <p:nvPr/>
        </p:nvGrpSpPr>
        <p:grpSpPr>
          <a:xfrm>
            <a:off x="914400" y="758880"/>
            <a:ext cx="1285920" cy="703800"/>
            <a:chOff x="914400" y="758880"/>
            <a:chExt cx="1285920" cy="703800"/>
          </a:xfrm>
        </p:grpSpPr>
        <p:sp>
          <p:nvSpPr>
            <p:cNvPr id="100" name="TextBox 27"/>
            <p:cNvSpPr/>
            <p:nvPr/>
          </p:nvSpPr>
          <p:spPr>
            <a:xfrm>
              <a:off x="914400" y="758880"/>
              <a:ext cx="12859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Microsoft Himalaya"/>
                </a:rPr>
                <a:t>YOUR TIT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矩形 29"/>
            <p:cNvSpPr/>
            <p:nvPr/>
          </p:nvSpPr>
          <p:spPr>
            <a:xfrm>
              <a:off x="1185120" y="974160"/>
              <a:ext cx="744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icrosoft Himalaya"/>
                </a:rPr>
                <a:t>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2" name="Picture 3" descr=""/>
          <p:cNvPicPr/>
          <p:nvPr/>
        </p:nvPicPr>
        <p:blipFill>
          <a:blip r:embed="rId1"/>
          <a:srcRect l="0" t="17725" r="105" b="38219"/>
          <a:stretch/>
        </p:blipFill>
        <p:spPr>
          <a:xfrm>
            <a:off x="0" y="1851120"/>
            <a:ext cx="9144000" cy="25207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" descr=""/>
          <p:cNvPicPr/>
          <p:nvPr/>
        </p:nvPicPr>
        <p:blipFill>
          <a:blip r:embed="rId2"/>
          <a:srcRect l="142" t="16637" r="-138" b="42012"/>
          <a:stretch/>
        </p:blipFill>
        <p:spPr>
          <a:xfrm>
            <a:off x="0" y="1851120"/>
            <a:ext cx="9144000" cy="2520720"/>
          </a:xfrm>
          <a:prstGeom prst="rect">
            <a:avLst/>
          </a:prstGeom>
          <a:ln w="0">
            <a:noFill/>
          </a:ln>
        </p:spPr>
      </p:pic>
      <p:sp>
        <p:nvSpPr>
          <p:cNvPr id="104" name="燕尾形 39"/>
          <p:cNvSpPr/>
          <p:nvPr/>
        </p:nvSpPr>
        <p:spPr>
          <a:xfrm>
            <a:off x="-1000080" y="1851120"/>
            <a:ext cx="1701720" cy="2520720"/>
          </a:xfrm>
          <a:custGeom>
            <a:avLst/>
            <a:gdLst>
              <a:gd name="textAreaLeft" fmla="*/ 0 w 1701720"/>
              <a:gd name="textAreaRight" fmla="*/ 1702080 w 170172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燕尾形 40"/>
          <p:cNvSpPr/>
          <p:nvPr/>
        </p:nvSpPr>
        <p:spPr>
          <a:xfrm>
            <a:off x="-144360" y="1851120"/>
            <a:ext cx="1700280" cy="2520720"/>
          </a:xfrm>
          <a:custGeom>
            <a:avLst/>
            <a:gdLst>
              <a:gd name="textAreaLeft" fmla="*/ 0 w 1700280"/>
              <a:gd name="textAreaRight" fmla="*/ 1700640 w 170028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燕尾形 41"/>
          <p:cNvSpPr/>
          <p:nvPr/>
        </p:nvSpPr>
        <p:spPr>
          <a:xfrm>
            <a:off x="701640" y="1851120"/>
            <a:ext cx="1709640" cy="2520720"/>
          </a:xfrm>
          <a:custGeom>
            <a:avLst/>
            <a:gdLst>
              <a:gd name="textAreaLeft" fmla="*/ 0 w 1709640"/>
              <a:gd name="textAreaRight" fmla="*/ 1710000 w 170964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燕尾形 42"/>
          <p:cNvSpPr/>
          <p:nvPr/>
        </p:nvSpPr>
        <p:spPr>
          <a:xfrm>
            <a:off x="1555920" y="1851120"/>
            <a:ext cx="1711080" cy="2520720"/>
          </a:xfrm>
          <a:custGeom>
            <a:avLst/>
            <a:gdLst>
              <a:gd name="textAreaLeft" fmla="*/ 0 w 1711080"/>
              <a:gd name="textAreaRight" fmla="*/ 1711440 w 171108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燕尾形 43"/>
          <p:cNvSpPr/>
          <p:nvPr/>
        </p:nvSpPr>
        <p:spPr>
          <a:xfrm>
            <a:off x="2411280" y="1851120"/>
            <a:ext cx="1710000" cy="2520720"/>
          </a:xfrm>
          <a:custGeom>
            <a:avLst/>
            <a:gdLst>
              <a:gd name="textAreaLeft" fmla="*/ 0 w 1710000"/>
              <a:gd name="textAreaRight" fmla="*/ 1710360 w 171000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燕尾形 44"/>
          <p:cNvSpPr/>
          <p:nvPr/>
        </p:nvSpPr>
        <p:spPr>
          <a:xfrm>
            <a:off x="3267000" y="1851120"/>
            <a:ext cx="1709640" cy="2520720"/>
          </a:xfrm>
          <a:custGeom>
            <a:avLst/>
            <a:gdLst>
              <a:gd name="textAreaLeft" fmla="*/ 0 w 1709640"/>
              <a:gd name="textAreaRight" fmla="*/ 1710000 w 170964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燕尾形 45"/>
          <p:cNvSpPr/>
          <p:nvPr/>
        </p:nvSpPr>
        <p:spPr>
          <a:xfrm>
            <a:off x="4121280" y="1851120"/>
            <a:ext cx="1711080" cy="2520720"/>
          </a:xfrm>
          <a:custGeom>
            <a:avLst/>
            <a:gdLst>
              <a:gd name="textAreaLeft" fmla="*/ 0 w 1711080"/>
              <a:gd name="textAreaRight" fmla="*/ 1711440 w 171108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燕尾形 46"/>
          <p:cNvSpPr/>
          <p:nvPr/>
        </p:nvSpPr>
        <p:spPr>
          <a:xfrm>
            <a:off x="4976640" y="1851120"/>
            <a:ext cx="1710000" cy="2520720"/>
          </a:xfrm>
          <a:custGeom>
            <a:avLst/>
            <a:gdLst>
              <a:gd name="textAreaLeft" fmla="*/ 0 w 1710000"/>
              <a:gd name="textAreaRight" fmla="*/ 1710360 w 171000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燕尾形 47"/>
          <p:cNvSpPr/>
          <p:nvPr/>
        </p:nvSpPr>
        <p:spPr>
          <a:xfrm>
            <a:off x="5832360" y="1851120"/>
            <a:ext cx="1710000" cy="2520720"/>
          </a:xfrm>
          <a:custGeom>
            <a:avLst/>
            <a:gdLst>
              <a:gd name="textAreaLeft" fmla="*/ 0 w 1710000"/>
              <a:gd name="textAreaRight" fmla="*/ 1710360 w 171000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燕尾形 48"/>
          <p:cNvSpPr/>
          <p:nvPr/>
        </p:nvSpPr>
        <p:spPr>
          <a:xfrm>
            <a:off x="6686640" y="1851120"/>
            <a:ext cx="1711080" cy="2520720"/>
          </a:xfrm>
          <a:custGeom>
            <a:avLst/>
            <a:gdLst>
              <a:gd name="textAreaLeft" fmla="*/ 0 w 1711080"/>
              <a:gd name="textAreaRight" fmla="*/ 1711440 w 171108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燕尾形 49"/>
          <p:cNvSpPr/>
          <p:nvPr/>
        </p:nvSpPr>
        <p:spPr>
          <a:xfrm>
            <a:off x="7542360" y="1851120"/>
            <a:ext cx="1709640" cy="2520720"/>
          </a:xfrm>
          <a:custGeom>
            <a:avLst/>
            <a:gdLst>
              <a:gd name="textAreaLeft" fmla="*/ 0 w 1709640"/>
              <a:gd name="textAreaRight" fmla="*/ 1710000 w 170964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燕尾形 50"/>
          <p:cNvSpPr/>
          <p:nvPr/>
        </p:nvSpPr>
        <p:spPr>
          <a:xfrm>
            <a:off x="8397720" y="1851120"/>
            <a:ext cx="1710000" cy="2520720"/>
          </a:xfrm>
          <a:custGeom>
            <a:avLst/>
            <a:gdLst>
              <a:gd name="textAreaLeft" fmla="*/ 0 w 1710000"/>
              <a:gd name="textAreaRight" fmla="*/ 1710360 w 171000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Group 22"/>
          <p:cNvGrpSpPr/>
          <p:nvPr/>
        </p:nvGrpSpPr>
        <p:grpSpPr>
          <a:xfrm>
            <a:off x="3660840" y="949320"/>
            <a:ext cx="4897440" cy="947160"/>
            <a:chOff x="3660840" y="949320"/>
            <a:chExt cx="4897440" cy="947160"/>
          </a:xfrm>
        </p:grpSpPr>
        <p:sp>
          <p:nvSpPr>
            <p:cNvPr id="117" name="TextBox 52">
              <a:hlinkClick r:id="rId3" action="ppaction://hlinksldjump"/>
            </p:cNvPr>
            <p:cNvSpPr/>
            <p:nvPr/>
          </p:nvSpPr>
          <p:spPr>
            <a:xfrm>
              <a:off x="3660840" y="949320"/>
              <a:ext cx="982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bfbfbf"/>
                  </a:solidFill>
                  <a:latin typeface="Microsoft Himalaya"/>
                </a:rPr>
                <a:t>Text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TextBox 53">
              <a:hlinkClick r:id="rId4" action="ppaction://hlinksldjump"/>
            </p:cNvPr>
            <p:cNvSpPr/>
            <p:nvPr/>
          </p:nvSpPr>
          <p:spPr>
            <a:xfrm>
              <a:off x="4639680" y="949320"/>
              <a:ext cx="982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bfbfbf"/>
                  </a:solidFill>
                  <a:latin typeface="Microsoft Himalaya"/>
                </a:rPr>
                <a:t>Text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TextBox 54">
              <a:hlinkClick r:id="rId5" action="ppaction://hlinksldjump"/>
            </p:cNvPr>
            <p:cNvSpPr/>
            <p:nvPr/>
          </p:nvSpPr>
          <p:spPr>
            <a:xfrm>
              <a:off x="5618520" y="949320"/>
              <a:ext cx="982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bfbfbf"/>
                  </a:solidFill>
                  <a:latin typeface="Microsoft Himalaya"/>
                </a:rPr>
                <a:t>Text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TextBox 55">
              <a:hlinkClick r:id="rId6" action="ppaction://hlinksldjump"/>
            </p:cNvPr>
            <p:cNvSpPr/>
            <p:nvPr/>
          </p:nvSpPr>
          <p:spPr>
            <a:xfrm>
              <a:off x="6597360" y="949320"/>
              <a:ext cx="982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bfbfbf"/>
                  </a:solidFill>
                  <a:latin typeface="Microsoft Himalaya"/>
                </a:rPr>
                <a:t>Text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TextBox 56">
              <a:hlinkClick r:id="rId7" action="ppaction://hlinksldjump"/>
            </p:cNvPr>
            <p:cNvSpPr/>
            <p:nvPr/>
          </p:nvSpPr>
          <p:spPr>
            <a:xfrm>
              <a:off x="7576200" y="949320"/>
              <a:ext cx="982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bfbfbf"/>
                  </a:solidFill>
                  <a:latin typeface="Microsoft Himalaya"/>
                </a:rPr>
                <a:t>Text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xit" presetID="22" presetSubtype="8">
                                  <p:stCondLst>
                                    <p:cond delay="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8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5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5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3" presetSubtype="16">
                                  <p:stCondLst>
                                    <p:cond delay="5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5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5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3" presetSubtype="16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5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5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3" presetSubtype="16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5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5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5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5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3" presetSubtype="16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5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5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3" presetSubtype="1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5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5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3" presetSubtype="16">
                                  <p:stCondLst>
                                    <p:cond delay="35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5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5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5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5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3" presetSubtype="16">
                                  <p:stCondLst>
                                    <p:cond delay="45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5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5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xit" presetID="23" presetSubtype="272">
                                  <p:stCondLst>
                                    <p:cond delay="4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2" dur="15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5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5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5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xit" presetID="23" presetSubtype="272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0" dur="15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5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3" presetSubtype="16">
                                  <p:stCondLst>
                                    <p:cond delay="55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5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5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23" presetSubtype="272">
                                  <p:stCondLst>
                                    <p:cond delay="5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8" dur="15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5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xit" presetID="23" presetSubtype="272">
                                  <p:stCondLst>
                                    <p:cond delay="6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2" dur="15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5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23" presetSubtype="272">
                                  <p:stCondLst>
                                    <p:cond delay="6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6" dur="15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5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xit" presetID="23" presetSubtype="272">
                                  <p:stCondLst>
                                    <p:cond delay="7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0" dur="15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5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xit" presetID="23" presetSubtype="272">
                                  <p:stCondLst>
                                    <p:cond delay="7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4" dur="15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5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xit" presetID="23" presetSubtype="272">
                                  <p:stCondLst>
                                    <p:cond delay="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8" dur="15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5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23" presetSubtype="272">
                                  <p:stCondLst>
                                    <p:cond delay="8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2" dur="15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5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xit" presetID="23" presetSubtype="272">
                                  <p:stCondLst>
                                    <p:cond delay="9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6" dur="15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5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xit" presetID="23" presetSubtype="272">
                                  <p:stCondLst>
                                    <p:cond delay="9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0" dur="15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5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xit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4" dur="15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5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矩形 4"/>
          <p:cNvSpPr/>
          <p:nvPr/>
        </p:nvSpPr>
        <p:spPr>
          <a:xfrm>
            <a:off x="0" y="1851120"/>
            <a:ext cx="9144000" cy="2520720"/>
          </a:xfrm>
          <a:prstGeom prst="rect">
            <a:avLst/>
          </a:prstGeom>
          <a:solidFill>
            <a:srgbClr val="000000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椭圆 18"/>
          <p:cNvSpPr/>
          <p:nvPr/>
        </p:nvSpPr>
        <p:spPr>
          <a:xfrm>
            <a:off x="914400" y="195120"/>
            <a:ext cx="1285920" cy="1285920"/>
          </a:xfrm>
          <a:prstGeom prst="ellips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28"/>
          <p:cNvSpPr/>
          <p:nvPr/>
        </p:nvSpPr>
        <p:spPr>
          <a:xfrm>
            <a:off x="914400" y="407880"/>
            <a:ext cx="128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f7f7f"/>
                </a:solidFill>
                <a:latin typeface="Microsoft Himalaya"/>
              </a:rPr>
              <a:t>LO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Group 5"/>
          <p:cNvGrpSpPr/>
          <p:nvPr/>
        </p:nvGrpSpPr>
        <p:grpSpPr>
          <a:xfrm>
            <a:off x="914400" y="758880"/>
            <a:ext cx="1285920" cy="703800"/>
            <a:chOff x="914400" y="758880"/>
            <a:chExt cx="1285920" cy="703800"/>
          </a:xfrm>
        </p:grpSpPr>
        <p:sp>
          <p:nvSpPr>
            <p:cNvPr id="126" name="TextBox 27"/>
            <p:cNvSpPr/>
            <p:nvPr/>
          </p:nvSpPr>
          <p:spPr>
            <a:xfrm>
              <a:off x="914400" y="758880"/>
              <a:ext cx="12859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Microsoft Himalaya"/>
                </a:rPr>
                <a:t>YOUR TIT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矩形 29"/>
            <p:cNvSpPr/>
            <p:nvPr/>
          </p:nvSpPr>
          <p:spPr>
            <a:xfrm>
              <a:off x="1185120" y="974160"/>
              <a:ext cx="744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icrosoft Himalaya"/>
                </a:rPr>
                <a:t>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8" name="Picture 2" descr=""/>
          <p:cNvPicPr/>
          <p:nvPr/>
        </p:nvPicPr>
        <p:blipFill>
          <a:blip r:embed="rId1"/>
          <a:srcRect l="142" t="16637" r="-138" b="42012"/>
          <a:stretch/>
        </p:blipFill>
        <p:spPr>
          <a:xfrm>
            <a:off x="0" y="1851120"/>
            <a:ext cx="9144000" cy="2520720"/>
          </a:xfrm>
          <a:prstGeom prst="rect">
            <a:avLst/>
          </a:prstGeom>
          <a:ln w="0">
            <a:noFill/>
          </a:ln>
        </p:spPr>
      </p:pic>
      <p:grpSp>
        <p:nvGrpSpPr>
          <p:cNvPr id="129" name="Group 9"/>
          <p:cNvGrpSpPr/>
          <p:nvPr/>
        </p:nvGrpSpPr>
        <p:grpSpPr>
          <a:xfrm>
            <a:off x="3660840" y="949320"/>
            <a:ext cx="4897440" cy="947160"/>
            <a:chOff x="3660840" y="949320"/>
            <a:chExt cx="4897440" cy="947160"/>
          </a:xfrm>
        </p:grpSpPr>
        <p:sp>
          <p:nvSpPr>
            <p:cNvPr id="130" name="TextBox 17">
              <a:hlinkClick r:id="rId2" action="ppaction://hlinksldjump"/>
            </p:cNvPr>
            <p:cNvSpPr/>
            <p:nvPr/>
          </p:nvSpPr>
          <p:spPr>
            <a:xfrm>
              <a:off x="3660840" y="949320"/>
              <a:ext cx="982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bfbfbf"/>
                  </a:solidFill>
                  <a:latin typeface="Microsoft Himalaya"/>
                </a:rPr>
                <a:t>Text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TextBox 20">
              <a:hlinkClick r:id="rId3" action="ppaction://hlinksldjump"/>
            </p:cNvPr>
            <p:cNvSpPr/>
            <p:nvPr/>
          </p:nvSpPr>
          <p:spPr>
            <a:xfrm>
              <a:off x="4639680" y="949320"/>
              <a:ext cx="982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Microsoft Himalaya"/>
                </a:rPr>
                <a:t>Text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TextBox 25">
              <a:hlinkClick r:id="rId4" action="ppaction://hlinksldjump"/>
            </p:cNvPr>
            <p:cNvSpPr/>
            <p:nvPr/>
          </p:nvSpPr>
          <p:spPr>
            <a:xfrm>
              <a:off x="5618520" y="949320"/>
              <a:ext cx="982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bfbfbf"/>
                  </a:solidFill>
                  <a:latin typeface="Microsoft Himalaya"/>
                </a:rPr>
                <a:t>Text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TextBox 31">
              <a:hlinkClick r:id="rId5" action="ppaction://hlinksldjump"/>
            </p:cNvPr>
            <p:cNvSpPr/>
            <p:nvPr/>
          </p:nvSpPr>
          <p:spPr>
            <a:xfrm>
              <a:off x="6597360" y="949320"/>
              <a:ext cx="982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bfbfbf"/>
                  </a:solidFill>
                  <a:latin typeface="Microsoft Himalaya"/>
                </a:rPr>
                <a:t>Text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TextBox 32">
              <a:hlinkClick r:id="rId6" action="ppaction://hlinksldjump"/>
            </p:cNvPr>
            <p:cNvSpPr/>
            <p:nvPr/>
          </p:nvSpPr>
          <p:spPr>
            <a:xfrm>
              <a:off x="7576200" y="949320"/>
              <a:ext cx="982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bfbfbf"/>
                  </a:solidFill>
                  <a:latin typeface="Microsoft Himalaya"/>
                </a:rPr>
                <a:t>Text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直接连接符 33"/>
          <p:cNvSpPr/>
          <p:nvPr/>
        </p:nvSpPr>
        <p:spPr>
          <a:xfrm>
            <a:off x="4782960" y="1343160"/>
            <a:ext cx="689040" cy="144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矩形 4"/>
          <p:cNvSpPr/>
          <p:nvPr/>
        </p:nvSpPr>
        <p:spPr>
          <a:xfrm>
            <a:off x="0" y="1851120"/>
            <a:ext cx="9144000" cy="2520720"/>
          </a:xfrm>
          <a:prstGeom prst="rect">
            <a:avLst/>
          </a:prstGeom>
          <a:solidFill>
            <a:srgbClr val="000000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椭圆 18"/>
          <p:cNvSpPr/>
          <p:nvPr/>
        </p:nvSpPr>
        <p:spPr>
          <a:xfrm>
            <a:off x="914400" y="195120"/>
            <a:ext cx="1285920" cy="1285920"/>
          </a:xfrm>
          <a:prstGeom prst="ellips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28"/>
          <p:cNvSpPr/>
          <p:nvPr/>
        </p:nvSpPr>
        <p:spPr>
          <a:xfrm>
            <a:off x="914400" y="407880"/>
            <a:ext cx="128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f7f7f"/>
                </a:solidFill>
                <a:latin typeface="Microsoft Himalaya"/>
              </a:rPr>
              <a:t>LO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Group 5"/>
          <p:cNvGrpSpPr/>
          <p:nvPr/>
        </p:nvGrpSpPr>
        <p:grpSpPr>
          <a:xfrm>
            <a:off x="914400" y="758880"/>
            <a:ext cx="1285920" cy="703800"/>
            <a:chOff x="914400" y="758880"/>
            <a:chExt cx="1285920" cy="703800"/>
          </a:xfrm>
        </p:grpSpPr>
        <p:sp>
          <p:nvSpPr>
            <p:cNvPr id="140" name="TextBox 27"/>
            <p:cNvSpPr/>
            <p:nvPr/>
          </p:nvSpPr>
          <p:spPr>
            <a:xfrm>
              <a:off x="914400" y="758880"/>
              <a:ext cx="12859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Microsoft Himalaya"/>
                </a:rPr>
                <a:t>YOUR TIT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矩形 29"/>
            <p:cNvSpPr/>
            <p:nvPr/>
          </p:nvSpPr>
          <p:spPr>
            <a:xfrm>
              <a:off x="1185120" y="974160"/>
              <a:ext cx="744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icrosoft Himalaya"/>
                </a:rPr>
                <a:t>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2" name="Picture 2" descr=""/>
          <p:cNvPicPr/>
          <p:nvPr/>
        </p:nvPicPr>
        <p:blipFill>
          <a:blip r:embed="rId1"/>
          <a:srcRect l="142" t="16637" r="-138" b="42012"/>
          <a:stretch/>
        </p:blipFill>
        <p:spPr>
          <a:xfrm>
            <a:off x="0" y="1851120"/>
            <a:ext cx="9144000" cy="25207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2" descr=""/>
          <p:cNvPicPr/>
          <p:nvPr/>
        </p:nvPicPr>
        <p:blipFill>
          <a:blip r:embed="rId2"/>
          <a:srcRect l="215" t="23654" r="-204" b="35036"/>
          <a:stretch/>
        </p:blipFill>
        <p:spPr>
          <a:xfrm>
            <a:off x="-1440" y="1851120"/>
            <a:ext cx="9156600" cy="2520720"/>
          </a:xfrm>
          <a:prstGeom prst="rect">
            <a:avLst/>
          </a:prstGeom>
          <a:ln w="0">
            <a:noFill/>
          </a:ln>
        </p:spPr>
      </p:pic>
      <p:sp>
        <p:nvSpPr>
          <p:cNvPr id="144" name="燕尾形 17"/>
          <p:cNvSpPr/>
          <p:nvPr/>
        </p:nvSpPr>
        <p:spPr>
          <a:xfrm>
            <a:off x="-1000080" y="1851120"/>
            <a:ext cx="1701720" cy="2520720"/>
          </a:xfrm>
          <a:custGeom>
            <a:avLst/>
            <a:gdLst>
              <a:gd name="textAreaLeft" fmla="*/ 0 w 1701720"/>
              <a:gd name="textAreaRight" fmla="*/ 1702080 w 170172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燕尾形 20"/>
          <p:cNvSpPr/>
          <p:nvPr/>
        </p:nvSpPr>
        <p:spPr>
          <a:xfrm>
            <a:off x="-144360" y="1851120"/>
            <a:ext cx="1700280" cy="2520720"/>
          </a:xfrm>
          <a:custGeom>
            <a:avLst/>
            <a:gdLst>
              <a:gd name="textAreaLeft" fmla="*/ 0 w 1700280"/>
              <a:gd name="textAreaRight" fmla="*/ 1700640 w 170028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燕尾形 25"/>
          <p:cNvSpPr/>
          <p:nvPr/>
        </p:nvSpPr>
        <p:spPr>
          <a:xfrm>
            <a:off x="701640" y="1851120"/>
            <a:ext cx="1709640" cy="2520720"/>
          </a:xfrm>
          <a:custGeom>
            <a:avLst/>
            <a:gdLst>
              <a:gd name="textAreaLeft" fmla="*/ 0 w 1709640"/>
              <a:gd name="textAreaRight" fmla="*/ 1710000 w 170964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燕尾形 31"/>
          <p:cNvSpPr/>
          <p:nvPr/>
        </p:nvSpPr>
        <p:spPr>
          <a:xfrm>
            <a:off x="1555920" y="1851120"/>
            <a:ext cx="1711080" cy="2520720"/>
          </a:xfrm>
          <a:custGeom>
            <a:avLst/>
            <a:gdLst>
              <a:gd name="textAreaLeft" fmla="*/ 0 w 1711080"/>
              <a:gd name="textAreaRight" fmla="*/ 1711440 w 171108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燕尾形 32"/>
          <p:cNvSpPr/>
          <p:nvPr/>
        </p:nvSpPr>
        <p:spPr>
          <a:xfrm>
            <a:off x="2411280" y="1851120"/>
            <a:ext cx="1710000" cy="2520720"/>
          </a:xfrm>
          <a:custGeom>
            <a:avLst/>
            <a:gdLst>
              <a:gd name="textAreaLeft" fmla="*/ 0 w 1710000"/>
              <a:gd name="textAreaRight" fmla="*/ 1710360 w 171000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燕尾形 33"/>
          <p:cNvSpPr/>
          <p:nvPr/>
        </p:nvSpPr>
        <p:spPr>
          <a:xfrm>
            <a:off x="3267000" y="1851120"/>
            <a:ext cx="1709640" cy="2520720"/>
          </a:xfrm>
          <a:custGeom>
            <a:avLst/>
            <a:gdLst>
              <a:gd name="textAreaLeft" fmla="*/ 0 w 1709640"/>
              <a:gd name="textAreaRight" fmla="*/ 1710000 w 170964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燕尾形 34"/>
          <p:cNvSpPr/>
          <p:nvPr/>
        </p:nvSpPr>
        <p:spPr>
          <a:xfrm>
            <a:off x="4121280" y="1851120"/>
            <a:ext cx="1711080" cy="2520720"/>
          </a:xfrm>
          <a:custGeom>
            <a:avLst/>
            <a:gdLst>
              <a:gd name="textAreaLeft" fmla="*/ 0 w 1711080"/>
              <a:gd name="textAreaRight" fmla="*/ 1711440 w 171108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燕尾形 35"/>
          <p:cNvSpPr/>
          <p:nvPr/>
        </p:nvSpPr>
        <p:spPr>
          <a:xfrm>
            <a:off x="4976640" y="1851120"/>
            <a:ext cx="1710000" cy="2520720"/>
          </a:xfrm>
          <a:custGeom>
            <a:avLst/>
            <a:gdLst>
              <a:gd name="textAreaLeft" fmla="*/ 0 w 1710000"/>
              <a:gd name="textAreaRight" fmla="*/ 1710360 w 171000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燕尾形 36"/>
          <p:cNvSpPr/>
          <p:nvPr/>
        </p:nvSpPr>
        <p:spPr>
          <a:xfrm>
            <a:off x="5832360" y="1851120"/>
            <a:ext cx="1710000" cy="2520720"/>
          </a:xfrm>
          <a:custGeom>
            <a:avLst/>
            <a:gdLst>
              <a:gd name="textAreaLeft" fmla="*/ 0 w 1710000"/>
              <a:gd name="textAreaRight" fmla="*/ 1710360 w 171000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燕尾形 37"/>
          <p:cNvSpPr/>
          <p:nvPr/>
        </p:nvSpPr>
        <p:spPr>
          <a:xfrm>
            <a:off x="6686640" y="1851120"/>
            <a:ext cx="1711080" cy="2520720"/>
          </a:xfrm>
          <a:custGeom>
            <a:avLst/>
            <a:gdLst>
              <a:gd name="textAreaLeft" fmla="*/ 0 w 1711080"/>
              <a:gd name="textAreaRight" fmla="*/ 1711440 w 171108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燕尾形 38"/>
          <p:cNvSpPr/>
          <p:nvPr/>
        </p:nvSpPr>
        <p:spPr>
          <a:xfrm>
            <a:off x="7542360" y="1851120"/>
            <a:ext cx="1709640" cy="2520720"/>
          </a:xfrm>
          <a:custGeom>
            <a:avLst/>
            <a:gdLst>
              <a:gd name="textAreaLeft" fmla="*/ 0 w 1709640"/>
              <a:gd name="textAreaRight" fmla="*/ 1710000 w 170964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燕尾形 39"/>
          <p:cNvSpPr/>
          <p:nvPr/>
        </p:nvSpPr>
        <p:spPr>
          <a:xfrm>
            <a:off x="8397720" y="1851120"/>
            <a:ext cx="1710000" cy="2520720"/>
          </a:xfrm>
          <a:custGeom>
            <a:avLst/>
            <a:gdLst>
              <a:gd name="textAreaLeft" fmla="*/ 0 w 1710000"/>
              <a:gd name="textAreaRight" fmla="*/ 1710360 w 171000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Group 22"/>
          <p:cNvGrpSpPr/>
          <p:nvPr/>
        </p:nvGrpSpPr>
        <p:grpSpPr>
          <a:xfrm>
            <a:off x="3660840" y="949320"/>
            <a:ext cx="4897440" cy="947160"/>
            <a:chOff x="3660840" y="949320"/>
            <a:chExt cx="4897440" cy="947160"/>
          </a:xfrm>
        </p:grpSpPr>
        <p:sp>
          <p:nvSpPr>
            <p:cNvPr id="157" name="TextBox 41">
              <a:hlinkClick r:id="rId3" action="ppaction://hlinksldjump"/>
            </p:cNvPr>
            <p:cNvSpPr/>
            <p:nvPr/>
          </p:nvSpPr>
          <p:spPr>
            <a:xfrm>
              <a:off x="3660840" y="949320"/>
              <a:ext cx="982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bfbfbf"/>
                  </a:solidFill>
                  <a:latin typeface="Microsoft Himalaya"/>
                </a:rPr>
                <a:t>Text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TextBox 42">
              <a:hlinkClick r:id="rId4" action="ppaction://hlinksldjump"/>
            </p:cNvPr>
            <p:cNvSpPr/>
            <p:nvPr/>
          </p:nvSpPr>
          <p:spPr>
            <a:xfrm>
              <a:off x="4639680" y="949320"/>
              <a:ext cx="982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bfbfbf"/>
                  </a:solidFill>
                  <a:latin typeface="Microsoft Himalaya"/>
                </a:rPr>
                <a:t>Text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TextBox 43">
              <a:hlinkClick r:id="rId5" action="ppaction://hlinksldjump"/>
            </p:cNvPr>
            <p:cNvSpPr/>
            <p:nvPr/>
          </p:nvSpPr>
          <p:spPr>
            <a:xfrm>
              <a:off x="5618520" y="949320"/>
              <a:ext cx="982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bfbfbf"/>
                  </a:solidFill>
                  <a:latin typeface="Microsoft Himalaya"/>
                </a:rPr>
                <a:t>Text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TextBox 44">
              <a:hlinkClick r:id="rId6" action="ppaction://hlinksldjump"/>
            </p:cNvPr>
            <p:cNvSpPr/>
            <p:nvPr/>
          </p:nvSpPr>
          <p:spPr>
            <a:xfrm>
              <a:off x="6597360" y="949320"/>
              <a:ext cx="982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bfbfbf"/>
                  </a:solidFill>
                  <a:latin typeface="Microsoft Himalaya"/>
                </a:rPr>
                <a:t>Text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TextBox 45">
              <a:hlinkClick r:id="rId7" action="ppaction://hlinksldjump"/>
            </p:cNvPr>
            <p:cNvSpPr/>
            <p:nvPr/>
          </p:nvSpPr>
          <p:spPr>
            <a:xfrm>
              <a:off x="7576200" y="949320"/>
              <a:ext cx="982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bfbfbf"/>
                  </a:solidFill>
                  <a:latin typeface="Microsoft Himalaya"/>
                </a:rPr>
                <a:t>Text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0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xit" presetID="22" presetSubtype="8">
                                  <p:stCondLst>
                                    <p:cond delay="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2" presetSubtype="8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5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5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3" presetSubtype="16">
                                  <p:stCondLst>
                                    <p:cond delay="5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5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5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3" presetSubtype="16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5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5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3" presetSubtype="16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5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5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5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5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3" presetSubtype="16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5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5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3" presetSubtype="1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5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5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3" presetSubtype="16">
                                  <p:stCondLst>
                                    <p:cond delay="35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5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5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5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5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3" presetSubtype="16">
                                  <p:stCondLst>
                                    <p:cond delay="45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5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5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xit" presetID="23" presetSubtype="272">
                                  <p:stCondLst>
                                    <p:cond delay="4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8" dur="15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5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5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5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xit" presetID="23" presetSubtype="272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6" dur="15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5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3" presetSubtype="16">
                                  <p:stCondLst>
                                    <p:cond delay="55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5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5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xit" presetID="23" presetSubtype="272">
                                  <p:stCondLst>
                                    <p:cond delay="5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4" dur="15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5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xit" presetID="23" presetSubtype="272">
                                  <p:stCondLst>
                                    <p:cond delay="6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8" dur="15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5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xit" presetID="23" presetSubtype="272">
                                  <p:stCondLst>
                                    <p:cond delay="6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2" dur="15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5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xit" presetID="23" presetSubtype="272">
                                  <p:stCondLst>
                                    <p:cond delay="7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6" dur="15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5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xit" presetID="23" presetSubtype="272">
                                  <p:stCondLst>
                                    <p:cond delay="7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0" dur="15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5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xit" presetID="23" presetSubtype="272">
                                  <p:stCondLst>
                                    <p:cond delay="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4" dur="15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5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xit" presetID="23" presetSubtype="272">
                                  <p:stCondLst>
                                    <p:cond delay="8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8" dur="15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5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xit" presetID="23" presetSubtype="272">
                                  <p:stCondLst>
                                    <p:cond delay="9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2" dur="15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5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xit" presetID="23" presetSubtype="272">
                                  <p:stCondLst>
                                    <p:cond delay="9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6" dur="15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5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xit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0" dur="15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5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矩形 4"/>
          <p:cNvSpPr/>
          <p:nvPr/>
        </p:nvSpPr>
        <p:spPr>
          <a:xfrm>
            <a:off x="0" y="1851120"/>
            <a:ext cx="9144000" cy="2520720"/>
          </a:xfrm>
          <a:prstGeom prst="rect">
            <a:avLst/>
          </a:prstGeom>
          <a:solidFill>
            <a:srgbClr val="000000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椭圆 18"/>
          <p:cNvSpPr/>
          <p:nvPr/>
        </p:nvSpPr>
        <p:spPr>
          <a:xfrm>
            <a:off x="914400" y="195120"/>
            <a:ext cx="1285920" cy="1285920"/>
          </a:xfrm>
          <a:prstGeom prst="ellips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28"/>
          <p:cNvSpPr/>
          <p:nvPr/>
        </p:nvSpPr>
        <p:spPr>
          <a:xfrm>
            <a:off x="914400" y="407880"/>
            <a:ext cx="128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f7f7f"/>
                </a:solidFill>
                <a:latin typeface="Microsoft Himalaya"/>
              </a:rPr>
              <a:t>LO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Group 5"/>
          <p:cNvGrpSpPr/>
          <p:nvPr/>
        </p:nvGrpSpPr>
        <p:grpSpPr>
          <a:xfrm>
            <a:off x="914400" y="758880"/>
            <a:ext cx="1285920" cy="703800"/>
            <a:chOff x="914400" y="758880"/>
            <a:chExt cx="1285920" cy="703800"/>
          </a:xfrm>
        </p:grpSpPr>
        <p:sp>
          <p:nvSpPr>
            <p:cNvPr id="166" name="TextBox 27"/>
            <p:cNvSpPr/>
            <p:nvPr/>
          </p:nvSpPr>
          <p:spPr>
            <a:xfrm>
              <a:off x="914400" y="758880"/>
              <a:ext cx="12859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Microsoft Himalaya"/>
                </a:rPr>
                <a:t>YOUR TIT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矩形 29"/>
            <p:cNvSpPr/>
            <p:nvPr/>
          </p:nvSpPr>
          <p:spPr>
            <a:xfrm>
              <a:off x="1185120" y="974160"/>
              <a:ext cx="744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icrosoft Himalaya"/>
                </a:rPr>
                <a:t>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8" name="Picture 2" descr=""/>
          <p:cNvPicPr/>
          <p:nvPr/>
        </p:nvPicPr>
        <p:blipFill>
          <a:blip r:embed="rId1"/>
          <a:srcRect l="215" t="23654" r="-204" b="35036"/>
          <a:stretch/>
        </p:blipFill>
        <p:spPr>
          <a:xfrm>
            <a:off x="-1440" y="1851120"/>
            <a:ext cx="9156600" cy="2520720"/>
          </a:xfrm>
          <a:prstGeom prst="rect">
            <a:avLst/>
          </a:prstGeom>
          <a:ln w="0">
            <a:noFill/>
          </a:ln>
        </p:spPr>
      </p:pic>
      <p:grpSp>
        <p:nvGrpSpPr>
          <p:cNvPr id="169" name="Group 9"/>
          <p:cNvGrpSpPr/>
          <p:nvPr/>
        </p:nvGrpSpPr>
        <p:grpSpPr>
          <a:xfrm>
            <a:off x="3660840" y="949320"/>
            <a:ext cx="4897440" cy="947160"/>
            <a:chOff x="3660840" y="949320"/>
            <a:chExt cx="4897440" cy="947160"/>
          </a:xfrm>
        </p:grpSpPr>
        <p:sp>
          <p:nvSpPr>
            <p:cNvPr id="170" name="TextBox 20">
              <a:hlinkClick r:id="rId2" action="ppaction://hlinksldjump"/>
            </p:cNvPr>
            <p:cNvSpPr/>
            <p:nvPr/>
          </p:nvSpPr>
          <p:spPr>
            <a:xfrm>
              <a:off x="3660840" y="949320"/>
              <a:ext cx="982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bfbfbf"/>
                  </a:solidFill>
                  <a:latin typeface="Microsoft Himalaya"/>
                </a:rPr>
                <a:t>Text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TextBox 25">
              <a:hlinkClick r:id="rId3" action="ppaction://hlinksldjump"/>
            </p:cNvPr>
            <p:cNvSpPr/>
            <p:nvPr/>
          </p:nvSpPr>
          <p:spPr>
            <a:xfrm>
              <a:off x="4639680" y="949320"/>
              <a:ext cx="982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bfbfbf"/>
                  </a:solidFill>
                  <a:latin typeface="Microsoft Himalaya"/>
                </a:rPr>
                <a:t>Text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TextBox 31">
              <a:hlinkClick r:id="rId4" action="ppaction://hlinksldjump"/>
            </p:cNvPr>
            <p:cNvSpPr/>
            <p:nvPr/>
          </p:nvSpPr>
          <p:spPr>
            <a:xfrm>
              <a:off x="5618520" y="949320"/>
              <a:ext cx="982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Microsoft Himalaya"/>
                </a:rPr>
                <a:t>Text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TextBox 32">
              <a:hlinkClick r:id="rId5" action="ppaction://hlinksldjump"/>
            </p:cNvPr>
            <p:cNvSpPr/>
            <p:nvPr/>
          </p:nvSpPr>
          <p:spPr>
            <a:xfrm>
              <a:off x="6597360" y="949320"/>
              <a:ext cx="982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bfbfbf"/>
                  </a:solidFill>
                  <a:latin typeface="Microsoft Himalaya"/>
                </a:rPr>
                <a:t>Text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TextBox 33">
              <a:hlinkClick r:id="rId6" action="ppaction://hlinksldjump"/>
            </p:cNvPr>
            <p:cNvSpPr/>
            <p:nvPr/>
          </p:nvSpPr>
          <p:spPr>
            <a:xfrm>
              <a:off x="7576200" y="949320"/>
              <a:ext cx="982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bfbfbf"/>
                  </a:solidFill>
                  <a:latin typeface="Microsoft Himalaya"/>
                </a:rPr>
                <a:t>Text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直接连接符 34"/>
          <p:cNvSpPr/>
          <p:nvPr/>
        </p:nvSpPr>
        <p:spPr>
          <a:xfrm>
            <a:off x="5742000" y="1343160"/>
            <a:ext cx="690480" cy="144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矩形 4"/>
          <p:cNvSpPr/>
          <p:nvPr/>
        </p:nvSpPr>
        <p:spPr>
          <a:xfrm>
            <a:off x="0" y="1851120"/>
            <a:ext cx="9144000" cy="2520720"/>
          </a:xfrm>
          <a:prstGeom prst="rect">
            <a:avLst/>
          </a:prstGeom>
          <a:solidFill>
            <a:srgbClr val="000000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椭圆 18"/>
          <p:cNvSpPr/>
          <p:nvPr/>
        </p:nvSpPr>
        <p:spPr>
          <a:xfrm>
            <a:off x="914400" y="195120"/>
            <a:ext cx="1285920" cy="1285920"/>
          </a:xfrm>
          <a:prstGeom prst="ellips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Box 28"/>
          <p:cNvSpPr/>
          <p:nvPr/>
        </p:nvSpPr>
        <p:spPr>
          <a:xfrm>
            <a:off x="914400" y="407880"/>
            <a:ext cx="128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f7f7f"/>
                </a:solidFill>
                <a:latin typeface="Microsoft Himalaya"/>
              </a:rPr>
              <a:t>LO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Group 5"/>
          <p:cNvGrpSpPr/>
          <p:nvPr/>
        </p:nvGrpSpPr>
        <p:grpSpPr>
          <a:xfrm>
            <a:off x="914400" y="758880"/>
            <a:ext cx="1285920" cy="703800"/>
            <a:chOff x="914400" y="758880"/>
            <a:chExt cx="1285920" cy="703800"/>
          </a:xfrm>
        </p:grpSpPr>
        <p:sp>
          <p:nvSpPr>
            <p:cNvPr id="180" name="TextBox 27"/>
            <p:cNvSpPr/>
            <p:nvPr/>
          </p:nvSpPr>
          <p:spPr>
            <a:xfrm>
              <a:off x="914400" y="758880"/>
              <a:ext cx="12859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Microsoft Himalaya"/>
                </a:rPr>
                <a:t>YOUR TIT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矩形 29"/>
            <p:cNvSpPr/>
            <p:nvPr/>
          </p:nvSpPr>
          <p:spPr>
            <a:xfrm>
              <a:off x="1185120" y="974160"/>
              <a:ext cx="744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icrosoft Himalaya"/>
                </a:rPr>
                <a:t>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2" name="Picture 2" descr=""/>
          <p:cNvPicPr/>
          <p:nvPr/>
        </p:nvPicPr>
        <p:blipFill>
          <a:blip r:embed="rId1"/>
          <a:srcRect l="215" t="23654" r="-204" b="35036"/>
          <a:stretch/>
        </p:blipFill>
        <p:spPr>
          <a:xfrm>
            <a:off x="-1440" y="1851120"/>
            <a:ext cx="9156600" cy="2520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2" descr=""/>
          <p:cNvPicPr/>
          <p:nvPr/>
        </p:nvPicPr>
        <p:blipFill>
          <a:blip r:embed="rId2"/>
          <a:srcRect l="532" t="6381" r="210" b="48203"/>
          <a:stretch/>
        </p:blipFill>
        <p:spPr>
          <a:xfrm>
            <a:off x="0" y="1851120"/>
            <a:ext cx="9144000" cy="2520720"/>
          </a:xfrm>
          <a:prstGeom prst="rect">
            <a:avLst/>
          </a:prstGeom>
          <a:ln w="0">
            <a:noFill/>
          </a:ln>
        </p:spPr>
      </p:pic>
      <p:sp>
        <p:nvSpPr>
          <p:cNvPr id="184" name="燕尾形 17"/>
          <p:cNvSpPr/>
          <p:nvPr/>
        </p:nvSpPr>
        <p:spPr>
          <a:xfrm>
            <a:off x="-1000080" y="1851120"/>
            <a:ext cx="1701720" cy="2520720"/>
          </a:xfrm>
          <a:custGeom>
            <a:avLst/>
            <a:gdLst>
              <a:gd name="textAreaLeft" fmla="*/ 0 w 1701720"/>
              <a:gd name="textAreaRight" fmla="*/ 1702080 w 170172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燕尾形 20"/>
          <p:cNvSpPr/>
          <p:nvPr/>
        </p:nvSpPr>
        <p:spPr>
          <a:xfrm>
            <a:off x="-144360" y="1851120"/>
            <a:ext cx="1700280" cy="2520720"/>
          </a:xfrm>
          <a:custGeom>
            <a:avLst/>
            <a:gdLst>
              <a:gd name="textAreaLeft" fmla="*/ 0 w 1700280"/>
              <a:gd name="textAreaRight" fmla="*/ 1700640 w 170028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燕尾形 25"/>
          <p:cNvSpPr/>
          <p:nvPr/>
        </p:nvSpPr>
        <p:spPr>
          <a:xfrm>
            <a:off x="701640" y="1851120"/>
            <a:ext cx="1709640" cy="2520720"/>
          </a:xfrm>
          <a:custGeom>
            <a:avLst/>
            <a:gdLst>
              <a:gd name="textAreaLeft" fmla="*/ 0 w 1709640"/>
              <a:gd name="textAreaRight" fmla="*/ 1710000 w 170964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燕尾形 31"/>
          <p:cNvSpPr/>
          <p:nvPr/>
        </p:nvSpPr>
        <p:spPr>
          <a:xfrm>
            <a:off x="1555920" y="1851120"/>
            <a:ext cx="1711080" cy="2520720"/>
          </a:xfrm>
          <a:custGeom>
            <a:avLst/>
            <a:gdLst>
              <a:gd name="textAreaLeft" fmla="*/ 0 w 1711080"/>
              <a:gd name="textAreaRight" fmla="*/ 1711440 w 171108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燕尾形 32"/>
          <p:cNvSpPr/>
          <p:nvPr/>
        </p:nvSpPr>
        <p:spPr>
          <a:xfrm>
            <a:off x="2411280" y="1851120"/>
            <a:ext cx="1710000" cy="2520720"/>
          </a:xfrm>
          <a:custGeom>
            <a:avLst/>
            <a:gdLst>
              <a:gd name="textAreaLeft" fmla="*/ 0 w 1710000"/>
              <a:gd name="textAreaRight" fmla="*/ 1710360 w 171000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燕尾形 33"/>
          <p:cNvSpPr/>
          <p:nvPr/>
        </p:nvSpPr>
        <p:spPr>
          <a:xfrm>
            <a:off x="3267000" y="1851120"/>
            <a:ext cx="1709640" cy="2520720"/>
          </a:xfrm>
          <a:custGeom>
            <a:avLst/>
            <a:gdLst>
              <a:gd name="textAreaLeft" fmla="*/ 0 w 1709640"/>
              <a:gd name="textAreaRight" fmla="*/ 1710000 w 170964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燕尾形 34"/>
          <p:cNvSpPr/>
          <p:nvPr/>
        </p:nvSpPr>
        <p:spPr>
          <a:xfrm>
            <a:off x="4121280" y="1851120"/>
            <a:ext cx="1711080" cy="2520720"/>
          </a:xfrm>
          <a:custGeom>
            <a:avLst/>
            <a:gdLst>
              <a:gd name="textAreaLeft" fmla="*/ 0 w 1711080"/>
              <a:gd name="textAreaRight" fmla="*/ 1711440 w 171108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燕尾形 35"/>
          <p:cNvSpPr/>
          <p:nvPr/>
        </p:nvSpPr>
        <p:spPr>
          <a:xfrm>
            <a:off x="4976640" y="1851120"/>
            <a:ext cx="1710000" cy="2520720"/>
          </a:xfrm>
          <a:custGeom>
            <a:avLst/>
            <a:gdLst>
              <a:gd name="textAreaLeft" fmla="*/ 0 w 1710000"/>
              <a:gd name="textAreaRight" fmla="*/ 1710360 w 171000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燕尾形 36"/>
          <p:cNvSpPr/>
          <p:nvPr/>
        </p:nvSpPr>
        <p:spPr>
          <a:xfrm>
            <a:off x="5832360" y="1851120"/>
            <a:ext cx="1710000" cy="2520720"/>
          </a:xfrm>
          <a:custGeom>
            <a:avLst/>
            <a:gdLst>
              <a:gd name="textAreaLeft" fmla="*/ 0 w 1710000"/>
              <a:gd name="textAreaRight" fmla="*/ 1710360 w 171000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燕尾形 37"/>
          <p:cNvSpPr/>
          <p:nvPr/>
        </p:nvSpPr>
        <p:spPr>
          <a:xfrm>
            <a:off x="6686640" y="1851120"/>
            <a:ext cx="1711080" cy="2520720"/>
          </a:xfrm>
          <a:custGeom>
            <a:avLst/>
            <a:gdLst>
              <a:gd name="textAreaLeft" fmla="*/ 0 w 1711080"/>
              <a:gd name="textAreaRight" fmla="*/ 1711440 w 171108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燕尾形 38"/>
          <p:cNvSpPr/>
          <p:nvPr/>
        </p:nvSpPr>
        <p:spPr>
          <a:xfrm>
            <a:off x="7542360" y="1851120"/>
            <a:ext cx="1709640" cy="2520720"/>
          </a:xfrm>
          <a:custGeom>
            <a:avLst/>
            <a:gdLst>
              <a:gd name="textAreaLeft" fmla="*/ 0 w 1709640"/>
              <a:gd name="textAreaRight" fmla="*/ 1710000 w 170964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燕尾形 39"/>
          <p:cNvSpPr/>
          <p:nvPr/>
        </p:nvSpPr>
        <p:spPr>
          <a:xfrm>
            <a:off x="8397720" y="1851120"/>
            <a:ext cx="1710000" cy="2520720"/>
          </a:xfrm>
          <a:custGeom>
            <a:avLst/>
            <a:gdLst>
              <a:gd name="textAreaLeft" fmla="*/ 0 w 1710000"/>
              <a:gd name="textAreaRight" fmla="*/ 1710360 w 171000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6" name="Group 22"/>
          <p:cNvGrpSpPr/>
          <p:nvPr/>
        </p:nvGrpSpPr>
        <p:grpSpPr>
          <a:xfrm>
            <a:off x="3660840" y="949320"/>
            <a:ext cx="4897440" cy="947160"/>
            <a:chOff x="3660840" y="949320"/>
            <a:chExt cx="4897440" cy="947160"/>
          </a:xfrm>
        </p:grpSpPr>
        <p:sp>
          <p:nvSpPr>
            <p:cNvPr id="197" name="TextBox 41">
              <a:hlinkClick r:id="rId3" action="ppaction://hlinksldjump"/>
            </p:cNvPr>
            <p:cNvSpPr/>
            <p:nvPr/>
          </p:nvSpPr>
          <p:spPr>
            <a:xfrm>
              <a:off x="3660840" y="949320"/>
              <a:ext cx="982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bfbfbf"/>
                  </a:solidFill>
                  <a:latin typeface="Microsoft Himalaya"/>
                </a:rPr>
                <a:t>Text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TextBox 42">
              <a:hlinkClick r:id="rId4" action="ppaction://hlinksldjump"/>
            </p:cNvPr>
            <p:cNvSpPr/>
            <p:nvPr/>
          </p:nvSpPr>
          <p:spPr>
            <a:xfrm>
              <a:off x="4639680" y="949320"/>
              <a:ext cx="982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bfbfbf"/>
                  </a:solidFill>
                  <a:latin typeface="Microsoft Himalaya"/>
                </a:rPr>
                <a:t>Text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TextBox 43">
              <a:hlinkClick r:id="rId5" action="ppaction://hlinksldjump"/>
            </p:cNvPr>
            <p:cNvSpPr/>
            <p:nvPr/>
          </p:nvSpPr>
          <p:spPr>
            <a:xfrm>
              <a:off x="5618520" y="949320"/>
              <a:ext cx="982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bfbfbf"/>
                  </a:solidFill>
                  <a:latin typeface="Microsoft Himalaya"/>
                </a:rPr>
                <a:t>Text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TextBox 44">
              <a:hlinkClick r:id="rId6" action="ppaction://hlinksldjump"/>
            </p:cNvPr>
            <p:cNvSpPr/>
            <p:nvPr/>
          </p:nvSpPr>
          <p:spPr>
            <a:xfrm>
              <a:off x="6597360" y="949320"/>
              <a:ext cx="982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bfbfbf"/>
                  </a:solidFill>
                  <a:latin typeface="Microsoft Himalaya"/>
                </a:rPr>
                <a:t>Text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TextBox 45">
              <a:hlinkClick r:id="rId7" action="ppaction://hlinksldjump"/>
            </p:cNvPr>
            <p:cNvSpPr/>
            <p:nvPr/>
          </p:nvSpPr>
          <p:spPr>
            <a:xfrm>
              <a:off x="7576200" y="949320"/>
              <a:ext cx="982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bfbfbf"/>
                  </a:solidFill>
                  <a:latin typeface="Microsoft Himalaya"/>
                </a:rPr>
                <a:t>Text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0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withEffect" fill="hold" presetClass="exit" presetID="22" presetSubtype="8">
                                  <p:stCondLst>
                                    <p:cond delay="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1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2" presetSubtype="8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2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5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5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23" presetSubtype="16">
                                  <p:stCondLst>
                                    <p:cond delay="5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5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5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3" presetSubtype="16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15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5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3" presetSubtype="16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5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5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5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5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3" presetSubtype="16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5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5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23" presetSubtype="1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5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5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3" presetSubtype="16">
                                  <p:stCondLst>
                                    <p:cond delay="35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5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5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15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5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23" presetSubtype="16">
                                  <p:stCondLst>
                                    <p:cond delay="45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5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5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3" nodeType="withEffect" fill="hold" presetClass="exit" presetID="23" presetSubtype="272">
                                  <p:stCondLst>
                                    <p:cond delay="4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4" dur="15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5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5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5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" nodeType="withEffect" fill="hold" presetClass="exit" presetID="23" presetSubtype="272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2" dur="15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5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3" presetSubtype="16">
                                  <p:stCondLst>
                                    <p:cond delay="55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5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5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9" nodeType="withEffect" fill="hold" presetClass="exit" presetID="23" presetSubtype="272">
                                  <p:stCondLst>
                                    <p:cond delay="5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0" dur="15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5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xit" presetID="23" presetSubtype="272">
                                  <p:stCondLst>
                                    <p:cond delay="6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4" dur="15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5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xit" presetID="23" presetSubtype="272">
                                  <p:stCondLst>
                                    <p:cond delay="6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8" dur="15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5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nodeType="withEffect" fill="hold" presetClass="exit" presetID="23" presetSubtype="272">
                                  <p:stCondLst>
                                    <p:cond delay="7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2" dur="15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5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xit" presetID="23" presetSubtype="272">
                                  <p:stCondLst>
                                    <p:cond delay="7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6" dur="15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5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xit" presetID="23" presetSubtype="272">
                                  <p:stCondLst>
                                    <p:cond delay="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0" dur="15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5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exit" presetID="23" presetSubtype="272">
                                  <p:stCondLst>
                                    <p:cond delay="8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4" dur="15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5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" nodeType="withEffect" fill="hold" presetClass="exit" presetID="23" presetSubtype="272">
                                  <p:stCondLst>
                                    <p:cond delay="9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8" dur="15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5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" nodeType="withEffect" fill="hold" presetClass="exit" presetID="23" presetSubtype="272">
                                  <p:stCondLst>
                                    <p:cond delay="9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2" dur="15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5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" nodeType="withEffect" fill="hold" presetClass="exit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6" dur="15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5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矩形 4"/>
          <p:cNvSpPr/>
          <p:nvPr/>
        </p:nvSpPr>
        <p:spPr>
          <a:xfrm>
            <a:off x="0" y="1851120"/>
            <a:ext cx="9144000" cy="2520720"/>
          </a:xfrm>
          <a:prstGeom prst="rect">
            <a:avLst/>
          </a:prstGeom>
          <a:solidFill>
            <a:srgbClr val="000000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椭圆 18"/>
          <p:cNvSpPr/>
          <p:nvPr/>
        </p:nvSpPr>
        <p:spPr>
          <a:xfrm>
            <a:off x="914400" y="195120"/>
            <a:ext cx="1285920" cy="1285920"/>
          </a:xfrm>
          <a:prstGeom prst="ellips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Box 28"/>
          <p:cNvSpPr/>
          <p:nvPr/>
        </p:nvSpPr>
        <p:spPr>
          <a:xfrm>
            <a:off x="914400" y="407880"/>
            <a:ext cx="128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f7f7f"/>
                </a:solidFill>
                <a:latin typeface="Microsoft Himalaya"/>
              </a:rPr>
              <a:t>LO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" name="Group 5"/>
          <p:cNvGrpSpPr/>
          <p:nvPr/>
        </p:nvGrpSpPr>
        <p:grpSpPr>
          <a:xfrm>
            <a:off x="914400" y="758880"/>
            <a:ext cx="1285920" cy="703800"/>
            <a:chOff x="914400" y="758880"/>
            <a:chExt cx="1285920" cy="703800"/>
          </a:xfrm>
        </p:grpSpPr>
        <p:sp>
          <p:nvSpPr>
            <p:cNvPr id="206" name="TextBox 27"/>
            <p:cNvSpPr/>
            <p:nvPr/>
          </p:nvSpPr>
          <p:spPr>
            <a:xfrm>
              <a:off x="914400" y="758880"/>
              <a:ext cx="12859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Microsoft Himalaya"/>
                </a:rPr>
                <a:t>YOUR TIT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矩形 29"/>
            <p:cNvSpPr/>
            <p:nvPr/>
          </p:nvSpPr>
          <p:spPr>
            <a:xfrm>
              <a:off x="1185120" y="974160"/>
              <a:ext cx="744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icrosoft Himalaya"/>
                </a:rPr>
                <a:t>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8" name="Picture 2" descr=""/>
          <p:cNvPicPr/>
          <p:nvPr/>
        </p:nvPicPr>
        <p:blipFill>
          <a:blip r:embed="rId1"/>
          <a:srcRect l="532" t="6381" r="210" b="48203"/>
          <a:stretch/>
        </p:blipFill>
        <p:spPr>
          <a:xfrm>
            <a:off x="0" y="1851120"/>
            <a:ext cx="9144000" cy="2520720"/>
          </a:xfrm>
          <a:prstGeom prst="rect">
            <a:avLst/>
          </a:prstGeom>
          <a:ln w="0">
            <a:noFill/>
          </a:ln>
        </p:spPr>
      </p:pic>
      <p:grpSp>
        <p:nvGrpSpPr>
          <p:cNvPr id="209" name="Group 9"/>
          <p:cNvGrpSpPr/>
          <p:nvPr/>
        </p:nvGrpSpPr>
        <p:grpSpPr>
          <a:xfrm>
            <a:off x="3660840" y="949320"/>
            <a:ext cx="4897440" cy="947160"/>
            <a:chOff x="3660840" y="949320"/>
            <a:chExt cx="4897440" cy="947160"/>
          </a:xfrm>
        </p:grpSpPr>
        <p:sp>
          <p:nvSpPr>
            <p:cNvPr id="210" name="TextBox 20">
              <a:hlinkClick r:id="rId2" action="ppaction://hlinksldjump"/>
            </p:cNvPr>
            <p:cNvSpPr/>
            <p:nvPr/>
          </p:nvSpPr>
          <p:spPr>
            <a:xfrm>
              <a:off x="3660840" y="949320"/>
              <a:ext cx="982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bfbfbf"/>
                  </a:solidFill>
                  <a:latin typeface="Microsoft Himalaya"/>
                </a:rPr>
                <a:t>Text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TextBox 25">
              <a:hlinkClick r:id="rId3" action="ppaction://hlinksldjump"/>
            </p:cNvPr>
            <p:cNvSpPr/>
            <p:nvPr/>
          </p:nvSpPr>
          <p:spPr>
            <a:xfrm>
              <a:off x="4639680" y="949320"/>
              <a:ext cx="982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bfbfbf"/>
                  </a:solidFill>
                  <a:latin typeface="Microsoft Himalaya"/>
                </a:rPr>
                <a:t>Text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TextBox 31">
              <a:hlinkClick r:id="rId4" action="ppaction://hlinksldjump"/>
            </p:cNvPr>
            <p:cNvSpPr/>
            <p:nvPr/>
          </p:nvSpPr>
          <p:spPr>
            <a:xfrm>
              <a:off x="5618520" y="949320"/>
              <a:ext cx="982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bfbfbf"/>
                  </a:solidFill>
                  <a:latin typeface="Microsoft Himalaya"/>
                </a:rPr>
                <a:t>Text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TextBox 32">
              <a:hlinkClick r:id="rId5" action="ppaction://hlinksldjump"/>
            </p:cNvPr>
            <p:cNvSpPr/>
            <p:nvPr/>
          </p:nvSpPr>
          <p:spPr>
            <a:xfrm>
              <a:off x="6597360" y="949320"/>
              <a:ext cx="982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Microsoft Himalaya"/>
                </a:rPr>
                <a:t>Text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TextBox 33">
              <a:hlinkClick r:id="rId6" action="ppaction://hlinksldjump"/>
            </p:cNvPr>
            <p:cNvSpPr/>
            <p:nvPr/>
          </p:nvSpPr>
          <p:spPr>
            <a:xfrm>
              <a:off x="7576200" y="949320"/>
              <a:ext cx="982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bfbfbf"/>
                  </a:solidFill>
                  <a:latin typeface="Microsoft Himalaya"/>
                </a:rPr>
                <a:t>Text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" name="直接连接符 34"/>
          <p:cNvSpPr/>
          <p:nvPr/>
        </p:nvSpPr>
        <p:spPr>
          <a:xfrm>
            <a:off x="6759720" y="1343160"/>
            <a:ext cx="688680" cy="144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矩形 4"/>
          <p:cNvSpPr/>
          <p:nvPr/>
        </p:nvSpPr>
        <p:spPr>
          <a:xfrm>
            <a:off x="0" y="1851120"/>
            <a:ext cx="9144000" cy="2520720"/>
          </a:xfrm>
          <a:prstGeom prst="rect">
            <a:avLst/>
          </a:prstGeom>
          <a:solidFill>
            <a:srgbClr val="000000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椭圆 18"/>
          <p:cNvSpPr/>
          <p:nvPr/>
        </p:nvSpPr>
        <p:spPr>
          <a:xfrm>
            <a:off x="914400" y="195120"/>
            <a:ext cx="1285920" cy="1285920"/>
          </a:xfrm>
          <a:prstGeom prst="ellips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Box 28"/>
          <p:cNvSpPr/>
          <p:nvPr/>
        </p:nvSpPr>
        <p:spPr>
          <a:xfrm>
            <a:off x="914400" y="407880"/>
            <a:ext cx="128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f7f7f"/>
                </a:solidFill>
                <a:latin typeface="Microsoft Himalaya"/>
              </a:rPr>
              <a:t>LO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" name="Group 5"/>
          <p:cNvGrpSpPr/>
          <p:nvPr/>
        </p:nvGrpSpPr>
        <p:grpSpPr>
          <a:xfrm>
            <a:off x="914400" y="758880"/>
            <a:ext cx="1285920" cy="703800"/>
            <a:chOff x="914400" y="758880"/>
            <a:chExt cx="1285920" cy="703800"/>
          </a:xfrm>
        </p:grpSpPr>
        <p:sp>
          <p:nvSpPr>
            <p:cNvPr id="220" name="TextBox 27"/>
            <p:cNvSpPr/>
            <p:nvPr/>
          </p:nvSpPr>
          <p:spPr>
            <a:xfrm>
              <a:off x="914400" y="758880"/>
              <a:ext cx="12859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Microsoft Himalaya"/>
                </a:rPr>
                <a:t>YOUR TIT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矩形 29"/>
            <p:cNvSpPr/>
            <p:nvPr/>
          </p:nvSpPr>
          <p:spPr>
            <a:xfrm>
              <a:off x="1185120" y="974160"/>
              <a:ext cx="744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icrosoft Himalaya"/>
                </a:rPr>
                <a:t>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22" name="Picture 2" descr=""/>
          <p:cNvPicPr/>
          <p:nvPr/>
        </p:nvPicPr>
        <p:blipFill>
          <a:blip r:embed="rId1"/>
          <a:srcRect l="532" t="6381" r="210" b="48203"/>
          <a:stretch/>
        </p:blipFill>
        <p:spPr>
          <a:xfrm>
            <a:off x="0" y="1851120"/>
            <a:ext cx="9144000" cy="252072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2" descr=""/>
          <p:cNvPicPr/>
          <p:nvPr/>
        </p:nvPicPr>
        <p:blipFill>
          <a:blip r:embed="rId2"/>
          <a:srcRect l="0" t="16155" r="-9" b="49388"/>
          <a:stretch/>
        </p:blipFill>
        <p:spPr>
          <a:xfrm>
            <a:off x="0" y="1851120"/>
            <a:ext cx="9144000" cy="2520720"/>
          </a:xfrm>
          <a:prstGeom prst="rect">
            <a:avLst/>
          </a:prstGeom>
          <a:ln w="0">
            <a:noFill/>
          </a:ln>
        </p:spPr>
      </p:pic>
      <p:sp>
        <p:nvSpPr>
          <p:cNvPr id="224" name="燕尾形 17"/>
          <p:cNvSpPr/>
          <p:nvPr/>
        </p:nvSpPr>
        <p:spPr>
          <a:xfrm>
            <a:off x="-1000080" y="1851120"/>
            <a:ext cx="1701720" cy="2520720"/>
          </a:xfrm>
          <a:custGeom>
            <a:avLst/>
            <a:gdLst>
              <a:gd name="textAreaLeft" fmla="*/ 0 w 1701720"/>
              <a:gd name="textAreaRight" fmla="*/ 1702080 w 170172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燕尾形 20"/>
          <p:cNvSpPr/>
          <p:nvPr/>
        </p:nvSpPr>
        <p:spPr>
          <a:xfrm>
            <a:off x="-144360" y="1851120"/>
            <a:ext cx="1700280" cy="2520720"/>
          </a:xfrm>
          <a:custGeom>
            <a:avLst/>
            <a:gdLst>
              <a:gd name="textAreaLeft" fmla="*/ 0 w 1700280"/>
              <a:gd name="textAreaRight" fmla="*/ 1700640 w 170028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燕尾形 25"/>
          <p:cNvSpPr/>
          <p:nvPr/>
        </p:nvSpPr>
        <p:spPr>
          <a:xfrm>
            <a:off x="701640" y="1851120"/>
            <a:ext cx="1709640" cy="2520720"/>
          </a:xfrm>
          <a:custGeom>
            <a:avLst/>
            <a:gdLst>
              <a:gd name="textAreaLeft" fmla="*/ 0 w 1709640"/>
              <a:gd name="textAreaRight" fmla="*/ 1710000 w 170964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燕尾形 31"/>
          <p:cNvSpPr/>
          <p:nvPr/>
        </p:nvSpPr>
        <p:spPr>
          <a:xfrm>
            <a:off x="1555920" y="1851120"/>
            <a:ext cx="1711080" cy="2520720"/>
          </a:xfrm>
          <a:custGeom>
            <a:avLst/>
            <a:gdLst>
              <a:gd name="textAreaLeft" fmla="*/ 0 w 1711080"/>
              <a:gd name="textAreaRight" fmla="*/ 1711440 w 171108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燕尾形 32"/>
          <p:cNvSpPr/>
          <p:nvPr/>
        </p:nvSpPr>
        <p:spPr>
          <a:xfrm>
            <a:off x="2411280" y="1851120"/>
            <a:ext cx="1710000" cy="2520720"/>
          </a:xfrm>
          <a:custGeom>
            <a:avLst/>
            <a:gdLst>
              <a:gd name="textAreaLeft" fmla="*/ 0 w 1710000"/>
              <a:gd name="textAreaRight" fmla="*/ 1710360 w 171000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燕尾形 33"/>
          <p:cNvSpPr/>
          <p:nvPr/>
        </p:nvSpPr>
        <p:spPr>
          <a:xfrm>
            <a:off x="3267000" y="1851120"/>
            <a:ext cx="1709640" cy="2520720"/>
          </a:xfrm>
          <a:custGeom>
            <a:avLst/>
            <a:gdLst>
              <a:gd name="textAreaLeft" fmla="*/ 0 w 1709640"/>
              <a:gd name="textAreaRight" fmla="*/ 1710000 w 170964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燕尾形 34"/>
          <p:cNvSpPr/>
          <p:nvPr/>
        </p:nvSpPr>
        <p:spPr>
          <a:xfrm>
            <a:off x="4121280" y="1851120"/>
            <a:ext cx="1711080" cy="2520720"/>
          </a:xfrm>
          <a:custGeom>
            <a:avLst/>
            <a:gdLst>
              <a:gd name="textAreaLeft" fmla="*/ 0 w 1711080"/>
              <a:gd name="textAreaRight" fmla="*/ 1711440 w 171108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燕尾形 35"/>
          <p:cNvSpPr/>
          <p:nvPr/>
        </p:nvSpPr>
        <p:spPr>
          <a:xfrm>
            <a:off x="4976640" y="1851120"/>
            <a:ext cx="1710000" cy="2520720"/>
          </a:xfrm>
          <a:custGeom>
            <a:avLst/>
            <a:gdLst>
              <a:gd name="textAreaLeft" fmla="*/ 0 w 1710000"/>
              <a:gd name="textAreaRight" fmla="*/ 1710360 w 171000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燕尾形 36"/>
          <p:cNvSpPr/>
          <p:nvPr/>
        </p:nvSpPr>
        <p:spPr>
          <a:xfrm>
            <a:off x="5832360" y="1851120"/>
            <a:ext cx="1710000" cy="2520720"/>
          </a:xfrm>
          <a:custGeom>
            <a:avLst/>
            <a:gdLst>
              <a:gd name="textAreaLeft" fmla="*/ 0 w 1710000"/>
              <a:gd name="textAreaRight" fmla="*/ 1710360 w 171000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燕尾形 37"/>
          <p:cNvSpPr/>
          <p:nvPr/>
        </p:nvSpPr>
        <p:spPr>
          <a:xfrm>
            <a:off x="6686640" y="1851120"/>
            <a:ext cx="1711080" cy="2520720"/>
          </a:xfrm>
          <a:custGeom>
            <a:avLst/>
            <a:gdLst>
              <a:gd name="textAreaLeft" fmla="*/ 0 w 1711080"/>
              <a:gd name="textAreaRight" fmla="*/ 1711440 w 171108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燕尾形 38"/>
          <p:cNvSpPr/>
          <p:nvPr/>
        </p:nvSpPr>
        <p:spPr>
          <a:xfrm>
            <a:off x="7542360" y="1851120"/>
            <a:ext cx="1709640" cy="2520720"/>
          </a:xfrm>
          <a:custGeom>
            <a:avLst/>
            <a:gdLst>
              <a:gd name="textAreaLeft" fmla="*/ 0 w 1709640"/>
              <a:gd name="textAreaRight" fmla="*/ 1710000 w 170964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燕尾形 39"/>
          <p:cNvSpPr/>
          <p:nvPr/>
        </p:nvSpPr>
        <p:spPr>
          <a:xfrm>
            <a:off x="8397720" y="1851120"/>
            <a:ext cx="1710000" cy="2520720"/>
          </a:xfrm>
          <a:custGeom>
            <a:avLst/>
            <a:gdLst>
              <a:gd name="textAreaLeft" fmla="*/ 0 w 1710000"/>
              <a:gd name="textAreaRight" fmla="*/ 1710360 w 171000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6" name="Group 22"/>
          <p:cNvGrpSpPr/>
          <p:nvPr/>
        </p:nvGrpSpPr>
        <p:grpSpPr>
          <a:xfrm>
            <a:off x="3660840" y="949320"/>
            <a:ext cx="4897440" cy="947160"/>
            <a:chOff x="3660840" y="949320"/>
            <a:chExt cx="4897440" cy="947160"/>
          </a:xfrm>
        </p:grpSpPr>
        <p:sp>
          <p:nvSpPr>
            <p:cNvPr id="237" name="TextBox 41">
              <a:hlinkClick r:id="rId3" action="ppaction://hlinksldjump"/>
            </p:cNvPr>
            <p:cNvSpPr/>
            <p:nvPr/>
          </p:nvSpPr>
          <p:spPr>
            <a:xfrm>
              <a:off x="3660840" y="949320"/>
              <a:ext cx="982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bfbfbf"/>
                  </a:solidFill>
                  <a:latin typeface="Microsoft Himalaya"/>
                </a:rPr>
                <a:t>Text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TextBox 42">
              <a:hlinkClick r:id="rId4" action="ppaction://hlinksldjump"/>
            </p:cNvPr>
            <p:cNvSpPr/>
            <p:nvPr/>
          </p:nvSpPr>
          <p:spPr>
            <a:xfrm>
              <a:off x="4639680" y="949320"/>
              <a:ext cx="982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bfbfbf"/>
                  </a:solidFill>
                  <a:latin typeface="Microsoft Himalaya"/>
                </a:rPr>
                <a:t>Text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TextBox 43">
              <a:hlinkClick r:id="rId5" action="ppaction://hlinksldjump"/>
            </p:cNvPr>
            <p:cNvSpPr/>
            <p:nvPr/>
          </p:nvSpPr>
          <p:spPr>
            <a:xfrm>
              <a:off x="5618520" y="949320"/>
              <a:ext cx="982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bfbfbf"/>
                  </a:solidFill>
                  <a:latin typeface="Microsoft Himalaya"/>
                </a:rPr>
                <a:t>Text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TextBox 44">
              <a:hlinkClick r:id="rId6" action="ppaction://hlinksldjump"/>
            </p:cNvPr>
            <p:cNvSpPr/>
            <p:nvPr/>
          </p:nvSpPr>
          <p:spPr>
            <a:xfrm>
              <a:off x="6597360" y="949320"/>
              <a:ext cx="982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bfbfbf"/>
                  </a:solidFill>
                  <a:latin typeface="Microsoft Himalaya"/>
                </a:rPr>
                <a:t>Text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TextBox 45">
              <a:hlinkClick r:id="rId7" action="ppaction://hlinksldjump"/>
            </p:cNvPr>
            <p:cNvSpPr/>
            <p:nvPr/>
          </p:nvSpPr>
          <p:spPr>
            <a:xfrm>
              <a:off x="7576200" y="949320"/>
              <a:ext cx="982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bfbfbf"/>
                  </a:solidFill>
                  <a:latin typeface="Microsoft Himalaya"/>
                </a:rPr>
                <a:t>Text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nodeType="clickEffect" fill="hold">
                      <p:stCondLst>
                        <p:cond delay="0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withEffect" fill="hold" presetClass="exit" presetID="22" presetSubtype="8">
                                  <p:stCondLst>
                                    <p:cond delay="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24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22" presetSubtype="8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8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15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5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23" presetSubtype="16">
                                  <p:stCondLst>
                                    <p:cond delay="5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15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5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23" presetSubtype="16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15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5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23" presetSubtype="16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15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5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15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5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23" presetSubtype="16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15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5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23" presetSubtype="1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15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5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23" presetSubtype="16">
                                  <p:stCondLst>
                                    <p:cond delay="35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15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5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15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5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23" presetSubtype="16">
                                  <p:stCondLst>
                                    <p:cond delay="45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15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5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9" nodeType="withEffect" fill="hold" presetClass="exit" presetID="23" presetSubtype="272">
                                  <p:stCondLst>
                                    <p:cond delay="4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0" dur="150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50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15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5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7" nodeType="withEffect" fill="hold" presetClass="exit" presetID="23" presetSubtype="272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8" dur="15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5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23" presetSubtype="16">
                                  <p:stCondLst>
                                    <p:cond delay="55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15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5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xit" presetID="23" presetSubtype="272">
                                  <p:stCondLst>
                                    <p:cond delay="5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6" dur="15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5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" nodeType="withEffect" fill="hold" presetClass="exit" presetID="23" presetSubtype="272">
                                  <p:stCondLst>
                                    <p:cond delay="6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0" dur="15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5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3" nodeType="withEffect" fill="hold" presetClass="exit" presetID="23" presetSubtype="272">
                                  <p:stCondLst>
                                    <p:cond delay="6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4" dur="15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5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7" nodeType="withEffect" fill="hold" presetClass="exit" presetID="23" presetSubtype="272">
                                  <p:stCondLst>
                                    <p:cond delay="7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8" dur="15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5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nodeType="withEffect" fill="hold" presetClass="exit" presetID="23" presetSubtype="272">
                                  <p:stCondLst>
                                    <p:cond delay="7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2" dur="150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50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xit" presetID="23" presetSubtype="272">
                                  <p:stCondLst>
                                    <p:cond delay="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6" dur="150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50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9" nodeType="withEffect" fill="hold" presetClass="exit" presetID="23" presetSubtype="272">
                                  <p:stCondLst>
                                    <p:cond delay="8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0" dur="15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5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3" nodeType="withEffect" fill="hold" presetClass="exit" presetID="23" presetSubtype="272">
                                  <p:stCondLst>
                                    <p:cond delay="9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4" dur="150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50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7" nodeType="withEffect" fill="hold" presetClass="exit" presetID="23" presetSubtype="272">
                                  <p:stCondLst>
                                    <p:cond delay="9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8" dur="150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50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1" nodeType="withEffect" fill="hold" presetClass="exit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2" dur="15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5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矩形 4"/>
          <p:cNvSpPr/>
          <p:nvPr/>
        </p:nvSpPr>
        <p:spPr>
          <a:xfrm>
            <a:off x="0" y="1851120"/>
            <a:ext cx="9144000" cy="2520720"/>
          </a:xfrm>
          <a:prstGeom prst="rect">
            <a:avLst/>
          </a:prstGeom>
          <a:solidFill>
            <a:srgbClr val="000000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椭圆 18"/>
          <p:cNvSpPr/>
          <p:nvPr/>
        </p:nvSpPr>
        <p:spPr>
          <a:xfrm>
            <a:off x="914400" y="195120"/>
            <a:ext cx="1285920" cy="1285920"/>
          </a:xfrm>
          <a:prstGeom prst="ellips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Box 28"/>
          <p:cNvSpPr/>
          <p:nvPr/>
        </p:nvSpPr>
        <p:spPr>
          <a:xfrm>
            <a:off x="914400" y="407880"/>
            <a:ext cx="128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f7f7f"/>
                </a:solidFill>
                <a:latin typeface="Microsoft Himalaya"/>
              </a:rPr>
              <a:t>LO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" name="Group 5"/>
          <p:cNvGrpSpPr/>
          <p:nvPr/>
        </p:nvGrpSpPr>
        <p:grpSpPr>
          <a:xfrm>
            <a:off x="914400" y="758880"/>
            <a:ext cx="1285920" cy="703800"/>
            <a:chOff x="914400" y="758880"/>
            <a:chExt cx="1285920" cy="703800"/>
          </a:xfrm>
        </p:grpSpPr>
        <p:sp>
          <p:nvSpPr>
            <p:cNvPr id="246" name="TextBox 27"/>
            <p:cNvSpPr/>
            <p:nvPr/>
          </p:nvSpPr>
          <p:spPr>
            <a:xfrm>
              <a:off x="914400" y="758880"/>
              <a:ext cx="12859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Microsoft Himalaya"/>
                </a:rPr>
                <a:t>YOUR TIT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矩形 29"/>
            <p:cNvSpPr/>
            <p:nvPr/>
          </p:nvSpPr>
          <p:spPr>
            <a:xfrm>
              <a:off x="1185120" y="974160"/>
              <a:ext cx="744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icrosoft Himalaya"/>
                </a:rPr>
                <a:t>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48" name="Picture 2" descr=""/>
          <p:cNvPicPr/>
          <p:nvPr/>
        </p:nvPicPr>
        <p:blipFill>
          <a:blip r:embed="rId1"/>
          <a:srcRect l="532" t="6381" r="210" b="48203"/>
          <a:stretch/>
        </p:blipFill>
        <p:spPr>
          <a:xfrm>
            <a:off x="0" y="1851120"/>
            <a:ext cx="9144000" cy="252072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2" descr=""/>
          <p:cNvPicPr/>
          <p:nvPr/>
        </p:nvPicPr>
        <p:blipFill>
          <a:blip r:embed="rId2"/>
          <a:srcRect l="0" t="16155" r="-9" b="49388"/>
          <a:stretch/>
        </p:blipFill>
        <p:spPr>
          <a:xfrm>
            <a:off x="0" y="1851120"/>
            <a:ext cx="9144000" cy="2520720"/>
          </a:xfrm>
          <a:prstGeom prst="rect">
            <a:avLst/>
          </a:prstGeom>
          <a:ln w="0">
            <a:noFill/>
          </a:ln>
        </p:spPr>
      </p:pic>
      <p:grpSp>
        <p:nvGrpSpPr>
          <p:cNvPr id="250" name="Group 10"/>
          <p:cNvGrpSpPr/>
          <p:nvPr/>
        </p:nvGrpSpPr>
        <p:grpSpPr>
          <a:xfrm>
            <a:off x="3660840" y="949320"/>
            <a:ext cx="4897440" cy="947160"/>
            <a:chOff x="3660840" y="949320"/>
            <a:chExt cx="4897440" cy="947160"/>
          </a:xfrm>
        </p:grpSpPr>
        <p:sp>
          <p:nvSpPr>
            <p:cNvPr id="251" name="TextBox 20">
              <a:hlinkClick r:id="rId3" action="ppaction://hlinksldjump"/>
            </p:cNvPr>
            <p:cNvSpPr/>
            <p:nvPr/>
          </p:nvSpPr>
          <p:spPr>
            <a:xfrm>
              <a:off x="3660840" y="949320"/>
              <a:ext cx="982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bfbfbf"/>
                  </a:solidFill>
                  <a:latin typeface="Microsoft Himalaya"/>
                </a:rPr>
                <a:t>Text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TextBox 25">
              <a:hlinkClick r:id="rId4" action="ppaction://hlinksldjump"/>
            </p:cNvPr>
            <p:cNvSpPr/>
            <p:nvPr/>
          </p:nvSpPr>
          <p:spPr>
            <a:xfrm>
              <a:off x="4639680" y="949320"/>
              <a:ext cx="982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bfbfbf"/>
                  </a:solidFill>
                  <a:latin typeface="Microsoft Himalaya"/>
                </a:rPr>
                <a:t>Text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TextBox 31">
              <a:hlinkClick r:id="rId5" action="ppaction://hlinksldjump"/>
            </p:cNvPr>
            <p:cNvSpPr/>
            <p:nvPr/>
          </p:nvSpPr>
          <p:spPr>
            <a:xfrm>
              <a:off x="5618520" y="949320"/>
              <a:ext cx="982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bfbfbf"/>
                  </a:solidFill>
                  <a:latin typeface="Microsoft Himalaya"/>
                </a:rPr>
                <a:t>Text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TextBox 32">
              <a:hlinkClick r:id="rId6" action="ppaction://hlinksldjump"/>
            </p:cNvPr>
            <p:cNvSpPr/>
            <p:nvPr/>
          </p:nvSpPr>
          <p:spPr>
            <a:xfrm>
              <a:off x="6597360" y="949320"/>
              <a:ext cx="982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bfbfbf"/>
                  </a:solidFill>
                  <a:latin typeface="Microsoft Himalaya"/>
                </a:rPr>
                <a:t>Text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TextBox 33">
              <a:hlinkClick r:id="rId7" action="ppaction://hlinksldjump"/>
            </p:cNvPr>
            <p:cNvSpPr/>
            <p:nvPr/>
          </p:nvSpPr>
          <p:spPr>
            <a:xfrm>
              <a:off x="7576200" y="949320"/>
              <a:ext cx="982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Microsoft Himalaya"/>
                </a:rPr>
                <a:t>Text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6" name="直接连接符 34"/>
          <p:cNvSpPr/>
          <p:nvPr/>
        </p:nvSpPr>
        <p:spPr>
          <a:xfrm>
            <a:off x="7740720" y="1343160"/>
            <a:ext cx="689040" cy="144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</cp:lastModifiedBy>
  <dcterms:modified xsi:type="dcterms:W3CDTF">2014-05-29T00:58:25Z</dcterms:modified>
  <cp:revision>1</cp:revision>
  <dc:subject/>
  <dc:title>PowerPoint 演示文稿</dc:title>
</cp:coreProperties>
</file>