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304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25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46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304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25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46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7440" y="360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304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25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46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304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25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46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7440" y="360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04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04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8" descr="3-2_04"/>
          <p:cNvPicPr/>
          <p:nvPr/>
        </p:nvPicPr>
        <p:blipFill>
          <a:blip r:embed="rId2"/>
          <a:stretch/>
        </p:blipFill>
        <p:spPr>
          <a:xfrm>
            <a:off x="0" y="531504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57" descr="3-2_01"/>
          <p:cNvPicPr/>
          <p:nvPr/>
        </p:nvPicPr>
        <p:blipFill>
          <a:blip r:embed="rId3"/>
          <a:stretch/>
        </p:blipFill>
        <p:spPr>
          <a:xfrm>
            <a:off x="0" y="0"/>
            <a:ext cx="1073160" cy="34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9"/>
          <p:cNvSpPr/>
          <p:nvPr/>
        </p:nvSpPr>
        <p:spPr>
          <a:xfrm>
            <a:off x="7605000" y="59007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304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www.wondersh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1320" y="4964760"/>
            <a:ext cx="642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111111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3"/>
          <p:cNvSpPr/>
          <p:nvPr/>
        </p:nvSpPr>
        <p:spPr>
          <a:xfrm>
            <a:off x="177840" y="6365880"/>
            <a:ext cx="194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360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1206000"/>
            <a:ext cx="8058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Gulim"/>
              </a:rPr>
              <a:t>Competitors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Strength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Verdana"/>
                <a:ea typeface="Gulim"/>
              </a:rPr>
              <a:t>Your strengths relative to competitor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Weaknesse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Verdana"/>
                <a:ea typeface="Gulim"/>
              </a:rPr>
              <a:t>Your weaknesses relative to competito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6:32:51Z</dcterms:created>
  <dc:creator>keke</dc:creator>
  <dc:description/>
  <dc:language>en-US</dc:language>
  <cp:lastModifiedBy>a</cp:lastModifiedBy>
  <dcterms:modified xsi:type="dcterms:W3CDTF">2014-12-31T03:36:21Z</dcterms:modified>
  <cp:revision>3</cp:revision>
  <dc:subject/>
  <dc:title>站长站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