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gif" ContentType="image/gif"/>
  <Override PartName="/ppt/media/image1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97D-9F68-40DE-99BF-E89DF4F1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0E2-2B9A-4950-821F-38C82F73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5AB-2754-402F-AACE-3D731EAE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9CE-07E0-408B-B5FB-64443E69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6AD5-F617-48F7-9339-D4F64DF9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F538-20CC-4708-874B-3F4FD5AC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BE9A-571F-484C-9692-20703F2B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1FFF-3A70-4BBF-BC1C-F06E8FDE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C4DF-1ACC-4A26-9CDD-FF7B8400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6D47-079E-4D11-B4C9-FDE29EA3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4B16-1297-491A-9769-A7E4DFD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A9E-161B-48E8-BC40-8A0825E7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354C-1257-4E76-B90F-DF6A2B63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72A4-2284-4FE2-886E-63243FE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06DA-619A-4D13-A9D8-C7ABA549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49B7-E53C-491C-BC25-642FC211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381E-8D4F-4064-B878-CA9D6A7C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DEA-1F58-4753-8800-FBC2C07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652-A352-4433-9641-4ABF15A7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73F-BDA2-441F-98F8-E207D54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5E2-EDD4-46D4-868D-A6A25BCB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B27-EE0F-4802-8E51-190FFEF8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E0B-8EF4-4076-A1F0-948C91F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08D-5072-4918-85D0-0CD8A01F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90D5-1592-4C1C-99DC-97331EABC44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4281-AB7F-4071-B83A-7B82A56832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oup 810" descr=""/>
          <p:cNvPicPr/>
          <p:nvPr/>
        </p:nvPicPr>
        <p:blipFill>
          <a:blip r:embed="rId2"/>
          <a:stretch/>
        </p:blipFill>
        <p:spPr>
          <a:xfrm>
            <a:off x="-452520" y="-6372360"/>
            <a:ext cx="9969480" cy="5743800"/>
          </a:xfrm>
          <a:prstGeom prst="rect">
            <a:avLst/>
          </a:prstGeom>
          <a:ln w="0">
            <a:noFill/>
          </a:ln>
        </p:spPr>
      </p:pic>
      <p:pic>
        <p:nvPicPr>
          <p:cNvPr id="83" name="Group 810" descr=""/>
          <p:cNvPicPr/>
          <p:nvPr/>
        </p:nvPicPr>
        <p:blipFill>
          <a:blip r:embed="rId3"/>
          <a:stretch/>
        </p:blipFill>
        <p:spPr>
          <a:xfrm>
            <a:off x="-325440" y="-6245280"/>
            <a:ext cx="996948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未命名_副本    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未命名_副本a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未命名_副本  j"/>
          <p:cNvPicPr/>
          <p:nvPr/>
        </p:nvPicPr>
        <p:blipFill>
          <a:blip r:embed="rId5"/>
          <a:stretch/>
        </p:blipFill>
        <p:spPr>
          <a:xfrm>
            <a:off x="-3909960" y="262080"/>
            <a:ext cx="544824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未命名_副本q"/>
          <p:cNvPicPr/>
          <p:nvPr/>
        </p:nvPicPr>
        <p:blipFill>
          <a:blip r:embed="rId6"/>
          <a:stretch/>
        </p:blipFill>
        <p:spPr>
          <a:xfrm>
            <a:off x="-4351320" y="2292480"/>
            <a:ext cx="5889600" cy="3930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未命名_副本s"/>
          <p:cNvPicPr/>
          <p:nvPr/>
        </p:nvPicPr>
        <p:blipFill>
          <a:blip r:embed="rId7"/>
          <a:stretch/>
        </p:blipFill>
        <p:spPr>
          <a:xfrm>
            <a:off x="7885080" y="-380880"/>
            <a:ext cx="5921280" cy="394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未命名_副本b"/>
          <p:cNvPicPr/>
          <p:nvPr/>
        </p:nvPicPr>
        <p:blipFill>
          <a:blip r:embed="rId8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未命名_副本  "/>
          <p:cNvPicPr/>
          <p:nvPr/>
        </p:nvPicPr>
        <p:blipFill>
          <a:blip r:embed="rId3"/>
          <a:stretch/>
        </p:blipFill>
        <p:spPr>
          <a:xfrm>
            <a:off x="-1182600" y="3141720"/>
            <a:ext cx="5895720" cy="39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未命名_副本o"/>
          <p:cNvPicPr/>
          <p:nvPr/>
        </p:nvPicPr>
        <p:blipFill>
          <a:blip r:embed="rId4"/>
          <a:stretch/>
        </p:blipFill>
        <p:spPr>
          <a:xfrm>
            <a:off x="2052720" y="-93600"/>
            <a:ext cx="4859280" cy="3235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未命名_副本l"/>
          <p:cNvPicPr/>
          <p:nvPr/>
        </p:nvPicPr>
        <p:blipFill>
          <a:blip r:embed="rId3"/>
          <a:stretch/>
        </p:blipFill>
        <p:spPr>
          <a:xfrm>
            <a:off x="254160" y="-166680"/>
            <a:ext cx="4572000" cy="304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未命名_副本qo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未命名_副本f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未命名_副本oi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未命名_副本人、"/>
          <p:cNvPicPr/>
          <p:nvPr/>
        </p:nvPicPr>
        <p:blipFill>
          <a:blip r:embed="rId5"/>
          <a:stretch/>
        </p:blipFill>
        <p:spPr>
          <a:xfrm>
            <a:off x="4826160" y="-2830680"/>
            <a:ext cx="4105080" cy="273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未命名_副本d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未命名_副本b"/>
          <p:cNvPicPr/>
          <p:nvPr/>
        </p:nvPicPr>
        <p:blipFill>
          <a:blip r:embed="rId4"/>
          <a:stretch/>
        </p:blipFill>
        <p:spPr>
          <a:xfrm>
            <a:off x="4178160" y="-22320"/>
            <a:ext cx="4572000" cy="3043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oup 810" descr=""/>
          <p:cNvPicPr/>
          <p:nvPr/>
        </p:nvPicPr>
        <p:blipFill>
          <a:blip r:embed="rId2"/>
          <a:stretch/>
        </p:blipFill>
        <p:spPr>
          <a:xfrm>
            <a:off x="-452520" y="-6372360"/>
            <a:ext cx="9969480" cy="5743800"/>
          </a:xfrm>
          <a:prstGeom prst="rect">
            <a:avLst/>
          </a:prstGeom>
          <a:ln w="0">
            <a:noFill/>
          </a:ln>
        </p:spPr>
      </p:pic>
      <p:pic>
        <p:nvPicPr>
          <p:cNvPr id="105" name="Group 810" descr=""/>
          <p:cNvPicPr/>
          <p:nvPr/>
        </p:nvPicPr>
        <p:blipFill>
          <a:blip r:embed="rId3"/>
          <a:stretch/>
        </p:blipFill>
        <p:spPr>
          <a:xfrm>
            <a:off x="-325440" y="-6245280"/>
            <a:ext cx="996948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1T04:00:16Z</dcterms:created>
  <dc:creator>sg</dc:creator>
  <dc:description/>
  <dc:language>en-US</dc:language>
  <cp:lastModifiedBy>a</cp:lastModifiedBy>
  <dcterms:modified xsi:type="dcterms:W3CDTF">2014-12-31T04:00:3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