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9F5-5DAA-45D8-A248-7A683F2D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718F-CB1D-456E-82FD-9448ECBA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CD5-4E7D-41F2-BC01-783FE049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418-789B-4416-968D-D08CE326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6EF8-31C2-4D7D-821A-3F53985B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D717-E59C-4948-8D14-A731F77F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425D-2398-4300-8C2F-6571032F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901C-B0E3-4D30-AC23-E95249B2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1704-9513-4F79-A28E-B0944A82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1222-EE13-4548-8C7D-37826392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AE75-554B-4A74-BFB3-0D4E3A54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41C-B6E4-404F-BC77-35331594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4240-5987-4A99-BC7D-B227AE35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60D0-71BF-4478-A1D1-93B06D9C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8FAB-1A4C-447A-95CA-7AEE4B22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F948-253C-4FEE-811A-907DF8DA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5D97-BAC6-4BE4-9046-6513FF00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820-ED1A-43AC-842F-B85F7996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58E-9032-4941-B3F4-53CDF403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7DE-5617-4022-9007-655FDA07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2A8-88B9-460F-8EC3-ED9919B1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84B-A83A-479A-9454-BBEBC7CB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6EA-8BD7-4294-B364-C2253A45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A6B-100C-47EF-95CE-7FCCDA81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2626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14B4-2D28-4A3C-8AE3-B9C206EB1B73}" type="datetime">
              <a:rPr b="0" lang="zh-CN" sz="1100" spc="-1" strike="noStrike">
                <a:solidFill>
                  <a:srgbClr val="626262"/>
                </a:solidFill>
                <a:latin typeface="Arial"/>
              </a:rPr>
              <a:t>26/7/31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2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100" spc="-1" strike="noStrike">
                <a:solidFill>
                  <a:srgbClr val="62626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941A-7CA0-4972-897B-551ADB3C9983}" type="slidenum">
              <a:rPr b="1" lang="zh-CN" sz="1100" spc="-1" strike="noStrike">
                <a:solidFill>
                  <a:srgbClr val="626262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2F2D-8D72-490A-89C6-AC17F146BA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0ABF-F3CE-4E80-A327-02D4EBCC92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Franklin Gothic Medium"/>
              </a:rPr>
              <a:t>淡雅扇子</a:t>
            </a:r>
            <a:r>
              <a:rPr b="0" lang="zh-CN" sz="4400" spc="-1" strike="noStrike">
                <a:solidFill>
                  <a:srgbClr val="ffffff"/>
                </a:solidFill>
                <a:latin typeface="Franklin Gothic Medium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Franklin Gothic Medium"/>
              </a:rPr>
              <a:t>演示模板下载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6560" y="1555560"/>
            <a:ext cx="8229600" cy="115236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5:10:00Z</dcterms:created>
  <dc:creator>dell</dc:creator>
  <dc:description/>
  <dc:language>en-US</dc:language>
  <cp:lastModifiedBy>a</cp:lastModifiedBy>
  <dcterms:modified xsi:type="dcterms:W3CDTF">2014-12-15T17:54:16Z</dcterms:modified>
  <cp:revision>36</cp:revision>
  <dc:subject/>
  <dc:title>无 界 团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