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EA0-5CEB-47D6-9664-9FEE5D2D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479-D5EE-427F-AEF5-8904DD33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29F4A-EFD7-4CB9-A12D-FC470E42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2635B-376F-49BC-80F4-298244E8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2A3E9-5DB6-4A61-8C17-CAAF9D2B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6C154-CAA7-49FC-B6B9-DD78258E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D5D60-4DEF-4215-94FD-52EE3E48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71CC7-4507-4131-B977-C2D3ABC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5BFD2-0C6F-43AE-ACBA-35034D1C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EC454-6A63-4758-BAB6-33D76EE9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8D1C7-F7E4-480C-BCA2-0516DA3E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CEBAD-30BB-493A-AEE4-17DAF602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229-7DB7-4466-BC12-FB24B69C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5AFE4-AE79-459C-A276-ADF7C213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9D62B-6B17-4DFB-ABE1-345A2014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71FF0-3857-4FC9-BC7B-F7650C63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BE097-8EFF-4079-9638-B50E0A80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5DC5B-A5D0-4DE2-AEC0-FD02653C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758D3-6D17-41AB-9C4E-1AF5432F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846EF-ABCD-4E09-A96D-64484B23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33A44-6919-4A83-9395-A2D73CBF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0D1F8-208C-4414-805C-48B5E575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05959-F24E-4934-BDCD-EA46D00D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F38-4630-4FD1-AA48-2006D09C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648D4-2E11-47B9-B777-862A6C1F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0C512-1CCD-4222-9E37-A127B0E9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C3A2B-4F08-4F3E-9BCA-8C580373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6BEB0-AE15-4AC5-B2B4-CECF04AE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CEBC5-87B5-411E-AF6D-F7F4F6DA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68D7D-3FF5-4CFE-BA7F-27D282D9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85BFB-C29D-4405-A49C-845D5B46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EB10D-5A8B-418B-953F-7D1C53AC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2F812-F24B-438A-B62F-D48AA6FA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323FB-1FB3-42F8-9B7F-0F2C2ABF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F0F8-11AA-4400-9F9B-8683C487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90857-2CE6-4D8A-BCEC-325C157D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B3665-0FB5-4580-95BF-4D08172B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2912A-01E0-4659-A94F-08568934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2AD95-A35D-47BC-B929-6B7636C3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CF46A-8C02-4840-9066-50D6C7D2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3B594-CD19-4A90-8248-6587EA84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11AC7-EEA3-4492-90E3-F428FBE6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09555-508B-4AC5-8DA4-DE981AFF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2FF75-01A4-47EE-BA78-AED4D938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235FB-9D7B-471C-BF75-893D28A2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3113-AC6B-4823-B743-5AACBCAB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E4796-D66A-42CB-97C5-1C9DF6D9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92E2B-6093-4431-9BBC-17DDF598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4ECF9-C4C5-4411-BBAF-FDE0F169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F24A7-0D6C-4C5E-AAF4-7DEACA97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5BFE6-429E-43A8-8844-622DEDD6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2E92B-9E15-4745-AB90-2632341E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1F6CA-41E1-488D-B102-269525C8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858EF-042C-43A7-A472-59F58533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62830-1E57-4D34-BCAB-DC4455FF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9B0F2-9270-4E42-9C37-B281E7F6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931D-D8EA-4137-AE40-699DEEEB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EF961-FDE1-45D7-8AD5-52FB0DCB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5D5FC-B9EC-458C-BE26-58BDB877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E491A-2CAF-4084-AA4E-3423EDC3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EC30C8-76F3-4444-A4B1-AE2BFE04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D75C3-A7B0-449D-B3B3-458E71B3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1DE48-3787-49C3-99B7-DE506EA7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78B2A-F029-4DFF-93D0-03B1271C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D6B32D-5135-491C-A27B-3035CFFA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1C32A-9E39-4BCB-BEA4-BF76B66D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833ECB-06F1-467D-90CE-3A14B13A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7212-9709-49D9-AD2E-537A8B5B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E2DE4-799D-4D12-BA40-D2653ACB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03565F-9F30-4023-BA93-C3D11B89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F1E22-C072-40F9-9BD7-15571D68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F1647-DD59-4E9E-9125-2B085785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1AD30-8306-427C-B698-FD103273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B8667E-BB7B-4735-91DB-3A686800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E9185-441C-40DA-B9C6-3F0244AC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87B1F2-0F5D-4C3E-A0D8-650F94F5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041A8-D674-47C8-BF9F-FC0D2A70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071F-E59E-4F18-8070-D3E7528E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8FCD-01A5-4776-B90A-F1C7198B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B90B-B7BD-4044-B951-E9E392B8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7F1-63A7-4C12-9045-01702CE1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7C4E-FFE3-47A5-BF55-E69673CB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269A-18B1-415D-B073-E65F3552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DE34-8401-48BC-9839-0984DD7E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F8E7-19B7-45A9-80AD-F3551BEA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E2B9-9ADD-4F6D-85AA-79EB1EAE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596BE-5387-4495-B0F1-7F004F06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41F7B-7ADE-4F7E-8636-E91F6F76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AE4A4-0BF9-4683-A416-EBD3857F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C5E79-1B31-41C2-AB52-9871EC85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9661-8669-40AF-8356-801B623F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C2D-700E-415E-AD0B-F79BAB74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B18D-D1C3-46D7-AFA2-67D532B2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789AE-6487-447C-9C16-2FDA5632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FB118-66A9-46C2-933C-C03D20C9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ED77D-2FC3-473E-B318-243F7F76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CC032-207F-4076-91F1-FF85780E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8DB9-C6CD-4107-81EC-2083150D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3B6F3-B8D2-4255-8F64-2A03AABC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ACCC2-A283-40DA-9B8D-7FA01257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6A1D4-ACE6-4EA6-A7B6-7C2BFDD4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76A94-2102-4DFC-809C-47413E80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006-729A-4C04-9189-B56CF699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76687-9607-408F-95F7-A1CDBFB2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40A3D-6761-4AFC-822C-4C88B2C5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21641-EE8A-421A-A62D-26CC1186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28104-5456-46F8-AD62-284481FA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9D654-CABA-46F7-A2B9-987E8544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DA625-1678-443D-B6F0-1CD894C6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0AC7A-75BD-4052-99EF-3D2083A3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9A5D4-AEF7-4A7D-9182-F845B6CA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FC697-AAEF-440C-ADC8-13EE5ECF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84C48-3F75-4C99-B8DF-B9B0DA14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227-780A-4B23-8807-F529F75E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2CF7E-1F77-49C1-B7A2-B3DC3F5C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80F7A-D032-4181-84FC-A45CBCBF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101CE-E1E6-4820-927C-2950B9A9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9D692-5630-4E8D-87FB-2925958D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007F4-5E11-4A55-8A31-6884905A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97354-24CB-4189-BE97-AF688EAE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83CAF-8DA9-4B5D-84B7-268C70A4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C2FC8-CA0B-4963-AE57-2AF55AE5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700BE-C97B-4D94-BEEE-B00B6BBC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69E0B-9F46-4E0A-8220-F18DFC1D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569-C38B-4E87-BDFC-701DD0A7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BBD03-E21C-4C79-8D84-ED3C8C4A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3F11E-6F0D-4B63-82B3-A5E321D9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D3C89-F1C1-4BFA-9083-F0A46207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D2A7E-0824-4323-B4C5-CA09B8EC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1D7DA-9683-436B-B041-584D10F7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A4D1F-8D47-4C97-9E41-7CA8B55D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8AFCD-24E8-45FD-AAB0-07D8967C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2927F-B40E-4593-AA90-2AE36F40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E391A-864B-41E8-86BB-1F0F316F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CAD76-692B-4E74-AA85-B7BE1E2C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F96-BD11-4D04-BB8C-573FDCE0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0DED9-E336-4B17-98BC-04551F35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3F842-EFF6-4C1D-992A-426F9C16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4A2D2-10A0-4A95-8076-30FBD6D0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FCD89-645A-472A-85EF-01FE8B50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30C51-5A8C-4A98-BDA0-C6CC3845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12D19-72E6-4D7E-B95E-1AA608DD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28CA0-5183-48BF-B038-D72E31E6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FFBB8-4C4B-4A1D-A7F9-7241A72C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F8CBA-78E9-4FF9-8592-A55FA957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901D1-6B5D-447C-9EB5-1FD44447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10B-20D3-4742-A99C-E2A655B5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5D61A-6A4E-4230-B2D9-E79FED46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AE16F-8AEA-4AAC-B774-BD881508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83F9E-42FA-4E8F-85BB-A7F7F65D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6F70D-593A-4A85-B9B7-3B6C3C66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3417C-84BC-4150-8B27-4F09D48A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C7F85-C332-4B1A-9530-0D9EE8B9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B8030-6872-42BB-B6FC-C7A111EA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DBD29-873C-4159-99CA-E7D258DC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63527-5700-4020-8066-7A74B373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B7B51-F22D-464B-89E3-B4682799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D8C-E56C-41F2-9299-CC275FE7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FB622-47E1-4F31-BF70-C5F754F4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E35D3-308C-483C-BA28-56A30C16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581B3-9746-448E-BD2A-CFDC9DC6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07A3A-8384-4DCB-A882-96E07A5D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2FD37-98AE-472C-99AD-F83F9A75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A644E-53BA-4EAE-93BB-F79CFCB4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64D73-A664-4FB6-BD48-277078D0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ACC1F-0047-4AC6-B7A0-E3EA0DA8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68904-2CE8-4505-AA50-A794B2AB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EC985-1B8A-4444-A2DA-E705A0DB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A468-4DFE-4294-B717-153B0AD48A8A}" type="slidenum">
              <a:rPr b="1" lang="en-US" sz="1000" spc="-1" strike="noStrike">
                <a:solidFill>
                  <a:srgbClr val="ffffff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5F54-956B-4163-B73D-AA3E69BEC27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AD5E-90DB-4036-ABF0-67EF2F38FF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3A0F-BD3A-4D5A-B033-E0254D59D1C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A2D2-BF67-4CE6-964A-10FB1A6AF9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9A05-51EE-4E48-9943-77F1A05ED12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F1E5-DAF6-4FC5-A0AE-7D99CDD78C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BADE-4AC7-4FC5-B5E3-D2547D1A9B5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B265-2D39-4AC9-9467-7748A9BE3DB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9643-43D0-4F37-93E3-C7FB531062C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937E-2A70-4BF4-B04F-ADFC82D568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BC66-DFCD-40DF-B768-E110ECE6E65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C105-2F45-4AA3-B080-C0425A8A79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70AA-684D-47C2-AFC5-FD1B0C6FD406}" type="slidenum">
              <a:rPr b="0" lang="en-US" sz="1000" spc="-1" strike="noStrike">
                <a:solidFill>
                  <a:srgbClr val="ffffff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5939-85A6-45AB-8715-96098614DC3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384E-71EE-4513-9A90-43CD38A961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32A4-CB42-47D9-AC14-4BD2D66B9A4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1E84-8DB4-4B1E-982A-2B11E44D97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3E5D-FDC7-4EB4-A321-FFADEFCC6B9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3E26-768C-4FB7-B06C-DCAA62C8EC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258F-172A-44C9-9580-C0065B3C4D1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F0B4-820C-425E-AE86-972578CDEF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3176-33A8-4F32-A4CA-0CFE8121E41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21C3-A399-4993-B141-781B672E68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4B05-04DB-450A-87D2-DA33B676FF9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E400-BC98-4CF0-89C4-AA0DCD6FDF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0" y="3886200"/>
            <a:ext cx="9144000" cy="1143000"/>
          </a:xfrm>
          <a:prstGeom prst="rect">
            <a:avLst/>
          </a:prstGeom>
          <a:solidFill>
            <a:srgbClr val="b2b2b2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76320" y="3957480"/>
            <a:ext cx="1143000" cy="989280"/>
          </a:xfrm>
          <a:prstGeom prst="hexagon">
            <a:avLst>
              <a:gd name="adj" fmla="val 28885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218960" y="457200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1218960" y="3962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Eurostile"/>
                <a:ea typeface="宋体"/>
              </a:rPr>
              <a:t>蜂巢抽象</a:t>
            </a:r>
            <a:r>
              <a:rPr b="1" lang="en-US" sz="4400" spc="-1" strike="noStrike">
                <a:solidFill>
                  <a:srgbClr val="000000"/>
                </a:solidFill>
                <a:latin typeface="Eurostile"/>
                <a:ea typeface="宋体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Eurostile"/>
                <a:ea typeface="宋体"/>
              </a:rPr>
              <a:t>模板下载</a:t>
            </a:r>
            <a:endParaRPr b="1" lang="en-US" sz="44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urostile"/>
                <a:ea typeface="宋体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18960" y="3962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urostile"/>
                <a:ea typeface="宋体"/>
              </a:rPr>
              <a:t>Transitional Page</a:t>
            </a:r>
            <a:endParaRPr b="1" lang="en-US" sz="44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218960" y="457200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urostile"/>
                <a:ea typeface="宋体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/>
  <dc:description/>
  <dc:language>en-US</dc:language>
  <cp:lastModifiedBy>a</cp:lastModifiedBy>
  <dcterms:modified xsi:type="dcterms:W3CDTF">2014-12-26T02:35:44Z</dcterms:modified>
  <cp:revision>54</cp:revision>
  <dc:subject/>
  <dc:title>Hexigonic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