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72738-A1B3-4075-BACC-87B9618FD1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B3DA1-C480-4F07-9BF8-3F718CE4B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D833-B56E-4BA3-A75E-0D26A22A4B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F6665-8E64-4A43-8FF4-3BE855CA1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603FD-2F3A-4361-9CB3-A859FB6A2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AAA05-DE9F-4D47-886E-C0D49C5C5F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B7F07-8564-4AE6-83D3-A5BBD565F9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4AD99-F19D-4DAC-A881-D934387E8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71B3-9ACD-4F37-AAFA-A338E68C8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B0A1-B78C-42D3-9CED-D7BB536B5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D7FFB-7DE5-4A62-BA34-C84AC6BB5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75AC-58EB-40B1-B301-F2709B9C06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1420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body"/>
          </p:nvPr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1560" indent="-227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98760" indent="-2271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5960" indent="-2271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E99055-D5D1-40DF-AEFC-3138A39988D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CEC73-F060-4369-9232-548797311EA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3640" y="4294080"/>
            <a:ext cx="8713800" cy="216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房地产开发有限公司</a:t>
            </a:r>
            <a:br>
              <a:rPr sz="4400"/>
            </a:b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        ——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  <a:ea typeface="黑体"/>
              </a:rPr>
              <a:t>工作汇报及下周工作安排</a:t>
            </a:r>
            <a:br>
              <a:rPr sz="2400"/>
            </a:br>
            <a:r>
              <a:rPr b="0" lang="zh-CN" sz="4400" spc="-1" strike="noStrike">
                <a:solidFill>
                  <a:srgbClr val="000000"/>
                </a:solidFill>
                <a:latin typeface="Arial"/>
                <a:ea typeface="黑体"/>
              </a:rPr>
              <a:t>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66200" y="-19440"/>
            <a:ext cx="82933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房地产开发有限公司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工作汇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" name=""/>
          <p:cNvGraphicFramePr/>
          <p:nvPr/>
        </p:nvGraphicFramePr>
        <p:xfrm>
          <a:off x="468360" y="1344600"/>
          <a:ext cx="8209080" cy="4903920"/>
        </p:xfrm>
        <a:graphic>
          <a:graphicData uri="http://schemas.openxmlformats.org/drawingml/2006/table">
            <a:tbl>
              <a:tblPr/>
              <a:tblGrid>
                <a:gridCol w="1201680"/>
                <a:gridCol w="1157400"/>
                <a:gridCol w="4346640"/>
                <a:gridCol w="1503360"/>
              </a:tblGrid>
              <a:tr h="519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部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负责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工作概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完成情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92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工程部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59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财务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464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800" spc="-1" strike="noStrike">
                          <a:solidFill>
                            <a:srgbClr val="000000"/>
                          </a:solidFill>
                          <a:latin typeface="Calibri"/>
                          <a:ea typeface="黑体"/>
                        </a:rPr>
                        <a:t>办公室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44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4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66200" y="-19440"/>
            <a:ext cx="829332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黑体"/>
              </a:rPr>
              <a:t>房地产开发有限公司</a:t>
            </a:r>
            <a:br>
              <a:rPr sz="3200"/>
            </a:b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2010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年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17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日工作安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 Box 3"/>
          <p:cNvSpPr/>
          <p:nvPr/>
        </p:nvSpPr>
        <p:spPr>
          <a:xfrm>
            <a:off x="399960" y="1403280"/>
            <a:ext cx="8420040" cy="405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工程部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督促四个施工队清理楼面，为地暖施工创造条件；安排地暖施工队材料及设备进入施工现场，有序组织施工；协助办公室整理各类报建资料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办公室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整理、办理施工许可证所需资料及施工合同备案资料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、落实管道井门制作承包人并签订合同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0" y="214200"/>
            <a:ext cx="91440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Big Disconnect: Youth Brain Drain vs. Real Opportunit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 txBox="1"/>
          <p:nvPr/>
        </p:nvSpPr>
        <p:spPr>
          <a:xfrm>
            <a:off x="571680" y="1571760"/>
            <a:ext cx="7858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 is losing its most employable youth due to the perception &amp; reality that there are not sufficient job opportunities here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Yet, the Bureau of Labor Statistics says: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There will be a shortfall of 10 million workers by 2010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A demographic crunch is coming and will be exacerbated by a talent crunch that threatens to stall the very engines of economic growth”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SI can become a thriving global-hub if it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cuses on reversing the brain-drain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uilds its base of skilled manpower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741240" indent="-2840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everages its strategic mid-country location &amp; unique quality of life environment to grow KBE workers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571400" y="3285720"/>
            <a:ext cx="6357960" cy="1071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r>
              <a:rPr b="0" lang="zh-CN" sz="6600" spc="-1" strike="noStrike">
                <a:solidFill>
                  <a:srgbClr val="ffffff"/>
                </a:solidFill>
                <a:latin typeface="Arial"/>
              </a:rPr>
              <a:t>Thank You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1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202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03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1T05:49:47Z</dcterms:created>
  <dc:creator/>
  <dc:description/>
  <cp:keywords/>
  <dc:language>en-US</dc:language>
  <cp:lastModifiedBy>a</cp:lastModifiedBy>
  <dcterms:modified xsi:type="dcterms:W3CDTF">2014-05-22T01:18:52Z</dcterms:modified>
  <cp:revision>2</cp:revision>
  <dc:subject/>
  <dc:title>房地产开发有限公司                          ——工作汇报及下周工作安排                 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