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80A-2943-4339-95B6-B61865A0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09D-A1A1-40D0-8946-3B9A858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9C2-83C1-48FB-8557-E68F368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C25-A30B-4F24-80F0-A9C89EBB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99D-F939-4740-9509-CCD8FBD2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B9AA-B173-4E95-8E4A-5C399784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024-2F6B-4FBF-9B26-27886628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3796-4619-42C4-ADBC-9D91A6BD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CC75-03A1-4970-B1A0-20233A72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9D4-A3EB-4F16-A9D2-1F06D3E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7DD0-F0C0-47AF-8DB3-880DC9BE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1B4-4902-436C-ABB4-558D246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3C5-A2A7-48D1-BFDA-CA8EBC46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4462-A9E9-4292-9DB4-60D971E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8B78-7DEB-4461-84AD-7A60AB5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D8C-E3BB-4BDA-9926-61AF172E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4437-89C9-471A-BA89-696839AE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2F0-97F3-4253-973F-D17AACC9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74B-8D10-416D-9D90-BD686F9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697-6275-4859-B7BB-5C6F5DF1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B69-CFB0-4995-8D79-C7B0852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981-39D1-491E-A099-AAB9113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B70-32B6-49B4-8C34-C3715D9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E18-3135-4A32-867F-815F5CC6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C53-E573-4112-9C2F-504A4A4C2038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6360" y="6708600"/>
            <a:ext cx="90972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849-0EA6-4619-BD9F-8CBC3CA98A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5960-6433-4EF2-8471-7DF6F02AD1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cc0066"/>
                </a:solidFill>
                <a:latin typeface="Arial"/>
              </a:rPr>
              <a:t>粉底星星</a:t>
            </a:r>
            <a:r>
              <a:rPr b="0" lang="es-ES" sz="4000" spc="-1" strike="noStrike">
                <a:solidFill>
                  <a:srgbClr val="cc0066"/>
                </a:solidFill>
                <a:latin typeface="Arial"/>
                <a:ea typeface="宋体"/>
              </a:rPr>
              <a:t>PPT</a:t>
            </a:r>
            <a:r>
              <a:rPr b="0" lang="es-UY" sz="4000" spc="-1" strike="noStrike">
                <a:solidFill>
                  <a:srgbClr val="cc0066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15T17:55:57Z</dcterms:modified>
  <cp:revision>71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