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560" y="494136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父亲节温馨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演示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30200" y="602280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占位符 8" descr=""/>
          <p:cNvPicPr/>
          <p:nvPr/>
        </p:nvPicPr>
        <p:blipFill>
          <a:blip r:embed="rId2"/>
          <a:stretch/>
        </p:blipFill>
        <p:spPr>
          <a:xfrm>
            <a:off x="3333600" y="1914480"/>
            <a:ext cx="2524320" cy="2097000"/>
          </a:xfrm>
          <a:prstGeom prst="rect">
            <a:avLst/>
          </a:prstGeom>
          <a:ln w="0">
            <a:noFill/>
          </a:ln>
        </p:spPr>
      </p:pic>
      <p:pic>
        <p:nvPicPr>
          <p:cNvPr id="41" name="图片占位符 9" descr=""/>
          <p:cNvPicPr/>
          <p:nvPr/>
        </p:nvPicPr>
        <p:blipFill>
          <a:blip r:embed="rId3"/>
          <a:stretch/>
        </p:blipFill>
        <p:spPr>
          <a:xfrm>
            <a:off x="6059520" y="1914480"/>
            <a:ext cx="2523960" cy="2097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占位符 7" descr=""/>
          <p:cNvPicPr/>
          <p:nvPr/>
        </p:nvPicPr>
        <p:blipFill>
          <a:blip r:embed="rId4"/>
          <a:stretch/>
        </p:blipFill>
        <p:spPr>
          <a:xfrm>
            <a:off x="560520" y="1914480"/>
            <a:ext cx="2523960" cy="2097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71320" y="4357800"/>
            <a:ext cx="8001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remember years ago when i was just a bo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ry evening I would fall asleep to the sound of my father's vo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he said to me ,"this would take you safely through the night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 drift away to my father's lullaby  Lay your body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4143240" y="142920"/>
            <a:ext cx="464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  <a:ea typeface="Calibri"/>
              </a:rPr>
              <a:t>Father's 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占位符 3" descr=""/>
          <p:cNvPicPr/>
          <p:nvPr/>
        </p:nvPicPr>
        <p:blipFill>
          <a:blip r:embed="rId2"/>
          <a:stretch/>
        </p:blipFill>
        <p:spPr>
          <a:xfrm>
            <a:off x="357120" y="1785960"/>
            <a:ext cx="3214800" cy="4357800"/>
          </a:xfrm>
          <a:prstGeom prst="rect">
            <a:avLst/>
          </a:prstGeom>
          <a:ln w="9360">
            <a:solidFill>
              <a:srgbClr val="c4bd97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3857760" y="1785600"/>
            <a:ext cx="50004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remember years ago when i was just a bo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ry evening I would fall asleep to the sound of my father's vo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he said to me ,"this would take you safely through the night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 drift away to my father's lullaby  Lay your body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remember years ago when i was just a bo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ry evening I would fall asleep to the sound of my father's vo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he said to me ,"this would take you safely through the night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4143240" y="142920"/>
            <a:ext cx="464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  <a:ea typeface="Calibri"/>
              </a:rPr>
              <a:t>Father's 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占位符 6" descr=""/>
          <p:cNvPicPr/>
          <p:nvPr/>
        </p:nvPicPr>
        <p:blipFill>
          <a:blip r:embed="rId2"/>
          <a:stretch/>
        </p:blipFill>
        <p:spPr>
          <a:xfrm>
            <a:off x="487440" y="1847880"/>
            <a:ext cx="1890720" cy="1816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占位符 8" descr=""/>
          <p:cNvPicPr/>
          <p:nvPr/>
        </p:nvPicPr>
        <p:blipFill>
          <a:blip r:embed="rId3"/>
          <a:stretch/>
        </p:blipFill>
        <p:spPr>
          <a:xfrm>
            <a:off x="487440" y="3986280"/>
            <a:ext cx="1890720" cy="1817640"/>
          </a:xfrm>
          <a:prstGeom prst="rect">
            <a:avLst/>
          </a:prstGeom>
          <a:ln w="0">
            <a:noFill/>
          </a:ln>
        </p:spPr>
      </p:pic>
      <p:pic>
        <p:nvPicPr>
          <p:cNvPr id="50" name="图片占位符 7" descr=""/>
          <p:cNvPicPr/>
          <p:nvPr/>
        </p:nvPicPr>
        <p:blipFill>
          <a:blip r:embed="rId4"/>
          <a:stretch/>
        </p:blipFill>
        <p:spPr>
          <a:xfrm>
            <a:off x="2633760" y="1847880"/>
            <a:ext cx="1882800" cy="1816200"/>
          </a:xfrm>
          <a:prstGeom prst="rect">
            <a:avLst/>
          </a:prstGeom>
          <a:ln w="0">
            <a:noFill/>
          </a:ln>
        </p:spPr>
      </p:pic>
      <p:pic>
        <p:nvPicPr>
          <p:cNvPr id="51" name="图片占位符 9" descr=""/>
          <p:cNvPicPr/>
          <p:nvPr/>
        </p:nvPicPr>
        <p:blipFill>
          <a:blip r:embed="rId5"/>
          <a:stretch/>
        </p:blipFill>
        <p:spPr>
          <a:xfrm>
            <a:off x="2700360" y="3986280"/>
            <a:ext cx="1890720" cy="1817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928760" y="1928520"/>
            <a:ext cx="37861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remember years ago when i was just a bo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ry evening I would fall asleep to the sound of my father's vo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he said to me ,"this would take you safely through the night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 drift away to my father's lullaby  Lay your body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10"/>
          <p:cNvSpPr/>
          <p:nvPr/>
        </p:nvSpPr>
        <p:spPr>
          <a:xfrm>
            <a:off x="4143240" y="142920"/>
            <a:ext cx="464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  <a:ea typeface="Calibri"/>
              </a:rPr>
              <a:t>Father's 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5143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8000" spc="-1" strike="noStrike">
              <a:solidFill>
                <a:srgbClr val="97480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07:16:50Z</dcterms:created>
  <dc:creator>kangxl</dc:creator>
  <dc:description/>
  <dc:language>en-US</dc:language>
  <cp:lastModifiedBy>a</cp:lastModifiedBy>
  <dcterms:modified xsi:type="dcterms:W3CDTF">2014-12-31T03:27:59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