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E94C-0D8D-48D7-A0BE-E8499111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2704-DBDC-4B0F-93C4-43160187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AD5-518D-4463-AE04-FDAF74F4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2B0E-CCF1-4222-B668-8205A0D4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879F-04CB-4237-B175-5C55EBB3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DD41-45B6-4B5A-B61E-95238EF2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307A-1312-4D2C-AB62-8CCADF1F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9133-E3DB-4447-A67F-C802C648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086E-2C2E-4ED1-A778-4019D84C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6656-A67B-4198-9196-A4320280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D34D-6A9E-4EDD-AE8B-82EEAF28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627E-C26D-4A12-BD2D-E7498E70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A605-1521-4B85-8FAF-0D83C96C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FF9F-713B-43D2-B215-39EE5840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9259-2D48-4746-8328-6E1EE681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9E3F-ADAE-4FBE-BD4F-6905A1FB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D691-3D32-4E49-8151-49EA269C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0E973-08AE-4825-8946-6841D791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3C6A7-B97D-4ADF-B8FB-58C1FEB0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84483-ED52-41B2-AE95-6FF6517E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484A6-496D-4ACE-8E80-53637AC3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78DB0-411D-4D56-B198-FBC0485A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3917-B69B-437B-ABDB-308CE3EF6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C9304-80C5-40F0-8045-51529B27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2A950-F1D4-42A9-947E-3FBB0EA7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A0A78-1B1E-46C3-BFEE-C5488EFC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83AFC-C26A-4546-ACAD-E5AC3F16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B9253-5A77-4252-97A9-7D27A275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9788C-03B7-4DD9-81CC-3A978527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7B070-F27F-4AAB-BEDF-094EE2B4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7C0A-90AE-41EC-8FD9-A8D9CE3A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C93-322D-4DB3-A93E-86418B88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CDB-AE66-436F-8F37-CFFCAD95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D03F-0BA6-4378-8AE0-9661FBD8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E8E-73A5-4BEF-B1A6-654CAD1F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19A-4976-4D91-AE9A-20B79163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937A-8CFB-465C-A4D9-2D075FF5DE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0268-82E4-4B77-94B9-D83DB832382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4BAF-41C8-4524-A4E6-1977CD3B480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517A-7CC6-495F-A48B-9A8486ACDE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761760"/>
            <a:ext cx="701028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  <a:ea typeface="宋体"/>
              </a:rPr>
              <a:t>Happy Thanksgiving</a:t>
            </a:r>
            <a:endParaRPr b="1" i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4" name="Picture 7" descr="thanksgiving_basket_harvest_food_sway_hg_clr"/>
          <p:cNvPicPr/>
          <p:nvPr/>
        </p:nvPicPr>
        <p:blipFill>
          <a:blip r:embed="rId2"/>
          <a:stretch/>
        </p:blipFill>
        <p:spPr>
          <a:xfrm>
            <a:off x="7391520" y="5451480"/>
            <a:ext cx="19047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thanksgiving_basket_harvest_food_sway_hg_clr"/>
          <p:cNvPicPr/>
          <p:nvPr/>
        </p:nvPicPr>
        <p:blipFill>
          <a:blip r:embed="rId2"/>
          <a:stretch/>
        </p:blipFill>
        <p:spPr>
          <a:xfrm>
            <a:off x="7086600" y="4900680"/>
            <a:ext cx="21337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7c80"/>
              </a:solidFill>
              <a:latin typeface="Times New Roman"/>
              <a:ea typeface="宋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0" name="Picture 6" descr="thanksgiving_turkey_head_looking_hg_clr"/>
          <p:cNvPicPr/>
          <p:nvPr/>
        </p:nvPicPr>
        <p:blipFill>
          <a:blip r:embed="rId2"/>
          <a:stretch/>
        </p:blipFill>
        <p:spPr>
          <a:xfrm>
            <a:off x="7696080" y="152280"/>
            <a:ext cx="14479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2:41:34Z</dcterms:created>
  <dc:creator>eclipse</dc:creator>
  <dc:description/>
  <cp:keywords/>
  <dc:language>en-US</dc:language>
  <cp:lastModifiedBy>a</cp:lastModifiedBy>
  <dcterms:modified xsi:type="dcterms:W3CDTF">2014-05-26T00:58:19Z</dcterms:modified>
  <cp:revision>8</cp:revision>
  <dc:subject/>
  <dc:title>Thankful Turke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