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BDC-D9E0-40B1-905C-54CE7AAD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C6C-AB7D-462D-B22C-6F854451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94B08-FA15-4D72-B3EB-18F240A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37E39-B591-4698-841F-F4C10F7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EC624-2814-49FD-9DB7-97E33BA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1942C-6A4C-49E5-B42F-9C33E55B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8427C-DBC2-401F-973A-1C9E763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BC47-6BD7-47EA-9AD8-4293967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66912-2213-40E7-AD51-CFE3D5CE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A3ADB-CE65-4979-8DAD-F82A7F38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00AAC-AFD9-4B47-82BF-AAD3BDA9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E9523-B4D2-4544-8DAD-539A6EC8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2F8-8C6E-482E-8CA2-F131CA19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93B24-E332-4569-84E0-04A4F9F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6A2B6-55B1-44F0-8EA2-3CDEB794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D6086-B0C3-4D16-A405-F9511E12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1B8B-9B24-4CF9-99BB-3F68F6C9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708D8-2AF5-47E9-B1BD-31AFC979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1F4E-664E-45A5-B7E3-2A42DB9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159F-C71D-438D-AE37-499C8DA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91D22-8E1C-4247-9267-6E4C01C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B0AC4-F52F-4F75-80F3-A8A748E2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D8E3D-370B-4C8E-95AD-8B9266F6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151-0372-4913-A3DE-12E6AF54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B715B-9E38-45E7-969E-E5E2CE15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76E62-51FC-4408-B42B-B05B8291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2BA7-C5BD-4E4E-9A6F-B47B806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CA9D-D540-4E8E-80BF-A3C2D35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692B5-00EE-481F-9CD1-4EBF8452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70BA-BFF5-4CE4-AF2E-CF27955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56BE1-D7A6-49B4-BD03-69643CA4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61AE-C9A0-4512-890F-6F68543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B82E2-B14C-4896-B078-EAEF83E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54AE4-54AD-4C71-A125-461A2B52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16CD-9206-4363-B165-EE153775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9617B-2EE9-49BD-B2F8-A818BB5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87DA7-97C8-46CA-A276-65E32A8E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F5A5-4791-424E-B3EF-D6EB5676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CBD14-49A6-4532-B3A4-AF1C00A5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2C1C2-92BE-4864-9A05-F9D6C46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A2B0F-0F54-4484-8EE1-B99B292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0C83F-BEC7-4FE6-A6D4-943AB9C4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120FA-39A9-4FD2-89FA-065EBE1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E6B4A-7520-42BB-8FA3-06C70F45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4CEA7-6BC4-480A-A3E6-43375C4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2A0-9BAD-45F3-891A-01F9017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FA35D-9179-4818-A4FA-36DDD5E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F865-8705-4CA2-BC3E-4D02B7B7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9F31B-8CED-47DC-8554-D9D2EA5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CCFCA-FE85-4CF4-8B7D-0B073D51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62C6D-0713-47C7-A81E-A921F9AB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93626-BFA6-4816-B0AA-F4F54F22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C17DD-F56F-44C7-8FBA-958307E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3C085-5F34-41AF-AFDF-D39E041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2A9D5-5C44-4EA5-B101-6D2619B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8E2C8-11A8-4E5F-A5DC-21FCF30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27E6-1D6C-4B94-BD05-DD2F6797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D58DF-294E-41C8-9FC3-63DB90AC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59456-AD73-4EDA-BAC8-D0E3C4D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77E4A-7F76-473E-9493-77E39DD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D4AB4-E6E6-4F20-8917-0974C70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027D2-469D-4E9D-9050-9FE3CB0C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49F83-E88A-4D85-B013-4DFA3543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69B7F-D120-4533-BD15-D13A1121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6D7A1-250F-4395-9431-ECA6F25D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7CAE4-E7A5-45B4-B5CA-ABE6D7D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B120C-6554-433F-A8BD-A968D7C3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403-D36E-4534-9C69-415DD36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2CA21-016C-4DB4-83C6-4D5F57D7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2F5DA-61D2-4418-9264-4CEA9C29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36C40-226D-430F-9D1A-2F8B1CF3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85562-5F23-429A-A4C9-4396596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27DA5-1054-49B5-942A-17CAF2B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65647-F4BF-47B6-A334-117B361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E64D7-A99A-4D90-BB70-E6B2848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32BC7-40C8-4DCF-990E-C7DEF2F6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257F9-6A5F-42B3-92F5-CEE4F3A1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02EF0-ABC9-4836-8070-83E1B1F3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87F8-9182-4C0F-8BBF-AB2941C4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8B6A7-7302-435D-BF64-E26FC87D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2C4C1-3522-4302-BF10-EE072CF7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A54A6-0726-4EDA-8269-51DC576E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3FE21-97DA-484A-8ED9-F2C188CB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EC429-3AE3-48F2-BE27-C646CB68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021D5-08CB-4A43-A9E7-358FC4C0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D05F6-A88A-4CB5-B87B-A2853B6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3141E-C2D8-4BF4-AA9B-AB32D5E9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CB9F3-1AD2-4966-B0B6-F56EE860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16590-6FEA-44DD-8F4C-271DD80F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9280-69E2-4722-9D96-460BC38F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18832-4E4B-4F4D-ABED-859C3B85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94C7C-D720-40A9-BE52-ECFE9B8D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09BCB-DFAC-48EE-A5F2-3E23A61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DEB5E-8F39-418C-98E1-2D7D333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55120-5B25-495A-8F67-70229D8C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82144-6C06-4C77-A75E-AAFF688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8BD3A-12AD-48D8-B80F-ED30834F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917C9-3C31-4618-AEDE-647EC22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FA8EE-5A45-478A-A829-E70A883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D77E0-77E9-4595-AA45-9DECAD87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5934-AB0A-4D25-8C9A-4B88C49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F5103-16E1-4D29-90A4-65CF121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9F97E-606F-4A3B-A7CE-A53455CA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17F6A-53AB-45D1-A9F3-7D1BE9CB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1EAD7-EABE-4E7B-8225-C51337D8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D4316-5F72-4DCA-AE8C-4B788856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EED85-6D1C-4E5C-A18D-F01B745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2DAB0-39A1-406D-8F35-5B506D1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EBBB3-640E-4ACB-9E48-F2DAB9F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3A1FC-A38B-4775-BDD3-75C7E923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6188B-6381-4978-A621-6AE36CE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CC7-8DF7-4B4C-AF7D-7156BAC5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9929-C102-44F3-B16D-561ACF9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B888C-F126-4265-80D7-A22A3D7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5FBE9-D7C1-418D-8253-B40C3F1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BD625-943B-4740-9351-A68128DC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15DD04-F8E2-4CC5-BE02-E1BC7630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C96D1-48CD-4AC5-97F5-B234894A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68BB5-0ED7-4886-B133-9D1D9656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5DCB2-122E-4270-AB24-2FC4819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2353C-BCAF-4224-88BE-6838A8BF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5EBF3-FADB-4E20-BFC5-2F38623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8C300-97A4-4ED6-89FD-FF2A2A53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C519-47F1-416B-9537-58699C6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C8E90-F261-475C-A140-916D9E86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AC708-658B-4EDA-87B7-8B4C574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35E3D-7F07-437C-B642-6D94176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82858-B7DA-4A7E-9869-BE738AB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59EBB-225C-4B8A-ABB7-DB227D1F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6308D-B0AF-4677-B986-F54859F3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BFA92-8CC3-404E-87DD-B351D609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C73D4-20BC-4FF5-96C0-2A14819D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04573-20E3-478A-AEE3-E6AA5FEF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F42B2-A41E-4C2B-A896-98570922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53E0-C649-4541-860E-AD6A79B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0E000-6F1B-42D5-8D4E-854671F2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A051F-1C36-4BAF-894A-16F4660B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88D2D-8354-4799-A3CA-259FD173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01E54-1E66-4CB6-BCB0-7E9FF1C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4B7A0-501F-4BCA-A102-F682132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5835D-932D-4F4A-BF84-29A3227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0B588-98EE-44F4-AE04-D145383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D7328-7019-49F6-884B-829BF860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BA161-13F2-4619-973A-D43F5A89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6CBD8-6980-4B50-8557-381A911D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BA81-6A7A-4560-8A01-14F5724C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CFBE1-E166-4382-B677-48744DE8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4F037-FB57-40A1-A6E0-76B2A50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40338-3A89-4BB0-950B-F9FE4780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2A63A-57D1-4A87-88A6-AC17F605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F3B33-CD4B-4422-8882-AFE5538C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420E1-AEA9-45C4-A0AE-186845C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544AD-2F00-4515-A8DD-F8CC476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8DD58-847A-4607-912F-C959D0F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03F31-564D-4BCB-A9F1-ACA22CCF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2E2EC-DB16-4A4B-978E-290B6669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C6DD-7F0D-46DF-82F0-04CB31B9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4BCB5-9A64-42A8-A8C7-CA0394DF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7F5E-2017-481A-8BA7-CEBA699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138C-8FD8-4C3F-9CC4-6CEF0EF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AF38-EE5A-4767-8085-0D5B5817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0763-7CAE-4DCC-857F-4A4C5DED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8BA4-7E08-4AC3-B59B-D7A3ED7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666-C191-4D54-8854-94B9E75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3E95-EF7A-4876-A113-3EAB30D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D3EB-C582-4732-8D49-5A35332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92DE-A674-4308-94DE-CAED2BF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4B1F-90C4-4385-AAB5-8D64F504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3C0B-5B0B-4D55-9FB0-8561FB29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B6FC-CDD3-4B71-A22A-396FC3DA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C100-0651-4B52-B398-1C6A453C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3949-D477-41AB-8538-F062F1FB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DABF-B0E9-4B41-93CD-866855A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CF2C-3E1F-4CF9-A28B-92160E3A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61F-56A8-4AF2-B172-9B4C6B22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19BA-73A6-4074-9E2D-3E714C2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FE0F-62B2-4379-B486-914E6EF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2646-7950-47BB-BDB6-7F35E7AC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BD26-89BA-4E97-BEB7-B69A1EA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9F12-0864-4F44-9B29-328ECFA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F2AD-F8C3-452A-BE55-16E9EA4F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2BD2-4004-4179-A1AB-805A7198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0004-33DB-40C6-BC21-17D6A9EE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EE5B-B8B0-41F2-9E84-95E333B6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96436-AA1C-4553-A127-B8C64D56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B6A-352D-44E0-B9AF-7030B21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DD72-93C8-4DCD-A730-C0445B11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74C3-4E33-45D7-85B0-22B92ABD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BF19-F25E-4393-B0B4-B7E9CB0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9C7D-B26F-4E47-9D06-911F098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9BFC-FEEA-479D-B92A-6BA663E1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EB85-4CA0-4498-B32A-2A8DC3C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1B63-E59D-4E96-A836-ED9242E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42B9-02B9-427D-8B21-FEF1AC0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FEEF-979F-4AF3-894D-259A42AD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AC0D-4D6A-46A3-9BE6-3DD0EFDB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3CF-344B-4B88-9652-FBD438D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DC73-739D-4F9B-A4AA-A2BFA4BF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77DC7-0646-4444-93C4-46D32EF5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EFCD-935D-4901-B180-0005F768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051E-1F4F-4C6A-9D35-692E13EB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61DD-FB0F-4C03-9810-AA4F417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8396F-532D-4596-BED1-EDA9BDD6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89A1-32A3-4D2C-B5A3-9EF8051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5CDFE-8EFA-46A8-B56C-EEFEFCA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039E9-2281-4EE3-B04E-8B78421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A5893-1643-4AA1-9785-9D5C1EE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677-BFF0-46B6-974D-D4587083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AB8B-EBB3-4EA6-B80F-0BE30F9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65FD-534C-453A-95F6-B61C492F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CA6A-B57D-4F9E-ABA5-A2F789CF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F5D5D-70F6-45CB-A623-524F4DFD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4EE02-31FA-4363-88E5-F7F20167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F8A1-63A9-443F-9A4B-5E5D47E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635C-0EE7-49FB-8153-930B498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0FB0-41BD-498C-8FAD-0EBA6684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46CA-2ADF-415D-BA1B-91D45D2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8FF0-B1B8-43C4-B8BC-02B77FA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6B8-5D09-46D9-A72D-19B68A4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08C6-E8E3-4BEF-8A46-4405D17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E75F4-0DCF-4390-9108-06D0136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E5B6-3119-4F3B-9997-B1AF183B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8FC8-7D99-433B-97C2-603023EF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2CCF3-F72E-40C9-801A-B6F5D26A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61CA9-0D54-4C17-9BAD-DE29A8A2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FF7E-7285-4163-BC21-7802D305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FCBCB-3219-4465-9459-4E7667B2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94889-E0FA-4D46-BC7B-A055FC65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EC9A9-C222-4CAC-808C-5D4115CC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83D-2D01-4D92-91D5-D2BCC43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EA8E-84C4-46BB-97D3-C85E622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7E092-8744-4F54-847F-DB1FE7C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05EAE-91BF-4AF5-B137-3541CB5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754F7-D925-48CB-B281-98CDFF1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FB4D6-427B-44D5-A790-A388A403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A24B-E663-4A15-A308-BFAA3057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CADC5-5E88-48FF-8161-1668991D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71E31-86E4-4B19-A091-9F0BCA2D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A4323-9032-456E-B745-E58F6EA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04B9D-27A2-471A-AF4F-95F13500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5372-5470-4C8A-AFB2-8E46E22317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81BA-63A0-4C99-AF63-F2A8CBDA60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898-B437-4B1B-B94F-D55CE2E34C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850A-BE5A-47A9-AC98-6C1A962228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5CFC-7FFD-44C3-8E60-2C88E3D045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404-ADD2-4D77-8698-E7E15B6D9C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378A-784B-4BFF-A86F-FBFF8A27D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53FF-C1D2-459C-A56C-26B4A8173D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399E-3D4E-4872-8209-EF3F24CBAE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DAF-0DD4-4492-986C-E3195ECCCE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661C-0FDF-46FE-8927-E756339E33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636-2DAA-4588-837E-437895EFD8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0E5-CA31-4C9D-A774-876B74762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2868-BBA3-421E-8DB8-952198B642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CA1B-6560-49AE-9BE9-F0D1929D7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FE2B-F7FD-49CB-8134-325F2AAB1E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601-B7C5-4730-AE11-D7352A523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A2E9-0F37-4D93-9B72-043EBC32BC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EDC1-BCA4-4749-A5BD-7D57EEA249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99C-6010-454E-8AF0-8219E31040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B7E-D3A4-4E89-9A92-E599CBFB78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44276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F65-429C-4D30-85BF-C18E9B1A07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83A-32AA-467D-81F3-262293A264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7C2-4BA0-4954-8E44-75D39893B4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1116000" y="0"/>
            <a:ext cx="8028000" cy="980640"/>
            <a:chOff x="1116000" y="0"/>
            <a:chExt cx="8028000" cy="980640"/>
          </a:xfrm>
        </p:grpSpPr>
        <p:pic>
          <p:nvPicPr>
            <p:cNvPr id="86" name="矩形 7" descr=""/>
            <p:cNvPicPr/>
            <p:nvPr/>
          </p:nvPicPr>
          <p:blipFill>
            <a:blip r:embed="rId4"/>
            <a:stretch/>
          </p:blipFill>
          <p:spPr>
            <a:xfrm>
              <a:off x="111600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5"/>
            <p:cNvSpPr/>
            <p:nvPr/>
          </p:nvSpPr>
          <p:spPr>
            <a:xfrm>
              <a:off x="111600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7EC0-8A62-46F2-AD52-AED1A8ED1F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6"/>
          <p:cNvSpPr/>
          <p:nvPr/>
        </p:nvSpPr>
        <p:spPr>
          <a:xfrm>
            <a:off x="0" y="44276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3C9-AC5B-4507-938F-A4EC235209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1116000" y="0"/>
            <a:ext cx="8028000" cy="980640"/>
            <a:chOff x="1116000" y="0"/>
            <a:chExt cx="8028000" cy="980640"/>
          </a:xfrm>
        </p:grpSpPr>
        <p:pic>
          <p:nvPicPr>
            <p:cNvPr id="175" name="矩形 7" descr=""/>
            <p:cNvPicPr/>
            <p:nvPr/>
          </p:nvPicPr>
          <p:blipFill>
            <a:blip r:embed="rId4"/>
            <a:stretch/>
          </p:blipFill>
          <p:spPr>
            <a:xfrm>
              <a:off x="111600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111600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2B2E-F9CA-4920-9AF4-430F101EBE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3"/>
          <p:cNvGrpSpPr/>
          <p:nvPr/>
        </p:nvGrpSpPr>
        <p:grpSpPr>
          <a:xfrm>
            <a:off x="1116000" y="0"/>
            <a:ext cx="8028000" cy="980640"/>
            <a:chOff x="1116000" y="0"/>
            <a:chExt cx="8028000" cy="980640"/>
          </a:xfrm>
        </p:grpSpPr>
        <p:pic>
          <p:nvPicPr>
            <p:cNvPr id="221" name="矩形 7" descr=""/>
            <p:cNvPicPr/>
            <p:nvPr/>
          </p:nvPicPr>
          <p:blipFill>
            <a:blip r:embed="rId4"/>
            <a:stretch/>
          </p:blipFill>
          <p:spPr>
            <a:xfrm>
              <a:off x="111600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5"/>
            <p:cNvSpPr/>
            <p:nvPr/>
          </p:nvSpPr>
          <p:spPr>
            <a:xfrm>
              <a:off x="111600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9FE7-1D0C-4282-89AE-F838BC5A44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3"/>
          <p:cNvGrpSpPr/>
          <p:nvPr/>
        </p:nvGrpSpPr>
        <p:grpSpPr>
          <a:xfrm>
            <a:off x="1116000" y="0"/>
            <a:ext cx="8028000" cy="980640"/>
            <a:chOff x="1116000" y="0"/>
            <a:chExt cx="8028000" cy="980640"/>
          </a:xfrm>
        </p:grpSpPr>
        <p:pic>
          <p:nvPicPr>
            <p:cNvPr id="267" name="矩形 7" descr=""/>
            <p:cNvPicPr/>
            <p:nvPr/>
          </p:nvPicPr>
          <p:blipFill>
            <a:blip r:embed="rId4"/>
            <a:stretch/>
          </p:blipFill>
          <p:spPr>
            <a:xfrm>
              <a:off x="111600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5"/>
            <p:cNvSpPr/>
            <p:nvPr/>
          </p:nvSpPr>
          <p:spPr>
            <a:xfrm>
              <a:off x="111600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533A-3CAC-4D67-A8E0-A6C2A02CE7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Users\Administrator\Desktop\Guangzhou.jpg"/>
          <p:cNvPicPr/>
          <p:nvPr/>
        </p:nvPicPr>
        <p:blipFill>
          <a:blip r:embed="rId3"/>
          <a:stretch/>
        </p:blipFill>
        <p:spPr>
          <a:xfrm>
            <a:off x="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3"/>
          <p:cNvGrpSpPr/>
          <p:nvPr/>
        </p:nvGrpSpPr>
        <p:grpSpPr>
          <a:xfrm>
            <a:off x="1116000" y="0"/>
            <a:ext cx="8028000" cy="980640"/>
            <a:chOff x="1116000" y="0"/>
            <a:chExt cx="8028000" cy="980640"/>
          </a:xfrm>
        </p:grpSpPr>
        <p:pic>
          <p:nvPicPr>
            <p:cNvPr id="313" name="矩形 7" descr=""/>
            <p:cNvPicPr/>
            <p:nvPr/>
          </p:nvPicPr>
          <p:blipFill>
            <a:blip r:embed="rId4"/>
            <a:stretch/>
          </p:blipFill>
          <p:spPr>
            <a:xfrm>
              <a:off x="111600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5"/>
            <p:cNvSpPr/>
            <p:nvPr/>
          </p:nvSpPr>
          <p:spPr>
            <a:xfrm>
              <a:off x="111600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928-B333-472A-BD3C-0F8DD35DB3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2387-F931-4BAA-934F-BE335BE80E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C565-21D6-4FDE-879D-1E5B46F94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关爱动物熊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演示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21:37Z</dcterms:created>
  <dc:creator/>
  <dc:description/>
  <dc:language>en-US</dc:language>
  <cp:lastModifiedBy>a</cp:lastModifiedBy>
  <dcterms:modified xsi:type="dcterms:W3CDTF">2014-12-21T03:40:1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