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5852-4B23-43DF-A277-C929D0FD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EE5-F554-4199-B97F-AE6F9A96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14A-14C0-430A-B535-85273D54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05BC-BC6F-4993-981A-208E62D3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526-6C91-4ECF-91EC-A4EDF36F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B0A7-8FE4-46FE-81F7-8B03B59A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3C8-1177-42F7-9CFD-5D94642A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0791-E0A6-43FF-AB7E-13F5D4A2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8DDA-13B9-4148-92EC-97B3EF86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E14-1319-4F30-AB9A-828C14BC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34B-5C54-4F76-8763-36068780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DDA-72A0-4BB7-9984-3BCE9C17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93c7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93c7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2B83-3B34-49D3-918B-8699A448E19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C993-9109-4098-BFE2-BCE928E3417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276360"/>
            <a:ext cx="7010280" cy="763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Microsoft Sans Serif"/>
              </a:rPr>
              <a:t>告别单身情人节</a:t>
            </a:r>
            <a:r>
              <a:rPr b="0" lang="zh-CN" sz="4200" spc="-1" strike="noStrike">
                <a:solidFill>
                  <a:srgbClr val="ffffff"/>
                </a:solidFill>
                <a:latin typeface="Microsoft Sans Serif"/>
              </a:rPr>
              <a:t>ppt</a:t>
            </a:r>
            <a:r>
              <a:rPr b="0" lang="zh-CN" sz="4200" spc="-1" strike="noStrike">
                <a:solidFill>
                  <a:srgbClr val="ffffff"/>
                </a:solidFill>
                <a:latin typeface="Microsoft Sans Serif"/>
              </a:rPr>
              <a:t>模板</a:t>
            </a:r>
            <a:endParaRPr b="0" lang="en-US" sz="42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28600" y="3962160"/>
            <a:ext cx="4648320" cy="685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905120"/>
            <a:ext cx="7086600" cy="792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4793c7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793c7"/>
              </a:solidFill>
              <a:latin typeface="Microsoft Sans Serif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3124080"/>
            <a:ext cx="6705360" cy="32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d4d4d"/>
              </a:solidFill>
              <a:latin typeface="Microsoft Sans Serif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81080" y="88992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793c7"/>
              </a:solidFill>
              <a:latin typeface="Microsoft Sans Serif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81080" y="21333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Verdana"/>
                <a:ea typeface="宋体"/>
              </a:rPr>
              <a:t>单击此处添加副标题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774440"/>
            <a:ext cx="8209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5:06:43Z</dcterms:created>
  <dc:creator>SmileTemplates.com</dc:creator>
  <dc:description/>
  <dc:language>en-US</dc:language>
  <cp:lastModifiedBy>a</cp:lastModifiedBy>
  <dcterms:modified xsi:type="dcterms:W3CDTF">2014-12-21T05:44:37Z</dcterms:modified>
  <cp:revision>108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